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654F-334B-4FB1-93E7-DB171B225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181-23CF-4814-8D04-72DE9F88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17DE-E03F-4820-98FA-D13AAE1C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5E7F-F120-4D80-965F-342ED887E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C7CB-D85B-46B1-B05C-DD76FD37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E75CD-3D88-4298-86CA-9BCC77D3E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AFFBC-5469-45C9-9592-C63B502E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965C-1C44-4D5D-893B-9F3DABEC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8CD6-91AB-4946-AAC0-F60B5A5F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7753-DFFB-4F62-BAF9-C29F0752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38A52-E3C8-4DB8-A3B1-84235DA4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C4B-14DE-4965-929D-709294429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9EE0-3978-407A-8CD6-273D310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AF83-5ECD-43AC-AC48-D7CF21F8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E4FA-089E-4CF9-9E07-02B83DB6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63D8-5232-475D-99A5-2D3622081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49989-83E4-4205-9EBD-726B9318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1F19-93C7-47F2-8888-029A43F4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9AD-E715-427B-815B-C326D132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A3EB-9551-4D08-B168-5CC293E7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06F4-2F55-4E54-A886-7E328C4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4E4-576E-4DE5-B3E5-DE1B20C3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2E5D-DE90-43E3-BDD8-85B81B01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DF41-33BF-40DA-AE44-4BDE7ED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A35C-6A17-4D3A-AD29-30B3061AA7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AE6C-9F53-4A88-B23C-78DBDCFE4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01"/>
          <p:cNvPicPr/>
          <p:nvPr/>
        </p:nvPicPr>
        <p:blipFill>
          <a:blip r:embed="rId1"/>
          <a:stretch/>
        </p:blipFill>
        <p:spPr>
          <a:xfrm>
            <a:off x="-3636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c115.com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5734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43920" y="37180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广告公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292720" y="59421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华文仿宋"/>
              </a:rPr>
              <a:t>点击分主题进入分主题页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123"/>
          <p:cNvPicPr/>
          <p:nvPr/>
        </p:nvPicPr>
        <p:blipFill>
          <a:blip r:embed="rId1"/>
          <a:stretch/>
        </p:blipFill>
        <p:spPr>
          <a:xfrm>
            <a:off x="755640" y="549360"/>
            <a:ext cx="7772400" cy="5133960"/>
          </a:xfrm>
          <a:prstGeom prst="rect">
            <a:avLst/>
          </a:prstGeom>
          <a:ln w="0">
            <a:noFill/>
          </a:ln>
        </p:spPr>
      </p:pic>
      <p:sp>
        <p:nvSpPr>
          <p:cNvPr id="8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44720" y="494172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54173-F58D-4AC6-8BB2-4BC65D9C5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07:37:56Z</dcterms:created>
  <dc:creator/>
  <dc:description/>
  <cp:keywords>幻灯片之家 http:/www.eeppt.com</cp:keywords>
  <dc:language>en-US</dc:language>
  <cp:lastModifiedBy/>
  <dcterms:modified xsi:type="dcterms:W3CDTF">2015-07-06T11:54:35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