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A38-5E17-4B7D-9264-622E6B04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4B0-6AE1-4FEC-9592-9A447E14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385-AB16-4946-B83B-6CD0303F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412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412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481-671E-4176-9C6A-E96A01A2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06A-8E20-4706-939F-2BBC243D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3908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412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3908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412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63E-7B42-4BB1-96FB-DF758843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D0D-7BD5-4DED-8219-F1C3D1C7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F24-D7C0-47ED-9E53-9C8954C9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968-A7B0-470E-9E78-F3D6F842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412-FFB1-4DE5-82DB-59BA3830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035-5AE3-4AEF-B4D3-0CB50281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B01-0FD8-4CD3-8FAE-7C572058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EF93-9EBD-4FB4-A789-680A492A23B6}" type="slidenum"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0" y="837720"/>
            <a:ext cx="9144000" cy="7632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国外创意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  <a:ea typeface="宋体"/>
              </a:rPr>
              <a:t>模板下载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1092240" y="2095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25360" y="210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167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2125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36720" y="1787400"/>
            <a:ext cx="642960" cy="642960"/>
            <a:chOff x="1836720" y="1787400"/>
            <a:chExt cx="642960" cy="642960"/>
          </a:xfrm>
        </p:grpSpPr>
        <p:sp>
          <p:nvSpPr>
            <p:cNvPr id="316" name=""/>
            <p:cNvSpPr/>
            <p:nvPr/>
          </p:nvSpPr>
          <p:spPr>
            <a:xfrm>
              <a:off x="1836720" y="178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43200" y="179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51120" y="179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57600" y="180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91440" y="181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7676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6856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16520" y="209556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50000" y="210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416736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212580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561000" y="1787400"/>
            <a:ext cx="642960" cy="642960"/>
            <a:chOff x="6561000" y="1787400"/>
            <a:chExt cx="642960" cy="642960"/>
          </a:xfrm>
        </p:grpSpPr>
        <p:sp>
          <p:nvSpPr>
            <p:cNvPr id="328" name=""/>
            <p:cNvSpPr/>
            <p:nvPr/>
          </p:nvSpPr>
          <p:spPr>
            <a:xfrm>
              <a:off x="6561000" y="178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67480" y="179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75400" y="179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81880" y="180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15720" y="181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70104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9284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54560" y="2095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87680" y="210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4167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05320" y="2125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99040" y="178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05160" y="1792440"/>
            <a:ext cx="622440" cy="6220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13080" y="1795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19560" y="180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54480" y="181764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3908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3052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Progress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33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86c05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6c05a"/>
              </a:gs>
              <a:gs pos="100000">
                <a:srgbClr val="3d582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627120" y="1752480"/>
          <a:ext cx="7734240" cy="3505320"/>
        </p:xfrm>
        <a:graphic>
          <a:graphicData uri="http://schemas.openxmlformats.org/drawingml/2006/table">
            <a:tbl>
              <a:tblPr/>
              <a:tblGrid>
                <a:gridCol w="1041480"/>
                <a:gridCol w="2019240"/>
                <a:gridCol w="374760"/>
                <a:gridCol w="2043000"/>
                <a:gridCol w="357120"/>
                <a:gridCol w="189864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 w="5760">
                      <a:solidFill>
                        <a:srgbClr val="99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62440" y="2202120"/>
            <a:ext cx="1704600" cy="1836000"/>
            <a:chOff x="3862440" y="2202120"/>
            <a:chExt cx="1704600" cy="1836000"/>
          </a:xfrm>
        </p:grpSpPr>
        <p:sp>
          <p:nvSpPr>
            <p:cNvPr id="359" name=""/>
            <p:cNvSpPr/>
            <p:nvPr/>
          </p:nvSpPr>
          <p:spPr>
            <a:xfrm rot="18394200">
              <a:off x="5038200" y="2414880"/>
              <a:ext cx="59616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3862440" y="2448720"/>
              <a:ext cx="1609560" cy="1589400"/>
              <a:chOff x="3862440" y="2448720"/>
              <a:chExt cx="1609560" cy="1589400"/>
            </a:xfrm>
          </p:grpSpPr>
          <p:sp>
            <p:nvSpPr>
              <p:cNvPr id="361" name=""/>
              <p:cNvSpPr/>
              <p:nvPr/>
            </p:nvSpPr>
            <p:spPr>
              <a:xfrm>
                <a:off x="3862440" y="2448720"/>
                <a:ext cx="1609560" cy="15894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46400" y="2475000"/>
                <a:ext cx="1241640" cy="599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3949200" y="31402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272200" y="1519200"/>
            <a:ext cx="891720" cy="861840"/>
            <a:chOff x="5272200" y="1519200"/>
            <a:chExt cx="891720" cy="861840"/>
          </a:xfrm>
        </p:grpSpPr>
        <p:grpSp>
          <p:nvGrpSpPr>
            <p:cNvPr id="365" name=""/>
            <p:cNvGrpSpPr/>
            <p:nvPr/>
          </p:nvGrpSpPr>
          <p:grpSpPr>
            <a:xfrm>
              <a:off x="5272200" y="1519200"/>
              <a:ext cx="871560" cy="861840"/>
              <a:chOff x="5272200" y="1519200"/>
              <a:chExt cx="871560" cy="861840"/>
            </a:xfrm>
          </p:grpSpPr>
          <p:sp>
            <p:nvSpPr>
              <p:cNvPr id="366" name=""/>
              <p:cNvSpPr/>
              <p:nvPr/>
            </p:nvSpPr>
            <p:spPr>
              <a:xfrm>
                <a:off x="527220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7156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370" name="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371" name="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154224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375" name="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376" name="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194840" y="1325880"/>
            <a:ext cx="6879600" cy="4804560"/>
            <a:chOff x="1194840" y="1325880"/>
            <a:chExt cx="6879600" cy="4804560"/>
          </a:xfrm>
        </p:grpSpPr>
        <p:sp>
          <p:nvSpPr>
            <p:cNvPr id="381" name=""/>
            <p:cNvSpPr/>
            <p:nvPr/>
          </p:nvSpPr>
          <p:spPr>
            <a:xfrm>
              <a:off x="2262240" y="4465440"/>
              <a:ext cx="5562720" cy="1325520"/>
            </a:xfrm>
            <a:prstGeom prst="ellipse">
              <a:avLst/>
            </a:prstGeom>
            <a:solidFill>
              <a:srgbClr val="00013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0601600">
              <a:off x="1536840" y="235224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0601600">
              <a:off x="1593720" y="21902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0601600">
              <a:off x="1508040" y="217620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rot="20602200">
              <a:off x="1486080" y="220716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0601600">
              <a:off x="1517760" y="218736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20602200">
              <a:off x="1500120" y="21949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0601600">
              <a:off x="3054600" y="29048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69880" y="3127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75000" y="221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1160" y="2670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77040" y="320328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539200">
              <a:off x="1512360" y="220572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76760" y="36846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51160" y="3660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98680" y="4422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9356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0601600">
              <a:off x="3156120" y="31575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53160" y="40798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Marketing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402" name="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406" name="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410" name="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414" name="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418" name="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421" name="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2133720" y="33526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81080" y="251460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f87d7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f87d7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21160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1718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8018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ed1e9"/>
              </a:gs>
              <a:gs pos="100000">
                <a:srgbClr val="378fcb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28576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4876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35434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41734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ed1e9"/>
              </a:gs>
              <a:gs pos="100000">
                <a:srgbClr val="378fcb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42292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48592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49150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895480" y="1677960"/>
            <a:ext cx="122400" cy="4030560"/>
            <a:chOff x="2895480" y="1677960"/>
            <a:chExt cx="122400" cy="4030560"/>
          </a:xfrm>
        </p:grpSpPr>
        <p:sp>
          <p:nvSpPr>
            <p:cNvPr id="97" name=""/>
            <p:cNvSpPr/>
            <p:nvPr/>
          </p:nvSpPr>
          <p:spPr>
            <a:xfrm>
              <a:off x="2896920" y="167796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480" y="257976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00160" y="326052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6920" y="394632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6920" y="463068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00160" y="532764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94280" y="1676520"/>
            <a:ext cx="125280" cy="4030560"/>
            <a:chOff x="5894280" y="1676520"/>
            <a:chExt cx="125280" cy="4030560"/>
          </a:xfrm>
        </p:grpSpPr>
        <p:sp>
          <p:nvSpPr>
            <p:cNvPr id="104" name=""/>
            <p:cNvSpPr/>
            <p:nvPr/>
          </p:nvSpPr>
          <p:spPr>
            <a:xfrm>
              <a:off x="5895720" y="167652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94280" y="257832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98960" y="3259080"/>
              <a:ext cx="120600" cy="17640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95720" y="3944880"/>
              <a:ext cx="120960" cy="17640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95720" y="4629240"/>
              <a:ext cx="120960" cy="17640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98960" y="532620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286000" y="5697360"/>
            <a:ext cx="4495680" cy="152640"/>
          </a:xfrm>
          <a:prstGeom prst="rect">
            <a:avLst/>
          </a:prstGeom>
          <a:gradFill rotWithShape="0">
            <a:gsLst>
              <a:gs pos="0">
                <a:srgbClr val="5f87d7">
                  <a:alpha val="0"/>
                </a:srgbClr>
              </a:gs>
              <a:gs pos="50000">
                <a:srgbClr val="2b3e63">
                  <a:alpha val="58039"/>
                </a:srgbClr>
              </a:gs>
              <a:gs pos="100000">
                <a:srgbClr val="5f87d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471840"/>
            <a:ext cx="2057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adcd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7eac9"/>
              </a:gs>
              <a:gs pos="100000">
                <a:srgbClr val="86c0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19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20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a4a7b"/>
                  </a:gs>
                  <a:gs pos="100000">
                    <a:srgbClr val="99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d0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86c05a"/>
                </a:gs>
                <a:gs pos="100000">
                  <a:srgbClr val="3d58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d3e8c4"/>
                </a:gs>
                <a:gs pos="100000">
                  <a:srgbClr val="86c05a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48235"/>
                  </a:srgbClr>
                </a:gs>
                <a:gs pos="100000">
                  <a:srgbClr val="6997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Diagram 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8fe2fe">
                  <a:alpha val="12156"/>
                </a:srgbClr>
              </a:gs>
              <a:gs pos="100000">
                <a:srgbClr val="33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33ccff"/>
              </a:gs>
              <a:gs pos="100000">
                <a:srgbClr val="8fe2fe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3ccff"/>
              </a:gs>
              <a:gs pos="100000">
                <a:srgbClr val="8fe2fe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fe2fe">
                  <a:alpha val="12156"/>
                </a:srgbClr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829"/>
              </a:gs>
              <a:gs pos="50000">
                <a:srgbClr val="86c05a"/>
              </a:gs>
              <a:gs pos="100000">
                <a:srgbClr val="3d58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829"/>
              </a:gs>
              <a:gs pos="50000">
                <a:srgbClr val="86c05a"/>
              </a:gs>
              <a:gs pos="100000">
                <a:srgbClr val="3d58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829"/>
              </a:gs>
              <a:gs pos="50000">
                <a:srgbClr val="86c05a"/>
              </a:gs>
              <a:gs pos="100000">
                <a:srgbClr val="3d58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917800" y="1981080"/>
            <a:ext cx="3156840" cy="2841480"/>
            <a:chOff x="2917800" y="1981080"/>
            <a:chExt cx="3156840" cy="2841480"/>
          </a:xfrm>
        </p:grpSpPr>
        <p:sp>
          <p:nvSpPr>
            <p:cNvPr id="154" name=""/>
            <p:cNvSpPr/>
            <p:nvPr/>
          </p:nvSpPr>
          <p:spPr>
            <a:xfrm flipH="1" rot="16200000">
              <a:off x="2836080" y="30963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e5267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rot="5400000">
              <a:off x="5665320" y="304200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e5267"/>
                </a:gs>
                <a:gs pos="100000">
                  <a:srgbClr val="99c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10800000">
              <a:off x="4250160" y="4495680"/>
              <a:ext cx="4888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e5267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22720" y="1981080"/>
              <a:ext cx="256464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68520" y="2125440"/>
              <a:ext cx="227088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1276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847880"/>
            <a:ext cx="4222800" cy="719280"/>
          </a:xfrm>
          <a:prstGeom prst="rect">
            <a:avLst/>
          </a:prstGeom>
          <a:gradFill rotWithShape="0">
            <a:gsLst>
              <a:gs pos="0">
                <a:srgbClr val="e98931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68760" y="1573200"/>
            <a:ext cx="1098000" cy="1001520"/>
            <a:chOff x="3668760" y="1573200"/>
            <a:chExt cx="1098000" cy="1001520"/>
          </a:xfrm>
        </p:grpSpPr>
        <p:grpSp>
          <p:nvGrpSpPr>
            <p:cNvPr id="201" name=""/>
            <p:cNvGrpSpPr/>
            <p:nvPr/>
          </p:nvGrpSpPr>
          <p:grpSpPr>
            <a:xfrm>
              <a:off x="3668760" y="1573200"/>
              <a:ext cx="1098000" cy="1001520"/>
              <a:chOff x="3668760" y="1573200"/>
              <a:chExt cx="1098000" cy="1001520"/>
            </a:xfrm>
          </p:grpSpPr>
          <p:sp>
            <p:nvSpPr>
              <p:cNvPr id="202" name=""/>
              <p:cNvSpPr/>
              <p:nvPr/>
            </p:nvSpPr>
            <p:spPr>
              <a:xfrm>
                <a:off x="3668760" y="157320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33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94040" y="1589760"/>
                <a:ext cx="847080" cy="3780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4046400" y="1684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57200" y="203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979720"/>
            <a:ext cx="4665600" cy="719280"/>
          </a:xfrm>
          <a:prstGeom prst="rect">
            <a:avLst/>
          </a:prstGeom>
          <a:gradFill rotWithShape="0">
            <a:gsLst>
              <a:gs pos="0">
                <a:srgbClr val="418aeb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316400" y="2727360"/>
            <a:ext cx="1087200" cy="1006200"/>
            <a:chOff x="4316400" y="2727360"/>
            <a:chExt cx="1087200" cy="1006200"/>
          </a:xfrm>
        </p:grpSpPr>
        <p:grpSp>
          <p:nvGrpSpPr>
            <p:cNvPr id="208" name=""/>
            <p:cNvGrpSpPr/>
            <p:nvPr/>
          </p:nvGrpSpPr>
          <p:grpSpPr>
            <a:xfrm>
              <a:off x="4316400" y="2727360"/>
              <a:ext cx="1087200" cy="1006200"/>
              <a:chOff x="4316400" y="2727360"/>
              <a:chExt cx="1087200" cy="1006200"/>
            </a:xfrm>
          </p:grpSpPr>
          <p:sp>
            <p:nvSpPr>
              <p:cNvPr id="209" name=""/>
              <p:cNvSpPr/>
              <p:nvPr/>
            </p:nvSpPr>
            <p:spPr>
              <a:xfrm>
                <a:off x="4316400" y="272736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52d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40600" y="2743920"/>
                <a:ext cx="838800" cy="37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465732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066680" y="31845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091040"/>
            <a:ext cx="5686560" cy="720720"/>
          </a:xfrm>
          <a:prstGeom prst="rect">
            <a:avLst/>
          </a:prstGeom>
          <a:gradFill rotWithShape="0">
            <a:gsLst>
              <a:gs pos="0">
                <a:srgbClr val="9942e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021280" y="3809880"/>
            <a:ext cx="1098000" cy="1012680"/>
            <a:chOff x="5021280" y="3809880"/>
            <a:chExt cx="1098000" cy="1012680"/>
          </a:xfrm>
        </p:grpSpPr>
        <p:grpSp>
          <p:nvGrpSpPr>
            <p:cNvPr id="215" name=""/>
            <p:cNvGrpSpPr/>
            <p:nvPr/>
          </p:nvGrpSpPr>
          <p:grpSpPr>
            <a:xfrm>
              <a:off x="5021280" y="3809880"/>
              <a:ext cx="1098000" cy="1012680"/>
              <a:chOff x="5021280" y="3809880"/>
              <a:chExt cx="1098000" cy="1012680"/>
            </a:xfrm>
          </p:grpSpPr>
          <p:sp>
            <p:nvSpPr>
              <p:cNvPr id="216" name=""/>
              <p:cNvSpPr/>
              <p:nvPr/>
            </p:nvSpPr>
            <p:spPr>
              <a:xfrm>
                <a:off x="5021280" y="3809880"/>
                <a:ext cx="109800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8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46560" y="3826440"/>
                <a:ext cx="847080" cy="381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44140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82880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214960"/>
            <a:ext cx="6392880" cy="719280"/>
          </a:xfrm>
          <a:prstGeom prst="rect">
            <a:avLst/>
          </a:prstGeom>
          <a:gradFill rotWithShape="0">
            <a:gsLst>
              <a:gs pos="0">
                <a:srgbClr val="33ad8a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678640" y="4952880"/>
            <a:ext cx="1103040" cy="1019160"/>
            <a:chOff x="5678640" y="4952880"/>
            <a:chExt cx="1103040" cy="1019160"/>
          </a:xfrm>
        </p:grpSpPr>
        <p:sp>
          <p:nvSpPr>
            <p:cNvPr id="222" name=""/>
            <p:cNvSpPr/>
            <p:nvPr/>
          </p:nvSpPr>
          <p:spPr>
            <a:xfrm>
              <a:off x="5678640" y="4952880"/>
              <a:ext cx="110304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1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04640" y="4969800"/>
              <a:ext cx="851040" cy="384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12864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405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</a:rPr>
              <a:t>Diagram </a:t>
            </a:r>
            <a:r>
              <a:rPr b="0" lang="en-US" sz="2000" spc="-1" strike="noStrike">
                <a:solidFill>
                  <a:srgbClr val="99ccff"/>
                </a:solidFill>
                <a:latin typeface="Verdana"/>
              </a:rPr>
              <a:t>– PowerPoint2002</a:t>
            </a:r>
            <a:endParaRPr b="0" lang="en-US" sz="20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86c05a"/>
              </a:gs>
              <a:gs pos="100000">
                <a:srgbClr val="cae3b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2d2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969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969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05050"/>
              </a:gs>
              <a:gs pos="50000">
                <a:srgbClr val="969696"/>
              </a:gs>
              <a:gs pos="100000">
                <a:srgbClr val="50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969696">
                  <a:alpha val="0"/>
                </a:srgbClr>
              </a:gs>
              <a:gs pos="100000">
                <a:srgbClr val="5e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41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6c05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3d5829"/>
              </a:gs>
              <a:gs pos="100000">
                <a:srgbClr val="86c05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86730"/>
              </a:gs>
              <a:gs pos="50000">
                <a:srgbClr val="86c05a"/>
              </a:gs>
              <a:gs pos="100000">
                <a:srgbClr val="4867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6c05a">
                  <a:alpha val="0"/>
                </a:srgbClr>
              </a:gs>
              <a:gs pos="100000">
                <a:srgbClr val="54793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51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56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275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278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281" name="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284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287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290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64675"/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297" name="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57760" y="300024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75040" y="300960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90880" y="302400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71880" y="306036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586728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外国ppt模板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2:04:19Z</dcterms:created>
  <dc:creator/>
  <dc:description/>
  <cp:keywords>幻灯片之家 http:/www.eeppt.com</cp:keywords>
  <dc:language>en-US</dc:language>
  <cp:lastModifiedBy/>
  <dcterms:modified xsi:type="dcterms:W3CDTF">2015-07-05T03:07:5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