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AD872-BC13-4EFF-A598-8558F8140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320" y="2104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8AA66-F89B-4C26-8316-232A1E78B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9764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6AE02-0013-41F8-B983-06505FD11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248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5864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32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248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5864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B5E6D-3A03-401E-A6EE-AC2F672C0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4B536-9583-4FAC-9162-A35ADBFAD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764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2104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764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6248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5864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6248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85864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83F7-D161-4F68-A2B8-B975A815D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D1A5D-8BA0-484A-85CA-5C0743214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B73A6-8BEB-4694-8226-5DFF1CCF6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9841A-0C5B-4FC3-BB24-406DCD3B1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85283-C064-4517-939C-6573FB26C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9764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00B6D-54E7-409B-BE96-2DAE7ED10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9510B-2C48-438C-9032-A5B9199E8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04640"/>
            <a:ext cx="914400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2a4f86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352320" y="649872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2a4f86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4057-A875-477B-83C1-5F3DC58DEE9F}" type="slidenum">
              <a:rPr b="1" lang="en-US" sz="1000" spc="-1" strike="noStrike">
                <a:solidFill>
                  <a:srgbClr val="2a4f8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-9360" y="0"/>
            <a:ext cx="188640" cy="6858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04640"/>
            <a:ext cx="184320" cy="72072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14400" y="1128600"/>
            <a:ext cx="184320" cy="72072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-14400" y="1847880"/>
            <a:ext cx="18432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-14400" y="2552760"/>
            <a:ext cx="184320" cy="72072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740720" y="189000"/>
            <a:ext cx="1224000" cy="12650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5257800"/>
            <a:ext cx="8763120" cy="1600200"/>
          </a:xfrm>
          <a:prstGeom prst="rect">
            <a:avLst/>
          </a:prstGeom>
          <a:solidFill>
            <a:srgbClr val="6c89da"/>
          </a:solidFill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8748720" cy="2951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36360" y="5138640"/>
            <a:ext cx="431640" cy="171936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36360" y="4149720"/>
            <a:ext cx="431640" cy="1006560"/>
          </a:xfrm>
          <a:prstGeom prst="rect">
            <a:avLst/>
          </a:prstGeom>
          <a:solidFill>
            <a:srgbClr val="3e6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6360" y="0"/>
            <a:ext cx="431640" cy="234936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36360" y="2349360"/>
            <a:ext cx="431640" cy="86364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4f86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267080" y="5867280"/>
            <a:ext cx="1079640" cy="635760"/>
            <a:chOff x="4267080" y="5867280"/>
            <a:chExt cx="1079640" cy="635760"/>
          </a:xfrm>
        </p:grpSpPr>
        <p:sp>
          <p:nvSpPr>
            <p:cNvPr id="55" name=""/>
            <p:cNvSpPr/>
            <p:nvPr/>
          </p:nvSpPr>
          <p:spPr>
            <a:xfrm>
              <a:off x="4267080" y="60433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4660920" y="557352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-36360" y="3200400"/>
            <a:ext cx="431640" cy="9619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fafe9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a4f8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a4f86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a4f8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a4f8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a4f8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4f86"/>
                </a:solidFill>
                <a:latin typeface="Verdana"/>
              </a:rPr>
              <a:t>国外好看的</a:t>
            </a:r>
            <a:r>
              <a:rPr b="1" lang="zh-CN" sz="4000" spc="-1" strike="noStrike">
                <a:solidFill>
                  <a:srgbClr val="2a4f86"/>
                </a:solidFill>
                <a:latin typeface="Verdana"/>
                <a:ea typeface="宋体"/>
              </a:rPr>
              <a:t>PPT</a:t>
            </a:r>
            <a:r>
              <a:rPr b="1" lang="en-US" sz="4000" spc="-1" strike="noStrike">
                <a:solidFill>
                  <a:srgbClr val="2a4f86"/>
                </a:solidFill>
                <a:latin typeface="Verdana"/>
              </a:rPr>
              <a:t>模板</a:t>
            </a: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a4f86"/>
                </a:solidFill>
                <a:latin typeface="Verdana"/>
              </a:rPr>
              <a:t>幻灯片之家 </a:t>
            </a:r>
            <a:r>
              <a:rPr b="1" lang="zh-CN" sz="1600" spc="-1" strike="noStrike">
                <a:solidFill>
                  <a:srgbClr val="2a4f86"/>
                </a:solidFill>
                <a:latin typeface="Verdana"/>
              </a:rPr>
              <a:t>http://www.eeppt.com</a:t>
            </a:r>
            <a:endParaRPr b="1" lang="en-US" sz="16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7451640" y="1803240"/>
            <a:ext cx="1224000" cy="1265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297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e4b"/>
                </a:gs>
              </a:gsLst>
              <a:lin ang="1980000"/>
            </a:gradFill>
            <a:ln w="93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299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305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e4b"/>
                </a:gs>
              </a:gsLst>
              <a:lin ang="1980000"/>
            </a:gradFill>
            <a:ln w="93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311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65b1aa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fa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1506b"/>
              </a:gs>
              <a:gs pos="50000">
                <a:srgbClr val="8fafe9"/>
              </a:gs>
              <a:gs pos="100000">
                <a:srgbClr val="4150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7ab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4e4b"/>
              </a:gs>
              <a:gs pos="50000">
                <a:srgbClr val="57aba3"/>
              </a:gs>
              <a:gs pos="100000">
                <a:srgbClr val="284e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85819d"/>
              </a:gs>
              <a:gs pos="100000">
                <a:srgbClr val="b7b5c5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338" name=""/>
            <p:cNvSpPr/>
            <p:nvPr/>
          </p:nvSpPr>
          <p:spPr>
            <a:xfrm>
              <a:off x="914400" y="308268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581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13c"/>
                </a:gs>
                <a:gs pos="50000">
                  <a:srgbClr val="85819d"/>
                </a:gs>
                <a:gs pos="100000">
                  <a:srgbClr val="3331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2813760" y="30114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1231200" y="301140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838080" y="238752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a4f86"/>
                      </a:solidFill>
                    </a:lnR>
                    <a:lnT>
                      <a:noFill/>
                    </a:lnT>
                    <a:lnB w="5760">
                      <a:solidFill>
                        <a:srgbClr val="2a4f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>
            <a:off x="1116000" y="537516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7aba3"/>
                </a:solidFill>
                <a:uFillTx/>
                <a:latin typeface="Arial"/>
                <a:hlinkClick r:id="rId1"/>
              </a:rPr>
              <a:t>外国ppt模板</a:t>
            </a:r>
            <a:r>
              <a:rPr b="0" lang="en-US" sz="1800" spc="-1" strike="noStrike">
                <a:solidFill>
                  <a:srgbClr val="2a4f86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512280" y="563400"/>
            <a:ext cx="7379280" cy="5581080"/>
            <a:chOff x="512280" y="563400"/>
            <a:chExt cx="7379280" cy="5581080"/>
          </a:xfrm>
        </p:grpSpPr>
        <p:sp>
          <p:nvSpPr>
            <p:cNvPr id="350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3d9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100000">
                  <a:srgbClr val="b2b7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601600">
              <a:off x="1469520" y="21906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601600">
              <a:off x="1385640" y="21762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93c8c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6c89da"/>
                </a:gs>
                <a:gs pos="100000">
                  <a:srgbClr val="4b5f97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b7dad7"/>
                </a:gs>
                <a:gs pos="100000">
                  <a:srgbClr val="57aba3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20602200">
              <a:off x="1403280" y="2185920"/>
              <a:ext cx="5702040" cy="29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41506b"/>
                </a:gs>
                <a:gs pos="100000">
                  <a:srgbClr val="8fafe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50000">
                  <a:srgbClr val="f3f4f5"/>
                </a:gs>
                <a:gs pos="100000">
                  <a:srgbClr val="d3d9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264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94160" y="417852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7aba3">
                    <a:alpha val="19215"/>
                  </a:srgbClr>
                </a:gs>
                <a:gs pos="100000">
                  <a:srgbClr val="8ec6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85819d"/>
                </a:gs>
                <a:gs pos="100000">
                  <a:srgbClr val="a5a2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20539200">
              <a:off x="930600" y="1467360"/>
              <a:ext cx="654264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4c4a5a"/>
                </a:gs>
                <a:gs pos="100000">
                  <a:srgbClr val="85819d"/>
                </a:gs>
              </a:gsLst>
              <a:lin ang="118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91000" y="3983040"/>
              <a:ext cx="924120" cy="131148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b0aebf"/>
                </a:gs>
                <a:gs pos="100000">
                  <a:srgbClr val="8581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20601600">
              <a:off x="3032280" y="315756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/>
          <p:nvPr/>
        </p:nvSpPr>
        <p:spPr>
          <a:xfrm>
            <a:off x="190512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3d9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76520" y="161928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aba3"/>
              </a:gs>
              <a:gs pos="50000">
                <a:srgbClr val="92c8c3"/>
              </a:gs>
              <a:gs pos="100000">
                <a:srgbClr val="57aba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5616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14400" y="4254480"/>
            <a:ext cx="1579680" cy="2070000"/>
            <a:chOff x="914400" y="4254480"/>
            <a:chExt cx="1579680" cy="2070000"/>
          </a:xfrm>
        </p:grpSpPr>
        <p:grpSp>
          <p:nvGrpSpPr>
            <p:cNvPr id="374" name=""/>
            <p:cNvGrpSpPr/>
            <p:nvPr/>
          </p:nvGrpSpPr>
          <p:grpSpPr>
            <a:xfrm>
              <a:off x="914400" y="4254480"/>
              <a:ext cx="1486080" cy="1514520"/>
              <a:chOff x="914400" y="4254480"/>
              <a:chExt cx="1486080" cy="151452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914400" y="4254480"/>
                <a:ext cx="1486080" cy="1514520"/>
                <a:chOff x="914400" y="4254480"/>
                <a:chExt cx="1486080" cy="15145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914400" y="42544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afe9"/>
                    </a:gs>
                    <a:gs pos="100000">
                      <a:srgbClr val="5a6e9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084320" y="42793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faf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1072440" y="50256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914400" y="588636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819520" y="4254480"/>
            <a:ext cx="1617120" cy="2070000"/>
            <a:chOff x="2819520" y="4254480"/>
            <a:chExt cx="1617120" cy="2070000"/>
          </a:xfrm>
        </p:grpSpPr>
        <p:grpSp>
          <p:nvGrpSpPr>
            <p:cNvPr id="381" name=""/>
            <p:cNvGrpSpPr/>
            <p:nvPr/>
          </p:nvGrpSpPr>
          <p:grpSpPr>
            <a:xfrm>
              <a:off x="2819520" y="4254480"/>
              <a:ext cx="1523520" cy="1521000"/>
              <a:chOff x="2819520" y="4254480"/>
              <a:chExt cx="1523520" cy="1521000"/>
            </a:xfrm>
          </p:grpSpPr>
          <p:sp>
            <p:nvSpPr>
              <p:cNvPr id="382" name=""/>
              <p:cNvSpPr/>
              <p:nvPr/>
            </p:nvSpPr>
            <p:spPr>
              <a:xfrm>
                <a:off x="2819520" y="4254480"/>
                <a:ext cx="1523520" cy="152100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c57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93400" y="42796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7ab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2895480" y="498456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7320" y="588636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876920" y="4210200"/>
            <a:ext cx="1631880" cy="2113920"/>
            <a:chOff x="4876920" y="4210200"/>
            <a:chExt cx="1631880" cy="2113920"/>
          </a:xfrm>
        </p:grpSpPr>
        <p:grpSp>
          <p:nvGrpSpPr>
            <p:cNvPr id="387" name=""/>
            <p:cNvGrpSpPr/>
            <p:nvPr/>
          </p:nvGrpSpPr>
          <p:grpSpPr>
            <a:xfrm>
              <a:off x="4876920" y="4210200"/>
              <a:ext cx="1523880" cy="1520640"/>
              <a:chOff x="4876920" y="4210200"/>
              <a:chExt cx="1523880" cy="1520640"/>
            </a:xfrm>
          </p:grpSpPr>
          <p:sp>
            <p:nvSpPr>
              <p:cNvPr id="388" name=""/>
              <p:cNvSpPr/>
              <p:nvPr/>
            </p:nvSpPr>
            <p:spPr>
              <a:xfrm>
                <a:off x="487692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6c89da"/>
                  </a:gs>
                  <a:gs pos="100000">
                    <a:srgbClr val="3746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051160" y="423540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6c89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495324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2948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781680" y="4210200"/>
            <a:ext cx="1579680" cy="2113920"/>
            <a:chOff x="6781680" y="4210200"/>
            <a:chExt cx="1579680" cy="2113920"/>
          </a:xfrm>
        </p:grpSpPr>
        <p:grpSp>
          <p:nvGrpSpPr>
            <p:cNvPr id="393" name=""/>
            <p:cNvGrpSpPr/>
            <p:nvPr/>
          </p:nvGrpSpPr>
          <p:grpSpPr>
            <a:xfrm>
              <a:off x="6781680" y="4210200"/>
              <a:ext cx="1523880" cy="1531440"/>
              <a:chOff x="6781680" y="4210200"/>
              <a:chExt cx="1523880" cy="153144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6781680" y="4210200"/>
                <a:ext cx="1523880" cy="1531440"/>
                <a:chOff x="6781680" y="4210200"/>
                <a:chExt cx="1523880" cy="15314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6781680" y="4210200"/>
                  <a:ext cx="152388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819d"/>
                    </a:gs>
                    <a:gs pos="100000">
                      <a:srgbClr val="201f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955920" y="4235400"/>
                  <a:ext cx="117540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819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692460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781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050920" y="3141720"/>
            <a:ext cx="568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c89da"/>
                    </a:gs>
                    <a:gs pos="100000">
                      <a:srgbClr val="57aba3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2a4f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c89da"/>
                  </a:gs>
                  <a:gs pos="100000">
                    <a:srgbClr val="57aba3"/>
                  </a:gs>
                </a:gsLst>
                <a:lin ang="10800000"/>
              </a:gradFill>
              <a:effectLst>
                <a:outerShdw dist="53966" dir="2700000" blurRad="0" rotWithShape="0">
                  <a:srgbClr val="2a4f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7a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7aba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57aba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e5c57"/>
              </a:gs>
              <a:gs pos="50000">
                <a:srgbClr val="57aba3"/>
              </a:gs>
              <a:gs pos="100000">
                <a:srgbClr val="2e5c5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7aba3">
                  <a:alpha val="0"/>
                </a:srgbClr>
              </a:gs>
              <a:gs pos="100000">
                <a:srgbClr val="376c6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5819d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85819d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74554"/>
              </a:gs>
              <a:gs pos="50000">
                <a:srgbClr val="85819d"/>
              </a:gs>
              <a:gs pos="100000">
                <a:srgbClr val="4745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85819d">
                  <a:alpha val="0"/>
                </a:srgbClr>
              </a:gs>
              <a:gs pos="100000">
                <a:srgbClr val="54516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115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c89da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13f64"/>
              </a:gs>
              <a:gs pos="100000">
                <a:srgbClr val="6c89da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a4975"/>
              </a:gs>
              <a:gs pos="50000">
                <a:srgbClr val="6c89da"/>
              </a:gs>
              <a:gs pos="100000">
                <a:srgbClr val="3a497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c89da">
                  <a:alpha val="0"/>
                </a:srgbClr>
              </a:gs>
              <a:gs pos="100000">
                <a:srgbClr val="44568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125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130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39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3b48"/>
                </a:gs>
                <a:gs pos="50000">
                  <a:srgbClr val="85819d"/>
                </a:gs>
                <a:gs pos="100000">
                  <a:srgbClr val="3d3b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3b48"/>
                </a:gs>
                <a:gs pos="50000">
                  <a:srgbClr val="85819d"/>
                </a:gs>
                <a:gs pos="100000">
                  <a:srgbClr val="3d3b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3b48"/>
                </a:gs>
                <a:gs pos="50000">
                  <a:srgbClr val="85819d"/>
                </a:gs>
                <a:gs pos="100000">
                  <a:srgbClr val="3d3b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16465">
                    <a:alpha val="12156"/>
                  </a:srgbClr>
                </a:gs>
                <a:gs pos="100000">
                  <a:srgbClr val="d3d9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6164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13f64"/>
                </a:gs>
                <a:gs pos="50000">
                  <a:srgbClr val="6c89da"/>
                </a:gs>
                <a:gs pos="100000">
                  <a:srgbClr val="313f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e2e5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84e4b"/>
                </a:gs>
                <a:gs pos="50000">
                  <a:srgbClr val="57aba3"/>
                </a:gs>
                <a:gs pos="100000">
                  <a:srgbClr val="284e4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2e5e8">
                    <a:alpha val="12156"/>
                  </a:srgbClr>
                </a:gs>
                <a:gs pos="100000">
                  <a:srgbClr val="d3d9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59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60" name=""/>
              <p:cNvSpPr/>
              <p:nvPr/>
            </p:nvSpPr>
            <p:spPr>
              <a:xfrm flipH="1" rot="16200000">
                <a:off x="2927880" y="325800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2c3eb"/>
                  </a:gs>
                  <a:gs pos="100000">
                    <a:srgbClr val="3e68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5400000">
                <a:off x="5531040" y="320724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2c3eb"/>
                  </a:gs>
                  <a:gs pos="100000">
                    <a:srgbClr val="3e68d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0800000">
                <a:off x="4236840" y="4609800"/>
                <a:ext cx="44388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2c3eb"/>
                  </a:gs>
                  <a:gs pos="100000">
                    <a:srgbClr val="3e68d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305880" y="2209680"/>
                <a:ext cx="23270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38360" y="2344680"/>
                <a:ext cx="206028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7aba3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2e5c57"/>
                  </a:gs>
                  <a:gs pos="50000">
                    <a:srgbClr val="57aba3"/>
                  </a:gs>
                  <a:gs pos="100000">
                    <a:srgbClr val="2e5c5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3b48"/>
                </a:gs>
                <a:gs pos="50000">
                  <a:srgbClr val="85819d"/>
                </a:gs>
                <a:gs pos="100000">
                  <a:srgbClr val="3d3b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3b48"/>
                </a:gs>
                <a:gs pos="50000">
                  <a:srgbClr val="85819d"/>
                </a:gs>
                <a:gs pos="100000">
                  <a:srgbClr val="3d3b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3b48"/>
                </a:gs>
                <a:gs pos="50000">
                  <a:srgbClr val="85819d"/>
                </a:gs>
                <a:gs pos="100000">
                  <a:srgbClr val="3d3b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3f64"/>
                </a:gs>
                <a:gs pos="50000">
                  <a:srgbClr val="6c89da"/>
                </a:gs>
                <a:gs pos="100000">
                  <a:srgbClr val="313f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3f64"/>
                </a:gs>
                <a:gs pos="50000">
                  <a:srgbClr val="6c89da"/>
                </a:gs>
                <a:gs pos="100000">
                  <a:srgbClr val="313f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3f64"/>
                </a:gs>
                <a:gs pos="50000">
                  <a:srgbClr val="6c89da"/>
                </a:gs>
                <a:gs pos="100000">
                  <a:srgbClr val="313f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4f8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198" name="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1506b"/>
                </a:gs>
                <a:gs pos="50000">
                  <a:srgbClr val="8fafe9"/>
                </a:gs>
                <a:gs pos="100000">
                  <a:srgbClr val="415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84e4b"/>
                </a:gs>
                <a:gs pos="50000">
                  <a:srgbClr val="57aba3"/>
                </a:gs>
                <a:gs pos="100000">
                  <a:srgbClr val="284e4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7a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d3b48"/>
                </a:gs>
                <a:gs pos="50000">
                  <a:srgbClr val="85819d"/>
                </a:gs>
                <a:gs pos="100000">
                  <a:srgbClr val="3d3b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616465"/>
                </a:gs>
                <a:gs pos="50000">
                  <a:srgbClr val="d3d9dd"/>
                </a:gs>
                <a:gs pos="100000">
                  <a:srgbClr val="6164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d3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677ea8"/>
                </a:gs>
                <a:gs pos="50000">
                  <a:srgbClr val="8fafe9"/>
                </a:gs>
                <a:gs pos="100000">
                  <a:srgbClr val="677e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3e7b75"/>
                </a:gs>
                <a:gs pos="50000">
                  <a:srgbClr val="57aba3"/>
                </a:gs>
                <a:gs pos="100000">
                  <a:srgbClr val="3e7b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58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05d71"/>
                </a:gs>
                <a:gs pos="50000">
                  <a:srgbClr val="85819d"/>
                </a:gs>
                <a:gs pos="100000">
                  <a:srgbClr val="605d7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989c9f"/>
                </a:gs>
                <a:gs pos="50000">
                  <a:srgbClr val="d3d9dd"/>
                </a:gs>
                <a:gs pos="100000">
                  <a:srgbClr val="989c9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6c89da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fafe9"/>
              </a:gs>
              <a:gs pos="100000">
                <a:srgbClr val="b0c6e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7aba3"/>
              </a:gs>
              <a:gs pos="100000">
                <a:srgbClr val="89c3b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6c89da"/>
              </a:gs>
              <a:gs pos="100000">
                <a:srgbClr val="5f79c1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6c89da"/>
              </a:gs>
              <a:gs pos="100000">
                <a:srgbClr val="5f79c1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c89da"/>
              </a:gs>
              <a:gs pos="100000">
                <a:srgbClr val="5f79c1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c89da"/>
              </a:gs>
              <a:gs pos="100000">
                <a:srgbClr val="5f79c1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6c89da"/>
              </a:gs>
              <a:gs pos="100000">
                <a:srgbClr val="5f79c1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6c89da"/>
              </a:gs>
              <a:gs pos="100000">
                <a:srgbClr val="5f79c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226" name="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229" name="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232" name="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235" name="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238" name="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241" name="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87960" y="5380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7aba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284e4b"/>
              </a:gs>
              <a:gs pos="100000">
                <a:srgbClr val="57aba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e5c57"/>
              </a:gs>
              <a:gs pos="50000">
                <a:srgbClr val="57aba3"/>
              </a:gs>
              <a:gs pos="100000">
                <a:srgbClr val="2e5c5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7aba3">
                  <a:alpha val="0"/>
                </a:srgbClr>
              </a:gs>
              <a:gs pos="100000">
                <a:srgbClr val="376c6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aecff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875520" y="2018880"/>
            <a:ext cx="4125960" cy="3931560"/>
            <a:chOff x="875520" y="2018880"/>
            <a:chExt cx="4125960" cy="3931560"/>
          </a:xfrm>
        </p:grpSpPr>
        <p:sp>
          <p:nvSpPr>
            <p:cNvPr id="262" name=""/>
            <p:cNvSpPr/>
            <p:nvPr/>
          </p:nvSpPr>
          <p:spPr>
            <a:xfrm rot="5433000">
              <a:off x="351000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84e4b"/>
                </a:gs>
                <a:gs pos="50000">
                  <a:srgbClr val="57aba3"/>
                </a:gs>
                <a:gs pos="100000">
                  <a:srgbClr val="284e4b"/>
                </a:gs>
              </a:gsLst>
              <a:lin ang="8070000"/>
            </a:gradFill>
            <a:ln w="93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33000">
              <a:off x="2799000" y="2068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1506b"/>
                </a:gs>
                <a:gs pos="50000">
                  <a:srgbClr val="8fafe9"/>
                </a:gs>
                <a:gs pos="100000">
                  <a:srgbClr val="41506b"/>
                </a:gs>
              </a:gsLst>
              <a:lin ang="8070000"/>
            </a:gradFill>
            <a:ln w="93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33000">
              <a:off x="2874960" y="44020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1506b"/>
                </a:gs>
                <a:gs pos="50000">
                  <a:srgbClr val="8fafe9"/>
                </a:gs>
                <a:gs pos="100000">
                  <a:srgbClr val="41506b"/>
                </a:gs>
              </a:gsLst>
              <a:lin ang="8070000"/>
            </a:gradFill>
            <a:ln w="93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2167200" y="325440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3e68d0"/>
                </a:gs>
                <a:gs pos="100000">
                  <a:srgbClr val="1c2f5f"/>
                </a:gs>
              </a:gsLst>
              <a:lin ang="0"/>
            </a:gradFill>
            <a:ln w="93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33000">
              <a:off x="1484280" y="21304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84e4b"/>
                </a:gs>
                <a:gs pos="50000">
                  <a:srgbClr val="57aba3"/>
                </a:gs>
                <a:gs pos="100000">
                  <a:srgbClr val="284e4b"/>
                </a:gs>
              </a:gsLst>
              <a:lin ang="8070000"/>
            </a:gradFill>
            <a:ln w="93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33000">
              <a:off x="1536840" y="44593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84e4b"/>
                </a:gs>
                <a:gs pos="50000">
                  <a:srgbClr val="57aba3"/>
                </a:gs>
                <a:gs pos="100000">
                  <a:srgbClr val="284e4b"/>
                </a:gs>
              </a:gsLst>
              <a:lin ang="8070000"/>
            </a:gradFill>
            <a:ln w="93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5433000">
              <a:off x="839880" y="3319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1506b"/>
                </a:gs>
                <a:gs pos="50000">
                  <a:srgbClr val="8fafe9"/>
                </a:gs>
                <a:gs pos="100000">
                  <a:srgbClr val="41506b"/>
                </a:gs>
              </a:gsLst>
              <a:lin ang="8070000"/>
            </a:gradFill>
            <a:ln w="93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68d0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698920" y="1785600"/>
            <a:ext cx="4013640" cy="4254120"/>
            <a:chOff x="2698920" y="1785600"/>
            <a:chExt cx="4013640" cy="4254120"/>
          </a:xfrm>
        </p:grpSpPr>
        <p:sp>
          <p:nvSpPr>
            <p:cNvPr id="273" name=""/>
            <p:cNvSpPr/>
            <p:nvPr/>
          </p:nvSpPr>
          <p:spPr>
            <a:xfrm>
              <a:off x="2706840" y="3122640"/>
              <a:ext cx="1447920" cy="1954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284e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7200000">
              <a:off x="4396320" y="2040840"/>
              <a:ext cx="136548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6c89da"/>
                </a:gs>
                <a:gs pos="100000">
                  <a:srgbClr val="313f64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2734920" y="1785600"/>
              <a:ext cx="2482920" cy="2629800"/>
              <a:chOff x="2734920" y="1785600"/>
              <a:chExt cx="2482920" cy="2629800"/>
            </a:xfrm>
          </p:grpSpPr>
          <p:sp>
            <p:nvSpPr>
              <p:cNvPr id="276" name=""/>
              <p:cNvSpPr/>
              <p:nvPr/>
            </p:nvSpPr>
            <p:spPr>
              <a:xfrm rot="12600000">
                <a:off x="2788920" y="349236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7200000">
                <a:off x="3184200" y="2697120"/>
                <a:ext cx="150516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7200000">
                <a:off x="4257360" y="1770120"/>
                <a:ext cx="62244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rot="14400000">
              <a:off x="4510800" y="389484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8fafe9"/>
                </a:gs>
                <a:gs pos="100000">
                  <a:srgbClr val="41506b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4539960" y="2665800"/>
              <a:ext cx="2172600" cy="2758320"/>
              <a:chOff x="4539960" y="2665800"/>
              <a:chExt cx="2172600" cy="2758320"/>
            </a:xfrm>
          </p:grpSpPr>
          <p:sp>
            <p:nvSpPr>
              <p:cNvPr id="281" name=""/>
              <p:cNvSpPr/>
              <p:nvPr/>
            </p:nvSpPr>
            <p:spPr>
              <a:xfrm rot="19800000">
                <a:off x="4594320" y="2984760"/>
                <a:ext cx="1438200" cy="603000"/>
              </a:xfrm>
              <a:prstGeom prst="triangle">
                <a:avLst>
                  <a:gd name="adj" fmla="val 50000"/>
                </a:avLst>
              </a:pr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4400000">
                <a:off x="4985640" y="3578760"/>
                <a:ext cx="150480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4400000">
                <a:off x="5807160" y="4331520"/>
                <a:ext cx="54900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285" name=""/>
              <p:cNvSpPr/>
              <p:nvPr/>
            </p:nvSpPr>
            <p:spPr>
              <a:xfrm>
                <a:off x="2698920" y="4327560"/>
                <a:ext cx="581400" cy="109980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5400000">
                <a:off x="4179600" y="4709520"/>
                <a:ext cx="1385640" cy="640080"/>
              </a:xfrm>
              <a:prstGeom prst="triangle">
                <a:avLst>
                  <a:gd name="adj" fmla="val 50000"/>
                </a:avLst>
              </a:pr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223080" y="4649760"/>
                <a:ext cx="1596600" cy="77724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aba3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819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89da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/>
  <dc:description/>
  <cp:keywords>幻灯片之家 http:/www.eeppt.com</cp:keywords>
  <dc:language>en-US</dc:language>
  <cp:lastModifiedBy/>
  <dcterms:modified xsi:type="dcterms:W3CDTF">2015-07-05T03:11:06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