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7740-70FB-4919-8907-4AAE83263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F632-7485-49E2-9664-7544B5EC7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8B283-953E-486D-95F2-592B60AF1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8901-7FBC-41A2-9E6B-F64AC8B52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762120"/>
            <a:ext cx="56386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6651-CF8C-4E47-8BBD-842E8D8D3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533412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5533200"/>
            <a:ext cx="27968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7B838-36C0-42B5-9109-9ED9F2D0A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F920-2B33-495B-9BF6-780637BB3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E8F4-0AD5-43C1-A8F7-A5FE5E4DE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762120"/>
            <a:ext cx="563868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19DCD-47E9-4216-B3F1-EE8639AC2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C184F-67C5-40C7-8C74-A3F7E458B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553320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226AF-047A-4109-BB16-86BB99A464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5334120"/>
            <a:ext cx="4239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5533200"/>
            <a:ext cx="8686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D7A64-9E1F-458A-B495-C4BE1F5F7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45A0-C3E1-48AA-8E52-566E981B0DCA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国外简洁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d528d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d528d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0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1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2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3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4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1d528d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5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58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59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62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6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71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7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7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77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80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8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393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394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397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0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06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1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12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15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1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24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d528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37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37" idx="3"/>
              <a:endCxn id="438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38" idx="3"/>
              <a:endCxn id="439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523880" y="1295280"/>
            <a:ext cx="6049800" cy="5186520"/>
            <a:chOff x="1523880" y="1295280"/>
            <a:chExt cx="6049800" cy="5186520"/>
          </a:xfrm>
        </p:grpSpPr>
        <p:sp>
          <p:nvSpPr>
            <p:cNvPr id="446" name=""/>
            <p:cNvSpPr/>
            <p:nvPr/>
          </p:nvSpPr>
          <p:spPr>
            <a:xfrm>
              <a:off x="5422680" y="2157120"/>
              <a:ext cx="749520" cy="209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14800" y="3784320"/>
              <a:ext cx="1481040" cy="411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81480" y="5817960"/>
              <a:ext cx="2392200" cy="663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52480" y="4424400"/>
              <a:ext cx="1481040" cy="411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3770000">
              <a:off x="4987800" y="3734640"/>
              <a:ext cx="960120" cy="1922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0856000">
              <a:off x="2999880" y="3284280"/>
              <a:ext cx="1009800" cy="1731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3938400" y="1978200"/>
              <a:ext cx="1704600" cy="1836000"/>
              <a:chOff x="3938400" y="1978200"/>
              <a:chExt cx="1704600" cy="1836000"/>
            </a:xfrm>
          </p:grpSpPr>
          <p:sp>
            <p:nvSpPr>
              <p:cNvPr id="453" name=""/>
              <p:cNvSpPr/>
              <p:nvPr/>
            </p:nvSpPr>
            <p:spPr>
              <a:xfrm rot="18394200">
                <a:off x="5114160" y="2190960"/>
                <a:ext cx="59616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3938400" y="2224800"/>
                <a:ext cx="1609560" cy="1589400"/>
                <a:chOff x="3938400" y="2224800"/>
                <a:chExt cx="1609560" cy="158940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938400" y="2224800"/>
                  <a:ext cx="1609560" cy="158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122360" y="2251080"/>
                  <a:ext cx="1241640" cy="599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4025160" y="29163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5348160" y="1295280"/>
              <a:ext cx="891720" cy="861840"/>
              <a:chOff x="5348160" y="1295280"/>
              <a:chExt cx="891720" cy="86184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5348160" y="1295280"/>
                <a:ext cx="871560" cy="861840"/>
                <a:chOff x="5348160" y="1295280"/>
                <a:chExt cx="871560" cy="8618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5348160" y="1295280"/>
                  <a:ext cx="871560" cy="86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b9ad9"/>
                    </a:gs>
                    <a:gs pos="100000">
                      <a:srgbClr val="0c45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5447520" y="130932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b9ad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5368680" y="162720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1523880" y="2620800"/>
              <a:ext cx="1744560" cy="1790640"/>
              <a:chOff x="1523880" y="2620800"/>
              <a:chExt cx="1744560" cy="17906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1523880" y="2620800"/>
                <a:ext cx="1744560" cy="1790640"/>
                <a:chOff x="1523880" y="2620800"/>
                <a:chExt cx="1744560" cy="17906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1523880" y="2620800"/>
                  <a:ext cx="1744560" cy="17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4a04e"/>
                    </a:gs>
                    <a:gs pos="100000">
                      <a:srgbClr val="a473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723320" y="265032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4a04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1618200" y="3416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279760" y="3881160"/>
              <a:ext cx="2013120" cy="1989000"/>
              <a:chOff x="5279760" y="3881160"/>
              <a:chExt cx="2013120" cy="19890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5279760" y="3881160"/>
                <a:ext cx="2013120" cy="1989000"/>
                <a:chOff x="5279760" y="3881160"/>
                <a:chExt cx="2013120" cy="19890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5279760" y="388116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ccff"/>
                    </a:gs>
                    <a:gs pos="100000">
                      <a:srgbClr val="376e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509800" y="391392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5568120" y="47430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479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0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481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b9ad9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487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540"/>
                </a:gs>
              </a:gsLst>
              <a:lin ang="198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493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1b9ad9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838080" y="216540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d528d"/>
                      </a:solidFill>
                    </a:lnR>
                    <a:lnT>
                      <a:noFill/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solidFill>
                      <a:srgbClr val="1b9ad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601200" y="679320"/>
            <a:ext cx="7379280" cy="5581080"/>
            <a:chOff x="601200" y="679320"/>
            <a:chExt cx="7379280" cy="5581080"/>
          </a:xfrm>
        </p:grpSpPr>
        <p:sp>
          <p:nvSpPr>
            <p:cNvPr id="509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9dd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b9ad9"/>
                </a:gs>
                <a:gs pos="100000">
                  <a:srgbClr val="126b9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4081a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94923"/>
                </a:gs>
                <a:gs pos="100000">
                  <a:srgbClr val="e4a04e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64080" y="362268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ec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539200">
              <a:off x="1019520" y="158328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475160" y="396252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ec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eeeee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503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66ccff">
                    <a:alpha val="19215"/>
                  </a:srgbClr>
                </a:gs>
                <a:gs pos="100000">
                  <a:srgbClr val="98dc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530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aphicFrame>
          <p:nvGraphicFramePr>
            <p:cNvPr id="531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noFill/>
            <a:ln w="25560">
              <a:solidFill>
                <a:srgbClr val="1b9a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aphicFrame>
          <p:nvGraphicFramePr>
            <p:cNvPr id="537" name=""/>
            <p:cNvGraphicFramePr/>
            <p:nvPr/>
          </p:nvGraphicFramePr>
          <p:xfrm>
            <a:off x="4704120" y="2597400"/>
            <a:ext cx="292860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9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ccff"/>
                    </a:gs>
                    <a:gs pos="100000">
                      <a:srgbClr val="1d528d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ccff"/>
                  </a:gs>
                  <a:gs pos="100000">
                    <a:srgbClr val="1d528d"/>
                  </a:gs>
                </a:gsLst>
                <a:lin ang="10800000"/>
              </a:gradFill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-2422440" y="1474200"/>
            <a:ext cx="4824360" cy="4770360"/>
          </a:xfrm>
          <a:prstGeom prst="blockArc">
            <a:avLst>
              <a:gd name="adj1" fmla="val 10852167"/>
              <a:gd name="adj2" fmla="val 21547833"/>
              <a:gd name="adj3" fmla="val 1491"/>
            </a:avLst>
          </a:prstGeom>
          <a:gradFill rotWithShape="0">
            <a:gsLst>
              <a:gs pos="0">
                <a:srgbClr val="e1e1e1"/>
              </a:gs>
              <a:gs pos="50000">
                <a:srgbClr val="c0c0c0"/>
              </a:gs>
              <a:gs pos="100000">
                <a:srgbClr val="e1e1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rot="5400000">
            <a:off x="-2016720" y="1910520"/>
            <a:ext cx="4032000" cy="3929040"/>
          </a:xfrm>
          <a:prstGeom prst="blockArc">
            <a:avLst>
              <a:gd name="adj1" fmla="val 10800000"/>
              <a:gd name="adj2" fmla="val 0"/>
              <a:gd name="adj3" fmla="val 49741"/>
            </a:avLst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aec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5" name="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02" name="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192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25c31"/>
                </a:gs>
                <a:gs pos="100000">
                  <a:srgbClr val="48be6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09" name="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2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f566c"/>
                </a:gs>
                <a:gs pos="100000">
                  <a:srgbClr val="21b3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16" name="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192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4316c"/>
                </a:gs>
                <a:gs pos="100000">
                  <a:srgbClr val="8d67e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23" name="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6cc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366d89"/>
                </a:gs>
                <a:gs pos="50000">
                  <a:srgbClr val="66ccff"/>
                </a:gs>
                <a:gs pos="100000">
                  <a:srgbClr val="366d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6d2d10"/>
                </a:gs>
                <a:gs pos="100000">
                  <a:srgbClr val="e35e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cc18d"/>
              </a:gs>
              <a:gs pos="100000">
                <a:srgbClr val="e4a0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dfe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37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1627b"/>
                  </a:gs>
                  <a:gs pos="100000">
                    <a:srgbClr val="66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ccff"/>
                  </a:gs>
                  <a:gs pos="100000">
                    <a:srgbClr val="bae7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c4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aedaf0"/>
                </a:gs>
                <a:gs pos="100000">
                  <a:srgbClr val="1b9ad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48235"/>
                  </a:srgbClr>
                </a:gs>
                <a:gs pos="100000">
                  <a:srgbClr val="1579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1b9ad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3408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7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bebeb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346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b9ad9"/>
                </a:gs>
                <a:gs pos="100000">
                  <a:srgbClr val="08304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e4a04e"/>
                </a:gs>
                <a:gs pos="100000">
                  <a:srgbClr val="5138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4444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d528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d528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cxnSp>
          <p:nvCxnSpPr>
            <p:cNvPr id="16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d528d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5858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85858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6d6d6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5e75"/>
                </a:gs>
                <a:gs pos="5000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d6d6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4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5" name=""/>
              <p:cNvSpPr/>
              <p:nvPr/>
            </p:nvSpPr>
            <p:spPr>
              <a:xfrm flipH="1" rot="16200000">
                <a:off x="2927880" y="3258000"/>
                <a:ext cx="45900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5400000">
                <a:off x="5531040" y="3207240"/>
                <a:ext cx="459000" cy="297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rot="10800000">
                <a:off x="4236840" y="4609800"/>
                <a:ext cx="44388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05880" y="2209680"/>
                <a:ext cx="232704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38360" y="2344680"/>
                <a:ext cx="206028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cc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559680" y="2471040"/>
                <a:ext cx="18180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6d89"/>
                  </a:gs>
                  <a:gs pos="50000">
                    <a:srgbClr val="66ccff"/>
                  </a:gs>
                  <a:gs pos="100000">
                    <a:srgbClr val="366d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679200" y="2594520"/>
                <a:ext cx="15789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d528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d528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23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94923"/>
                </a:gs>
                <a:gs pos="50000">
                  <a:srgbClr val="e4a04e"/>
                </a:gs>
                <a:gs pos="100000">
                  <a:srgbClr val="69492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e4a0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5e75"/>
                </a:gs>
                <a:gs pos="50000">
                  <a:srgbClr val="66ccff"/>
                </a:gs>
                <a:gs pos="100000">
                  <a:srgbClr val="2f5e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c4664"/>
                </a:gs>
                <a:gs pos="50000">
                  <a:srgbClr val="1b9ad9"/>
                </a:gs>
                <a:gs pos="100000">
                  <a:srgbClr val="0c466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a47338"/>
                </a:gs>
                <a:gs pos="50000">
                  <a:srgbClr val="e4a04e"/>
                </a:gs>
                <a:gs pos="100000">
                  <a:srgbClr val="a473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993b8"/>
                </a:gs>
                <a:gs pos="50000">
                  <a:srgbClr val="66ccff"/>
                </a:gs>
                <a:gs pos="100000">
                  <a:srgbClr val="4993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c6c6c"/>
                </a:gs>
                <a:gs pos="50000">
                  <a:srgbClr val="969696"/>
                </a:gs>
                <a:gs pos="100000">
                  <a:srgbClr val="6c6c6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36f9c"/>
                </a:gs>
                <a:gs pos="50000">
                  <a:srgbClr val="1b9ad9"/>
                </a:gs>
                <a:gs pos="100000">
                  <a:srgbClr val="136f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1b9ad9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4a04e"/>
              </a:gs>
              <a:gs pos="100000">
                <a:srgbClr val="ebbb8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244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250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00520" y="2055960"/>
                <a:ext cx="174312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2895480" y="2743200"/>
            <a:ext cx="3580920" cy="1904040"/>
            <a:chOff x="2895480" y="2743200"/>
            <a:chExt cx="3580920" cy="1904040"/>
          </a:xfrm>
        </p:grpSpPr>
        <p:sp>
          <p:nvSpPr>
            <p:cNvPr id="255" name=""/>
            <p:cNvSpPr/>
            <p:nvPr/>
          </p:nvSpPr>
          <p:spPr>
            <a:xfrm rot="10800000">
              <a:off x="586692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9548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637320" y="2286000"/>
            <a:ext cx="1440000" cy="1440000"/>
            <a:chOff x="6637320" y="2286000"/>
            <a:chExt cx="1440000" cy="1440000"/>
          </a:xfrm>
        </p:grpSpPr>
        <p:sp>
          <p:nvSpPr>
            <p:cNvPr id="261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32720" y="23796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2720" y="23828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94640" y="24433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6811920" y="2460600"/>
              <a:ext cx="1090800" cy="1092240"/>
              <a:chOff x="6811920" y="2460600"/>
              <a:chExt cx="1090800" cy="1092240"/>
            </a:xfrm>
          </p:grpSpPr>
          <p:sp>
            <p:nvSpPr>
              <p:cNvPr id="267" name=""/>
              <p:cNvSpPr/>
              <p:nvPr/>
            </p:nvSpPr>
            <p:spPr>
              <a:xfrm>
                <a:off x="6811920" y="24606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37120" y="24771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96160" y="25048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257800" y="4495680"/>
            <a:ext cx="1444680" cy="1523880"/>
            <a:chOff x="5257800" y="4495680"/>
            <a:chExt cx="1444680" cy="1523880"/>
          </a:xfrm>
        </p:grpSpPr>
        <p:sp>
          <p:nvSpPr>
            <p:cNvPr id="273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51400" y="459396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4120" y="457200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19800" y="466236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464796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64080" y="469872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522760" y="472896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39400" y="50893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284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90680" y="2385000"/>
              <a:ext cx="125676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58000" y="245232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76360" y="2471400"/>
              <a:ext cx="1095840" cy="11545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90040" y="2478600"/>
              <a:ext cx="1068840" cy="11239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01200" y="2489040"/>
              <a:ext cx="101700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295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296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688840" y="45910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688840" y="46004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750760" y="46623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2779560" y="4676760"/>
                <a:ext cx="1090080" cy="1092240"/>
                <a:chOff x="2779560" y="4676760"/>
                <a:chExt cx="1090080" cy="10922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779560" y="4676760"/>
                  <a:ext cx="109008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793240" y="4682880"/>
                  <a:ext cx="106380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04760" y="4693320"/>
                  <a:ext cx="101160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863800" y="4721040"/>
                  <a:ext cx="8992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" name=""/>
            <p:cNvSpPr/>
            <p:nvPr/>
          </p:nvSpPr>
          <p:spPr>
            <a:xfrm>
              <a:off x="295128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05:53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