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E1AB4-5A0C-41D3-90BD-F139BAA999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5309-50F7-4919-8D77-C7C3A9C73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51A15-EA26-4850-AAF9-624E44EA3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5688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40900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5688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40900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8F2E-4DFA-4147-A975-D3006E008E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C5392-074D-4E04-B947-2112CF21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4EE79-996B-4CB3-9858-EA323F88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84082-E95F-4887-819D-8FA9EB78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808A1-4901-415A-AE33-4E85022E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C16EE-0233-44A7-89C7-3A37D72A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11DCB-5D04-4966-9E40-E2B4C036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EE718-D200-423D-83C5-E9BAA1FD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A9E02-E9A8-4497-BA2F-18D65A0DE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52163-88E0-4331-A9A7-38C75A68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56BC6-5787-437B-8D6E-08074457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A49CF-CB13-436B-B15B-90F56321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90046-B933-4B3D-B519-C9C0E645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5688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409000" y="541008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0476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5688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409000" y="5688720"/>
            <a:ext cx="16682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56353-5301-4F71-8CBE-1FF77C58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3B5DC-5B1C-4CAD-AD18-242957AA3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A4E45-959D-43BB-BAFB-82F29B3B1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49404-19AD-4A38-BBED-55E67DEE0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04776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BC044-FDA5-4B7C-BC68-FDE3C6A4F0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EA42E-9CBE-4B35-89A5-AF1507B11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9760" y="568872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18D6-29C2-4648-ADC8-9AD48D292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9760" y="5410080"/>
            <a:ext cx="25282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5688720"/>
            <a:ext cx="518148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4441B-7419-4075-A0FF-1DD78E388B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33520"/>
            <a:ext cx="9144000" cy="685800"/>
          </a:xfrm>
          <a:prstGeom prst="rect">
            <a:avLst/>
          </a:prstGeom>
          <a:gradFill rotWithShape="0">
            <a:gsLst>
              <a:gs pos="0">
                <a:srgbClr val="1f63ad"/>
              </a:gs>
              <a:gs pos="100000">
                <a:srgbClr val="e2eaf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457200"/>
            <a:ext cx="8229600" cy="685800"/>
          </a:xfrm>
          <a:prstGeom prst="rect">
            <a:avLst/>
          </a:prstGeom>
          <a:gradFill rotWithShape="0">
            <a:gsLst>
              <a:gs pos="0">
                <a:srgbClr val="460b05">
                  <a:alpha val="0"/>
                </a:srgbClr>
              </a:gs>
              <a:gs pos="100000">
                <a:srgbClr val="9919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337760"/>
            <a:ext cx="8229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a05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f63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>
          <a:xfrm>
            <a:off x="5790960" y="653076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66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3505320" y="6553080"/>
            <a:ext cx="213336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3366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6195-A622-4068-89AC-58976C7B27E1}" type="slidenum">
              <a:rPr b="1" lang="en-US" sz="1000" spc="-1" strike="noStrike">
                <a:solidFill>
                  <a:srgbClr val="003366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971800"/>
            <a:ext cx="9144000" cy="914400"/>
          </a:xfrm>
          <a:prstGeom prst="rect">
            <a:avLst/>
          </a:prstGeom>
          <a:gradFill rotWithShape="0">
            <a:gsLst>
              <a:gs pos="0">
                <a:srgbClr val="1f63ad"/>
              </a:gs>
              <a:gs pos="100000">
                <a:srgbClr val="e2eaf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38095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22824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5C62-E5F7-409F-A770-E066F83BC8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189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5480"/>
            <a:ext cx="8229600" cy="914400"/>
          </a:xfrm>
          <a:prstGeom prst="rect">
            <a:avLst/>
          </a:prstGeom>
          <a:gradFill rotWithShape="0">
            <a:gsLst>
              <a:gs pos="0">
                <a:srgbClr val="460b05">
                  <a:alpha val="0"/>
                </a:srgbClr>
              </a:gs>
              <a:gs pos="100000">
                <a:srgbClr val="99190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Verdana"/>
              </a:rPr>
              <a:t>Click to edit the outline text format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国外简约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4760" y="5410080"/>
            <a:ext cx="518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1" lang="en-US" sz="16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523880" y="1752480"/>
            <a:ext cx="1752480" cy="4267080"/>
            <a:chOff x="1523880" y="1752480"/>
            <a:chExt cx="1752480" cy="4267080"/>
          </a:xfrm>
        </p:grpSpPr>
        <p:sp>
          <p:nvSpPr>
            <p:cNvPr id="355" name=""/>
            <p:cNvSpPr/>
            <p:nvPr/>
          </p:nvSpPr>
          <p:spPr>
            <a:xfrm>
              <a:off x="1600200" y="3352680"/>
              <a:ext cx="1600200" cy="26668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666880"/>
                <a:gd name="textAreaBottom" fmla="*/ 2629800 h 2666880"/>
              </a:gdLst>
              <a:ahLst/>
              <a:rect l="textAreaLeft" t="textAreaTop" r="textAreaRight" b="textAreaBottom"/>
              <a:pathLst>
                <a:path w="21600" h="35995">
                  <a:moveTo>
                    <a:pt x="1714" y="0"/>
                  </a:moveTo>
                  <a:arcTo wR="1714" hR="1714" stAng="16200000" swAng="-5400000"/>
                  <a:lnTo>
                    <a:pt x="0" y="34281"/>
                  </a:lnTo>
                  <a:arcTo wR="1714" hR="1714" stAng="10800000" swAng="-5400000"/>
                  <a:lnTo>
                    <a:pt x="19886" y="3599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784b01"/>
                </a:gs>
                <a:gs pos="100000">
                  <a:srgbClr val="d28302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17640" y="40384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523880" y="1752480"/>
              <a:ext cx="1752480" cy="2057400"/>
            </a:xfrm>
            <a:custGeom>
              <a:avLst/>
              <a:gdLst>
                <a:gd name="textAreaLeft" fmla="*/ 89640 w 1752480"/>
                <a:gd name="textAreaRight" fmla="*/ 1662840 w 1752480"/>
                <a:gd name="textAreaTop" fmla="*/ 89640 h 2057400"/>
                <a:gd name="textAreaBottom" fmla="*/ 1967760 h 2057400"/>
              </a:gdLst>
              <a:ahLst/>
              <a:rect l="textAreaLeft" t="textAreaTop" r="textAreaRight" b="textAreaBottom"/>
              <a:pathLst>
                <a:path w="21600" h="25357">
                  <a:moveTo>
                    <a:pt x="3782" y="0"/>
                  </a:moveTo>
                  <a:arcTo wR="3782" hR="3782" stAng="16200000" swAng="-5400000"/>
                  <a:lnTo>
                    <a:pt x="0" y="21575"/>
                  </a:lnTo>
                  <a:arcTo wR="3782" hR="3782" stAng="10800000" swAng="-5400000"/>
                  <a:lnTo>
                    <a:pt x="17818" y="25357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solidFill>
              <a:srgbClr val="d28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65280" y="3244680"/>
              <a:ext cx="1676160" cy="51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e8c18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65280" y="1774800"/>
              <a:ext cx="1676160" cy="509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dd0a2"/>
                </a:gs>
                <a:gs pos="100000">
                  <a:srgbClr val="d2830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82880" y="20872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709640" y="56854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e5ba7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059520" y="2438280"/>
            <a:ext cx="1712880" cy="3581280"/>
            <a:chOff x="6059520" y="2438280"/>
            <a:chExt cx="1712880" cy="3581280"/>
          </a:xfrm>
        </p:grpSpPr>
        <p:sp>
          <p:nvSpPr>
            <p:cNvPr id="363" name=""/>
            <p:cNvSpPr/>
            <p:nvPr/>
          </p:nvSpPr>
          <p:spPr>
            <a:xfrm>
              <a:off x="6121440" y="3809880"/>
              <a:ext cx="1600200" cy="220968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209680"/>
                <a:gd name="textAreaBottom" fmla="*/ 2172600 h 2209680"/>
              </a:gdLst>
              <a:ahLst/>
              <a:rect l="textAreaLeft" t="textAreaTop" r="textAreaRight" b="textAreaBottom"/>
              <a:pathLst>
                <a:path w="21600" h="29825">
                  <a:moveTo>
                    <a:pt x="1714" y="0"/>
                  </a:moveTo>
                  <a:arcTo wR="1714" hR="1714" stAng="16200000" swAng="-5400000"/>
                  <a:lnTo>
                    <a:pt x="0" y="28111"/>
                  </a:lnTo>
                  <a:arcTo wR="1714" hR="1714" stAng="10800000" swAng="-5400000"/>
                  <a:lnTo>
                    <a:pt x="19886" y="2982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454f53"/>
                </a:gs>
                <a:gs pos="100000">
                  <a:srgbClr val="97adb5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39240" y="446400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6059520" y="2438280"/>
              <a:ext cx="1712880" cy="1901880"/>
              <a:chOff x="6059520" y="2438280"/>
              <a:chExt cx="1712880" cy="1901880"/>
            </a:xfrm>
          </p:grpSpPr>
          <p:sp>
            <p:nvSpPr>
              <p:cNvPr id="366" name=""/>
              <p:cNvSpPr/>
              <p:nvPr/>
            </p:nvSpPr>
            <p:spPr>
              <a:xfrm>
                <a:off x="6059520" y="2438280"/>
                <a:ext cx="1712880" cy="1901880"/>
              </a:xfrm>
              <a:custGeom>
                <a:avLst/>
                <a:gdLst>
                  <a:gd name="textAreaLeft" fmla="*/ 87840 w 1712880"/>
                  <a:gd name="textAreaRight" fmla="*/ 1625040 w 1712880"/>
                  <a:gd name="textAreaTop" fmla="*/ 87840 h 1901880"/>
                  <a:gd name="textAreaBottom" fmla="*/ 1814040 h 1901880"/>
                </a:gdLst>
                <a:ahLst/>
                <a:rect l="textAreaLeft" t="textAreaTop" r="textAreaRight" b="textAreaBottom"/>
                <a:pathLst>
                  <a:path w="21600" h="23983">
                    <a:moveTo>
                      <a:pt x="3782" y="0"/>
                    </a:moveTo>
                    <a:arcTo wR="3782" hR="3782" stAng="16200000" swAng="-5400000"/>
                    <a:lnTo>
                      <a:pt x="0" y="20201"/>
                    </a:lnTo>
                    <a:arcTo wR="3782" hR="3782" stAng="10800000" swAng="-5400000"/>
                    <a:lnTo>
                      <a:pt x="17818" y="2398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97ad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099480" y="3817080"/>
                <a:ext cx="1638720" cy="4719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7adb5"/>
                  </a:gs>
                  <a:gs pos="100000">
                    <a:srgbClr val="d2db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099480" y="2458080"/>
                <a:ext cx="1638720" cy="47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d2dbde"/>
                  </a:gs>
                  <a:gs pos="100000">
                    <a:srgbClr val="97adb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555240" y="289548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24852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7adb5"/>
                </a:gs>
                <a:gs pos="100000">
                  <a:srgbClr val="ebef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835440" y="2057400"/>
            <a:ext cx="1727280" cy="3962520"/>
            <a:chOff x="3835440" y="2057400"/>
            <a:chExt cx="1727280" cy="3962520"/>
          </a:xfrm>
        </p:grpSpPr>
        <p:sp>
          <p:nvSpPr>
            <p:cNvPr id="372" name=""/>
            <p:cNvSpPr/>
            <p:nvPr/>
          </p:nvSpPr>
          <p:spPr>
            <a:xfrm>
              <a:off x="3911760" y="3657600"/>
              <a:ext cx="1600200" cy="2362320"/>
            </a:xfrm>
            <a:custGeom>
              <a:avLst/>
              <a:gdLst>
                <a:gd name="textAreaLeft" fmla="*/ 37080 w 1600200"/>
                <a:gd name="textAreaRight" fmla="*/ 1563120 w 1600200"/>
                <a:gd name="textAreaTop" fmla="*/ 37080 h 2362320"/>
                <a:gd name="textAreaBottom" fmla="*/ 2325240 h 2362320"/>
              </a:gdLst>
              <a:ahLst/>
              <a:rect l="textAreaLeft" t="textAreaTop" r="textAreaRight" b="textAreaBottom"/>
              <a:pathLst>
                <a:path w="21600" h="31885">
                  <a:moveTo>
                    <a:pt x="1714" y="0"/>
                  </a:moveTo>
                  <a:arcTo wR="1714" hR="1714" stAng="16200000" swAng="-5400000"/>
                  <a:lnTo>
                    <a:pt x="0" y="30171"/>
                  </a:lnTo>
                  <a:arcTo wR="1714" hR="1714" stAng="10800000" swAng="-5400000"/>
                  <a:lnTo>
                    <a:pt x="19886" y="31885"/>
                  </a:lnTo>
                  <a:arcTo wR="1714" hR="1714" stAng="5400000" swAng="-5400000"/>
                  <a:lnTo>
                    <a:pt x="21600" y="1714"/>
                  </a:lnTo>
                  <a:arcTo wR="1714" hR="1714" stAng="0" swAng="-5400000"/>
                  <a:close/>
                </a:path>
              </a:pathLst>
            </a:custGeom>
            <a:gradFill rotWithShape="0">
              <a:gsLst>
                <a:gs pos="0">
                  <a:srgbClr val="246031"/>
                </a:gs>
                <a:gs pos="100000">
                  <a:srgbClr val="3ca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73" name=""/>
            <p:cNvGrpSpPr/>
            <p:nvPr/>
          </p:nvGrpSpPr>
          <p:grpSpPr>
            <a:xfrm>
              <a:off x="3835440" y="2057400"/>
              <a:ext cx="1727280" cy="1981080"/>
              <a:chOff x="3835440" y="2057400"/>
              <a:chExt cx="1727280" cy="1981080"/>
            </a:xfrm>
          </p:grpSpPr>
          <p:sp>
            <p:nvSpPr>
              <p:cNvPr id="374" name=""/>
              <p:cNvSpPr/>
              <p:nvPr/>
            </p:nvSpPr>
            <p:spPr>
              <a:xfrm>
                <a:off x="3835440" y="2057400"/>
                <a:ext cx="1727280" cy="1981080"/>
              </a:xfrm>
              <a:custGeom>
                <a:avLst/>
                <a:gdLst>
                  <a:gd name="textAreaLeft" fmla="*/ 88560 w 1727280"/>
                  <a:gd name="textAreaRight" fmla="*/ 1638720 w 1727280"/>
                  <a:gd name="textAreaTop" fmla="*/ 88560 h 1981080"/>
                  <a:gd name="textAreaBottom" fmla="*/ 1892520 h 1981080"/>
                </a:gdLst>
                <a:ahLst/>
                <a:rect l="textAreaLeft" t="textAreaTop" r="textAreaRight" b="textAreaBottom"/>
                <a:pathLst>
                  <a:path w="21600" h="24773">
                    <a:moveTo>
                      <a:pt x="3782" y="0"/>
                    </a:moveTo>
                    <a:arcTo wR="3782" hR="3782" stAng="16200000" swAng="-5400000"/>
                    <a:lnTo>
                      <a:pt x="0" y="20991"/>
                    </a:lnTo>
                    <a:arcTo wR="3782" hR="3782" stAng="10800000" swAng="-5400000"/>
                    <a:lnTo>
                      <a:pt x="17818" y="24773"/>
                    </a:lnTo>
                    <a:arcTo wR="3782" hR="3782" stAng="5400000" swAng="-5400000"/>
                    <a:lnTo>
                      <a:pt x="21600" y="3782"/>
                    </a:lnTo>
                    <a:arcTo wR="3782" hR="3782" stAng="0" swAng="-5400000"/>
                    <a:close/>
                  </a:path>
                </a:pathLst>
              </a:custGeom>
              <a:solidFill>
                <a:srgbClr val="3ca0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75760" y="3495960"/>
                <a:ext cx="1652400" cy="491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ca051"/>
                  </a:gs>
                  <a:gs pos="100000">
                    <a:srgbClr val="cee6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875760" y="2080440"/>
                <a:ext cx="1652400" cy="490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ee6d3"/>
                  </a:gs>
                  <a:gs pos="100000">
                    <a:srgbClr val="3ca0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4129200" y="4267080"/>
              <a:ext cx="114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xt her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94440" y="2514600"/>
              <a:ext cx="808560" cy="1069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0" lang="en-US" sz="4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038480" y="5714280"/>
              <a:ext cx="1371600" cy="228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051"/>
                </a:gs>
                <a:gs pos="100000">
                  <a:srgbClr val="daec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386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3ca051"/>
                </a:gs>
                <a:gs pos="100000">
                  <a:srgbClr val="1b4925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388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1f63a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394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3ca051"/>
                </a:gs>
                <a:gs pos="100000">
                  <a:srgbClr val="1b4925"/>
                </a:gs>
              </a:gsLst>
              <a:lin ang="1980000"/>
            </a:gra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400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1f63ad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838080" y="2395440"/>
          <a:ext cx="7467480" cy="312408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d28302"/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</a:tr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48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80000"/>
                      </a:srgbClr>
                    </a:solidFill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X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7adb5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"/>
          <p:cNvGrpSpPr/>
          <p:nvPr/>
        </p:nvGrpSpPr>
        <p:grpSpPr>
          <a:xfrm>
            <a:off x="825120" y="679320"/>
            <a:ext cx="7378560" cy="5581080"/>
            <a:chOff x="825120" y="679320"/>
            <a:chExt cx="7378560" cy="5581080"/>
          </a:xfrm>
        </p:grpSpPr>
        <p:sp>
          <p:nvSpPr>
            <p:cNvPr id="416" name=""/>
            <p:cNvSpPr/>
            <p:nvPr/>
          </p:nvSpPr>
          <p:spPr>
            <a:xfrm>
              <a:off x="2361960" y="4465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7f9f2"/>
                </a:gs>
                <a:gs pos="100000">
                  <a:srgbClr val="ddddd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0601600">
              <a:off x="1636560" y="2352240"/>
              <a:ext cx="5762160" cy="3016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dadad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20601600">
              <a:off x="1693080" y="219060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20601600">
              <a:off x="1609560" y="2176200"/>
              <a:ext cx="569772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3ca051"/>
                </a:gs>
                <a:gs pos="100000">
                  <a:srgbClr val="82c18f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20602200">
              <a:off x="1658520" y="2176560"/>
              <a:ext cx="564264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f63ad"/>
                </a:gs>
                <a:gs pos="100000">
                  <a:srgbClr val="154478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20601600">
              <a:off x="1616400" y="2187360"/>
              <a:ext cx="56808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79" y="1186"/>
                  </a:moveTo>
                  <a:arcTo wR="10800" hR="10800" stAng="-7026499" swAng="4201110"/>
                  <a:lnTo>
                    <a:pt x="10800" y="10800"/>
                  </a:lnTo>
                  <a:close/>
                </a:path>
                <a:path fill="none" w="21600" h="21600">
                  <a:moveTo>
                    <a:pt x="5879" y="1186"/>
                  </a:moveTo>
                  <a:arcTo wR="10800" hR="10800" stAng="-7026499" swAng="4201110"/>
                </a:path>
              </a:pathLst>
            </a:custGeom>
            <a:gradFill rotWithShape="0">
              <a:gsLst>
                <a:gs pos="0">
                  <a:srgbClr val="3b6696"/>
                </a:gs>
                <a:gs pos="100000">
                  <a:srgbClr val="5a9be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20602200">
              <a:off x="1626480" y="2185920"/>
              <a:ext cx="5701320" cy="293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946" y="828"/>
                  </a:moveTo>
                  <a:arcTo wR="10800" hR="10800" stAng="-4045467" swAng="57948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4946" y="828"/>
                  </a:moveTo>
                  <a:arcTo wR="10800" hR="10800" stAng="-4045467" swAng="5794864"/>
                </a:path>
              </a:pathLst>
            </a:custGeom>
            <a:gradFill rotWithShape="0">
              <a:gsLst>
                <a:gs pos="0">
                  <a:srgbClr val="603c00"/>
                </a:gs>
                <a:gs pos="100000">
                  <a:srgbClr val="d28302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87640" y="3622680"/>
              <a:ext cx="1753920" cy="177804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adb5"/>
                </a:gs>
                <a:gs pos="100000">
                  <a:srgbClr val="5f6d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20539200">
              <a:off x="1243440" y="1583640"/>
              <a:ext cx="6541920" cy="377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808" y="16758"/>
                  </a:moveTo>
                  <a:arcTo wR="10800" hR="10800" stAng="2008784" swAng="28002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9808" y="16758"/>
                  </a:moveTo>
                  <a:arcTo wR="10800" hR="10800" stAng="2008784" swAng="2800242"/>
                </a:path>
              </a:pathLst>
            </a:custGeom>
            <a:gradFill rotWithShape="0">
              <a:gsLst>
                <a:gs pos="0">
                  <a:srgbClr val="97adb5"/>
                </a:gs>
                <a:gs pos="100000">
                  <a:srgbClr val="454f53"/>
                </a:gs>
              </a:gsLst>
              <a:lin ang="145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698720" y="3962520"/>
              <a:ext cx="1028520" cy="147312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97adb5"/>
                </a:gs>
                <a:gs pos="100000">
                  <a:srgbClr val="6d7d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20601600">
              <a:off x="3153960" y="290520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44520" y="3584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49640" y="236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78440" y="2670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3520" y="3889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63840" y="4575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17720" y="4178520"/>
              <a:ext cx="863280" cy="107928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ca051">
                    <a:alpha val="19215"/>
                  </a:srgbClr>
                </a:gs>
                <a:gs pos="100000">
                  <a:srgbClr val="7cbe8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601600">
              <a:off x="3255840" y="3157560"/>
              <a:ext cx="2585520" cy="109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1905120" y="2438280"/>
            <a:ext cx="5530680" cy="274320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97adb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676520" y="16765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051"/>
              </a:gs>
              <a:gs pos="50000">
                <a:srgbClr val="81c18e"/>
              </a:gs>
              <a:gs pos="100000">
                <a:srgbClr val="3ca051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656160" y="304812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914400" y="4311720"/>
            <a:ext cx="1579680" cy="2070000"/>
            <a:chOff x="914400" y="4311720"/>
            <a:chExt cx="1579680" cy="2070000"/>
          </a:xfrm>
        </p:grpSpPr>
        <p:grpSp>
          <p:nvGrpSpPr>
            <p:cNvPr id="440" name=""/>
            <p:cNvGrpSpPr/>
            <p:nvPr/>
          </p:nvGrpSpPr>
          <p:grpSpPr>
            <a:xfrm>
              <a:off x="914400" y="4311720"/>
              <a:ext cx="1486080" cy="1514520"/>
              <a:chOff x="914400" y="4311720"/>
              <a:chExt cx="1486080" cy="151452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914400" y="4311720"/>
                <a:ext cx="1486080" cy="1514520"/>
                <a:chOff x="914400" y="4311720"/>
                <a:chExt cx="1486080" cy="15145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914400" y="4311720"/>
                  <a:ext cx="1486080" cy="1514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8302"/>
                    </a:gs>
                    <a:gs pos="100000">
                      <a:srgbClr val="84520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084320" y="4336560"/>
                  <a:ext cx="1146240" cy="57168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2830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" name=""/>
              <p:cNvSpPr/>
              <p:nvPr/>
            </p:nvSpPr>
            <p:spPr>
              <a:xfrm>
                <a:off x="1072440" y="5082840"/>
                <a:ext cx="115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1440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2819520" y="4311720"/>
            <a:ext cx="1617120" cy="2070000"/>
            <a:chOff x="2819520" y="4311720"/>
            <a:chExt cx="1617120" cy="2070000"/>
          </a:xfrm>
        </p:grpSpPr>
        <p:grpSp>
          <p:nvGrpSpPr>
            <p:cNvPr id="447" name=""/>
            <p:cNvGrpSpPr/>
            <p:nvPr/>
          </p:nvGrpSpPr>
          <p:grpSpPr>
            <a:xfrm>
              <a:off x="2819520" y="4311720"/>
              <a:ext cx="1523520" cy="1521000"/>
              <a:chOff x="2819520" y="4311720"/>
              <a:chExt cx="1523520" cy="1521000"/>
            </a:xfrm>
          </p:grpSpPr>
          <p:sp>
            <p:nvSpPr>
              <p:cNvPr id="448" name=""/>
              <p:cNvSpPr/>
              <p:nvPr/>
            </p:nvSpPr>
            <p:spPr>
              <a:xfrm>
                <a:off x="2819520" y="4311720"/>
                <a:ext cx="1523520" cy="1521000"/>
              </a:xfrm>
              <a:prstGeom prst="ellipse">
                <a:avLst/>
              </a:prstGeom>
              <a:gradFill rotWithShape="0">
                <a:gsLst>
                  <a:gs pos="0">
                    <a:srgbClr val="3ca051"/>
                  </a:gs>
                  <a:gs pos="100000">
                    <a:srgbClr val="1e512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993400" y="433692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ca05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50" name=""/>
            <p:cNvSpPr/>
            <p:nvPr/>
          </p:nvSpPr>
          <p:spPr>
            <a:xfrm>
              <a:off x="2895480" y="50418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5732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876920" y="4267080"/>
            <a:ext cx="1631880" cy="2114640"/>
            <a:chOff x="4876920" y="4267080"/>
            <a:chExt cx="1631880" cy="2114640"/>
          </a:xfrm>
        </p:grpSpPr>
        <p:grpSp>
          <p:nvGrpSpPr>
            <p:cNvPr id="453" name=""/>
            <p:cNvGrpSpPr/>
            <p:nvPr/>
          </p:nvGrpSpPr>
          <p:grpSpPr>
            <a:xfrm>
              <a:off x="4876920" y="4267080"/>
              <a:ext cx="1523880" cy="1521000"/>
              <a:chOff x="4876920" y="4267080"/>
              <a:chExt cx="1523880" cy="1521000"/>
            </a:xfrm>
          </p:grpSpPr>
          <p:sp>
            <p:nvSpPr>
              <p:cNvPr id="454" name=""/>
              <p:cNvSpPr/>
              <p:nvPr/>
            </p:nvSpPr>
            <p:spPr>
              <a:xfrm>
                <a:off x="4876920" y="4267080"/>
                <a:ext cx="1523880" cy="1521000"/>
              </a:xfrm>
              <a:prstGeom prst="ellipse">
                <a:avLst/>
              </a:prstGeom>
              <a:gradFill rotWithShape="0">
                <a:gsLst>
                  <a:gs pos="0">
                    <a:srgbClr val="1f63ad"/>
                  </a:gs>
                  <a:gs pos="100000">
                    <a:srgbClr val="0f32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051160" y="4292280"/>
                <a:ext cx="1175400" cy="57384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1f63a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56" name=""/>
            <p:cNvSpPr/>
            <p:nvPr/>
          </p:nvSpPr>
          <p:spPr>
            <a:xfrm>
              <a:off x="4953240" y="499716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929480" y="5943600"/>
              <a:ext cx="157932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781680" y="4267080"/>
            <a:ext cx="1579680" cy="2114640"/>
            <a:chOff x="6781680" y="4267080"/>
            <a:chExt cx="1579680" cy="2114640"/>
          </a:xfrm>
        </p:grpSpPr>
        <p:grpSp>
          <p:nvGrpSpPr>
            <p:cNvPr id="459" name=""/>
            <p:cNvGrpSpPr/>
            <p:nvPr/>
          </p:nvGrpSpPr>
          <p:grpSpPr>
            <a:xfrm>
              <a:off x="6781680" y="4267080"/>
              <a:ext cx="1523880" cy="1531800"/>
              <a:chOff x="6781680" y="4267080"/>
              <a:chExt cx="1523880" cy="153180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6781680" y="4267080"/>
                <a:ext cx="1523880" cy="1531800"/>
                <a:chOff x="6781680" y="4267080"/>
                <a:chExt cx="1523880" cy="15318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6781680" y="4267080"/>
                  <a:ext cx="1523880" cy="1531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7adb5"/>
                    </a:gs>
                    <a:gs pos="100000">
                      <a:srgbClr val="2429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955920" y="4292280"/>
                  <a:ext cx="1175400" cy="578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7adb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"/>
              <p:cNvSpPr/>
              <p:nvPr/>
            </p:nvSpPr>
            <p:spPr>
              <a:xfrm>
                <a:off x="6924600" y="4980960"/>
                <a:ext cx="120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6781680" y="5943600"/>
              <a:ext cx="1579680" cy="43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209680" y="3048120"/>
            <a:ext cx="4343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56565"/>
                    </a:gs>
                    <a:gs pos="100000">
                      <a:srgbClr val="dddddd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56565"/>
                  </a:gs>
                  <a:gs pos="100000">
                    <a:srgbClr val="dddddd"/>
                  </a:gs>
                </a:gsLst>
                <a:lin ang="10800000"/>
              </a:gradFill>
              <a:effectLst>
                <a:outerShdw dist="71785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09680" y="2057400"/>
            <a:ext cx="4724280" cy="685800"/>
            <a:chOff x="2209680" y="2057400"/>
            <a:chExt cx="4724280" cy="685800"/>
          </a:xfrm>
        </p:grpSpPr>
        <p:sp>
          <p:nvSpPr>
            <p:cNvPr id="90" name=""/>
            <p:cNvSpPr/>
            <p:nvPr/>
          </p:nvSpPr>
          <p:spPr>
            <a:xfrm>
              <a:off x="2590560" y="21765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28302"/>
                </a:gs>
                <a:gs pos="100000">
                  <a:srgbClr val="f4e3c8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9680" y="2057400"/>
              <a:ext cx="685800" cy="685800"/>
            </a:xfrm>
            <a:prstGeom prst="diamond">
              <a:avLst/>
            </a:prstGeom>
            <a:solidFill>
              <a:srgbClr val="d2830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19160" y="22320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65560" y="215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209680" y="2895480"/>
            <a:ext cx="4724280" cy="685800"/>
            <a:chOff x="2209680" y="2895480"/>
            <a:chExt cx="4724280" cy="685800"/>
          </a:xfrm>
        </p:grpSpPr>
        <p:sp>
          <p:nvSpPr>
            <p:cNvPr id="95" name=""/>
            <p:cNvSpPr/>
            <p:nvPr/>
          </p:nvSpPr>
          <p:spPr>
            <a:xfrm>
              <a:off x="2590560" y="30146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1f63ad"/>
                </a:gs>
                <a:gs pos="100000">
                  <a:srgbClr val="ceddec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09680" y="2895480"/>
              <a:ext cx="685800" cy="685800"/>
            </a:xfrm>
            <a:prstGeom prst="diamond">
              <a:avLst/>
            </a:prstGeom>
            <a:solidFill>
              <a:srgbClr val="1f63ad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19160" y="30700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65560" y="2993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209680" y="3733920"/>
            <a:ext cx="4724280" cy="685800"/>
            <a:chOff x="2209680" y="3733920"/>
            <a:chExt cx="4724280" cy="685800"/>
          </a:xfrm>
        </p:grpSpPr>
        <p:sp>
          <p:nvSpPr>
            <p:cNvPr id="100" name=""/>
            <p:cNvSpPr/>
            <p:nvPr/>
          </p:nvSpPr>
          <p:spPr>
            <a:xfrm>
              <a:off x="2590560" y="38530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190b"/>
                </a:gs>
                <a:gs pos="100000">
                  <a:srgbClr val="e8cdca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09680" y="3733920"/>
              <a:ext cx="685800" cy="685800"/>
            </a:xfrm>
            <a:prstGeom prst="diamond">
              <a:avLst/>
            </a:prstGeom>
            <a:solidFill>
              <a:srgbClr val="3ca051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19160" y="39085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65560" y="383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209680" y="4648320"/>
            <a:ext cx="4724280" cy="685800"/>
            <a:chOff x="2209680" y="4648320"/>
            <a:chExt cx="4724280" cy="685800"/>
          </a:xfrm>
        </p:grpSpPr>
        <p:sp>
          <p:nvSpPr>
            <p:cNvPr id="105" name=""/>
            <p:cNvSpPr/>
            <p:nvPr/>
          </p:nvSpPr>
          <p:spPr>
            <a:xfrm>
              <a:off x="2590560" y="47674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7adb5"/>
                </a:gs>
                <a:gs pos="100000">
                  <a:srgbClr val="e8ece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09680" y="4648320"/>
              <a:ext cx="685800" cy="685800"/>
            </a:xfrm>
            <a:prstGeom prst="diamond">
              <a:avLst/>
            </a:prstGeom>
            <a:solidFill>
              <a:srgbClr val="97adb5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19160" y="48229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65560" y="474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11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3ca051"/>
                </a:gs>
                <a:gs pos="100000">
                  <a:srgbClr val="14371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1f63ad"/>
                </a:gs>
                <a:gs pos="100000">
                  <a:srgbClr val="091e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28302"/>
                </a:gs>
                <a:gs pos="100000">
                  <a:srgbClr val="4a2e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7adb5"/>
                </a:gs>
                <a:gs pos="100000">
                  <a:srgbClr val="333b3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129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30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33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0e2d4f"/>
                </a:gs>
                <a:gs pos="50000">
                  <a:srgbClr val="1f63ad"/>
                </a:gs>
                <a:gs pos="100000">
                  <a:srgbClr val="0e2d4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b4925"/>
                </a:gs>
                <a:gs pos="50000">
                  <a:srgbClr val="3ca051"/>
                </a:gs>
                <a:gs pos="100000">
                  <a:srgbClr val="1b492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73000" y="5621400"/>
            <a:ext cx="1657440" cy="14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873000" y="4782960"/>
            <a:ext cx="2438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73000" y="3952800"/>
            <a:ext cx="33530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872640" y="3124080"/>
            <a:ext cx="41655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873000" y="2282760"/>
            <a:ext cx="50342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25640" y="2276640"/>
            <a:ext cx="0" cy="87120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25640" y="3147840"/>
            <a:ext cx="0" cy="81756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5640" y="396540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25640" y="4782960"/>
            <a:ext cx="0" cy="816120"/>
          </a:xfrm>
          <a:prstGeom prst="line">
            <a:avLst/>
          </a:prstGeom>
          <a:ln w="936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62160" y="260028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62160" y="342756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62160" y="429084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62160" y="50976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590920" y="2286000"/>
            <a:ext cx="5825520" cy="3343320"/>
            <a:chOff x="2590920" y="2286000"/>
            <a:chExt cx="5825520" cy="3343320"/>
          </a:xfrm>
        </p:grpSpPr>
        <p:sp>
          <p:nvSpPr>
            <p:cNvPr id="166" name=""/>
            <p:cNvSpPr/>
            <p:nvPr/>
          </p:nvSpPr>
          <p:spPr>
            <a:xfrm>
              <a:off x="7833960" y="2286000"/>
              <a:ext cx="5760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03c00"/>
                </a:gs>
                <a:gs pos="50000">
                  <a:srgbClr val="d28302"/>
                </a:gs>
                <a:gs pos="100000">
                  <a:srgbClr val="603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73480" y="2286000"/>
              <a:ext cx="334296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d28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54720" y="3117960"/>
              <a:ext cx="57564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1b4925"/>
                </a:gs>
                <a:gs pos="50000">
                  <a:srgbClr val="3ca051"/>
                </a:gs>
                <a:gs pos="100000">
                  <a:srgbClr val="1b49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43320" y="3117960"/>
              <a:ext cx="359352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3ca0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73680" y="3949560"/>
              <a:ext cx="57276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f53"/>
                </a:gs>
                <a:gs pos="50000">
                  <a:srgbClr val="97adb5"/>
                </a:gs>
                <a:gs pos="100000">
                  <a:srgbClr val="454f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5880" y="4782960"/>
              <a:ext cx="57744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e2d4f"/>
                </a:gs>
                <a:gs pos="50000">
                  <a:srgbClr val="1f63ad"/>
                </a:gs>
                <a:gs pos="100000">
                  <a:srgbClr val="0e2d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92000" y="4788000"/>
              <a:ext cx="4081320" cy="5396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1f63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84200" y="2440080"/>
              <a:ext cx="1838160" cy="272232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79600" y="2827440"/>
              <a:ext cx="2766960" cy="304560"/>
            </a:xfrm>
            <a:prstGeom prst="rect">
              <a:avLst/>
            </a:prstGeom>
            <a:gradFill rotWithShape="0">
              <a:gsLst>
                <a:gs pos="0">
                  <a:srgbClr val="975e01"/>
                </a:gs>
                <a:gs pos="50000">
                  <a:srgbClr val="d28302"/>
                </a:gs>
                <a:gs pos="100000">
                  <a:srgbClr val="975e0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44760" y="3657600"/>
              <a:ext cx="3015720" cy="298440"/>
            </a:xfrm>
            <a:prstGeom prst="rect">
              <a:avLst/>
            </a:prstGeom>
            <a:gradFill rotWithShape="0">
              <a:gsLst>
                <a:gs pos="0">
                  <a:srgbClr val="2b733a"/>
                </a:gs>
                <a:gs pos="50000">
                  <a:srgbClr val="3ca051"/>
                </a:gs>
                <a:gs pos="100000">
                  <a:srgbClr val="2b733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19280" y="3949560"/>
              <a:ext cx="3833280" cy="54468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7a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2520" y="4492800"/>
              <a:ext cx="3263400" cy="298440"/>
            </a:xfrm>
            <a:prstGeom prst="rect">
              <a:avLst/>
            </a:prstGeom>
            <a:gradFill rotWithShape="0">
              <a:gsLst>
                <a:gs pos="0">
                  <a:srgbClr val="6d7d82"/>
                </a:gs>
                <a:gs pos="50000">
                  <a:srgbClr val="97adb5"/>
                </a:gs>
                <a:gs pos="100000">
                  <a:srgbClr val="6d7d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90920" y="5329080"/>
              <a:ext cx="3512880" cy="297000"/>
            </a:xfrm>
            <a:prstGeom prst="rect">
              <a:avLst/>
            </a:prstGeom>
            <a:gradFill rotWithShape="0">
              <a:gsLst>
                <a:gs pos="0">
                  <a:srgbClr val="16477d"/>
                </a:gs>
                <a:gs pos="50000">
                  <a:srgbClr val="1f63ad"/>
                </a:gs>
                <a:gs pos="100000">
                  <a:srgbClr val="16477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3ca051"/>
              </a:gs>
              <a:gs pos="100000">
                <a:srgbClr val="1f63ad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1d1d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33526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190b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20876400">
            <a:off x="3316320" y="497196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7920" y="375300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68800" y="3762360"/>
            <a:ext cx="1665000" cy="16635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080" y="377820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78240" y="382284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65880" y="43797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826600">
            <a:off x="1473120" y="436212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397160" y="3371760"/>
            <a:ext cx="1371240" cy="1441080"/>
            <a:chOff x="1397160" y="3371760"/>
            <a:chExt cx="1371240" cy="1441080"/>
          </a:xfrm>
        </p:grpSpPr>
        <p:sp>
          <p:nvSpPr>
            <p:cNvPr id="190" name=""/>
            <p:cNvSpPr/>
            <p:nvPr/>
          </p:nvSpPr>
          <p:spPr>
            <a:xfrm>
              <a:off x="1397160" y="337176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15160" y="338004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28120" y="339336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99760" y="343008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7600" y="38779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95280" y="2606760"/>
            <a:ext cx="914400" cy="53316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200016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84200" y="2004840"/>
            <a:ext cx="1000080" cy="10004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95360" y="2016000"/>
            <a:ext cx="951120" cy="9334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49360" y="2041560"/>
            <a:ext cx="847800" cy="7570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68520" y="2349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62120" y="207648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84520" y="1542960"/>
            <a:ext cx="682560" cy="682560"/>
          </a:xfrm>
          <a:prstGeom prst="ellipse">
            <a:avLst/>
          </a:prstGeom>
          <a:gradFill rotWithShape="0">
            <a:gsLst>
              <a:gs pos="0">
                <a:srgbClr val="626768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93880" y="154620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eff3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1552680"/>
            <a:ext cx="633240" cy="622080"/>
          </a:xfrm>
          <a:prstGeom prst="ellipse">
            <a:avLst/>
          </a:prstGeom>
          <a:gradFill rotWithShape="0">
            <a:gsLst>
              <a:gs pos="0">
                <a:srgbClr val="a8b1b2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736720" y="1571760"/>
            <a:ext cx="563760" cy="503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54720" y="176688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1981080"/>
            <a:ext cx="3833640" cy="3834000"/>
          </a:xfrm>
          <a:prstGeom prst="donut">
            <a:avLst>
              <a:gd name="adj" fmla="val 8861"/>
            </a:avLst>
          </a:prstGeom>
          <a:gradFill rotWithShape="0">
            <a:gsLst>
              <a:gs pos="0">
                <a:srgbClr val="769fcc">
                  <a:alpha val="12156"/>
                </a:srgbClr>
              </a:gs>
              <a:gs pos="50000">
                <a:srgbClr val="1f63ad"/>
              </a:gs>
              <a:gs pos="100000">
                <a:srgbClr val="769fcc">
                  <a:alpha val="1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3ca051"/>
              </a:gs>
              <a:gs pos="100000">
                <a:srgbClr val="90c89c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ddddd"/>
              </a:gs>
              <a:gs pos="100000">
                <a:srgbClr val="fcfcfc"/>
              </a:gs>
            </a:gsLst>
            <a:lin ang="10800000"/>
          </a:gradFill>
          <a:ln w="38160">
            <a:solidFill>
              <a:srgbClr val="1f6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og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ca051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3ca051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219320" y="1832040"/>
            <a:ext cx="2170080" cy="4034880"/>
            <a:chOff x="1219320" y="1832040"/>
            <a:chExt cx="2170080" cy="4034880"/>
          </a:xfrm>
        </p:grpSpPr>
        <p:sp>
          <p:nvSpPr>
            <p:cNvPr id="219" name=""/>
            <p:cNvSpPr/>
            <p:nvPr/>
          </p:nvSpPr>
          <p:spPr>
            <a:xfrm>
              <a:off x="121932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5280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7008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7008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2580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270080" y="5020920"/>
              <a:ext cx="207000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963800" y="1832040"/>
              <a:ext cx="642960" cy="642600"/>
              <a:chOff x="1963800" y="1832040"/>
              <a:chExt cx="642960" cy="6426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6380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7028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7820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468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01852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210384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9564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581280" y="1832040"/>
            <a:ext cx="2166840" cy="4034880"/>
            <a:chOff x="3581280" y="1832040"/>
            <a:chExt cx="2166840" cy="4034880"/>
          </a:xfrm>
        </p:grpSpPr>
        <p:sp>
          <p:nvSpPr>
            <p:cNvPr id="234" name=""/>
            <p:cNvSpPr/>
            <p:nvPr/>
          </p:nvSpPr>
          <p:spPr>
            <a:xfrm>
              <a:off x="358128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14760" y="2147760"/>
              <a:ext cx="2098440" cy="280296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51">
                  <a:moveTo>
                    <a:pt x="3600" y="0"/>
                  </a:moveTo>
                  <a:arcTo wR="3600" hR="3600" stAng="16200000" swAng="-5400000"/>
                  <a:lnTo>
                    <a:pt x="0" y="25251"/>
                  </a:lnTo>
                  <a:arcTo wR="3600" hR="3600" stAng="10800000" swAng="-5400000"/>
                  <a:lnTo>
                    <a:pt x="18000" y="288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3204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3204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25760" y="1832040"/>
              <a:ext cx="64296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32240" y="183636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40160" y="1839600"/>
              <a:ext cx="60804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6280" y="1846080"/>
              <a:ext cx="578160" cy="56628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81560" y="1861920"/>
              <a:ext cx="512640" cy="4600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6580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5760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845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288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937120" y="1832040"/>
            <a:ext cx="2170080" cy="4034880"/>
            <a:chOff x="5937120" y="1832040"/>
            <a:chExt cx="2170080" cy="4034880"/>
          </a:xfrm>
        </p:grpSpPr>
        <p:sp>
          <p:nvSpPr>
            <p:cNvPr id="248" name=""/>
            <p:cNvSpPr/>
            <p:nvPr/>
          </p:nvSpPr>
          <p:spPr>
            <a:xfrm>
              <a:off x="5943600" y="2139480"/>
              <a:ext cx="2163600" cy="285732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320"/>
                <a:gd name="textAreaBottom" fmla="*/ 2746440 h 2857320"/>
              </a:gdLst>
              <a:ahLst/>
              <a:rect l="textAreaLeft" t="textAreaTop" r="textAreaRight" b="textAreaBottom"/>
              <a:pathLst>
                <a:path w="21600" h="28525">
                  <a:moveTo>
                    <a:pt x="3782" y="0"/>
                  </a:moveTo>
                  <a:arcTo wR="3782" hR="3782" stAng="16200000" swAng="-5400000"/>
                  <a:lnTo>
                    <a:pt x="0" y="24743"/>
                  </a:lnTo>
                  <a:arcTo wR="3782" hR="3782" stAng="10800000" swAng="-5400000"/>
                  <a:lnTo>
                    <a:pt x="17818" y="2852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76720" y="2147760"/>
              <a:ext cx="2098800" cy="280296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2960"/>
                <a:gd name="textAreaBottom" fmla="*/ 2700720 h 2802960"/>
              </a:gdLst>
              <a:ahLst/>
              <a:rect l="textAreaLeft" t="textAreaTop" r="textAreaRight" b="textAreaBottom"/>
              <a:pathLst>
                <a:path w="21600" h="28846">
                  <a:moveTo>
                    <a:pt x="3600" y="0"/>
                  </a:moveTo>
                  <a:arcTo wR="3600" hR="3600" stAng="16200000" swAng="-5400000"/>
                  <a:lnTo>
                    <a:pt x="0" y="25246"/>
                  </a:lnTo>
                  <a:arcTo wR="3600" hR="3600" stAng="10800000" swAng="-5400000"/>
                  <a:lnTo>
                    <a:pt x="18000" y="288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94360" y="4211280"/>
              <a:ext cx="207000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94360" y="2169720"/>
              <a:ext cx="207000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6688080" y="1832040"/>
              <a:ext cx="642960" cy="642600"/>
              <a:chOff x="6688080" y="1832040"/>
              <a:chExt cx="642960" cy="642600"/>
            </a:xfrm>
          </p:grpSpPr>
          <p:sp>
            <p:nvSpPr>
              <p:cNvPr id="253" name=""/>
              <p:cNvSpPr/>
              <p:nvPr/>
            </p:nvSpPr>
            <p:spPr>
              <a:xfrm>
                <a:off x="6688080" y="1832040"/>
                <a:ext cx="64296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94560" y="1836720"/>
                <a:ext cx="621720" cy="6224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02480" y="18406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08960" y="1846080"/>
                <a:ext cx="577440" cy="5662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42800" y="1861920"/>
                <a:ext cx="513000" cy="460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6828120" y="19238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19560" y="259380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37120" y="4997160"/>
              <a:ext cx="2163600" cy="8697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81400" y="5020920"/>
              <a:ext cx="2070360" cy="772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547560"/>
            <a:ext cx="7391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3238560"/>
            <a:ext cx="9144000" cy="122040"/>
            <a:chOff x="0" y="3238560"/>
            <a:chExt cx="9144000" cy="122040"/>
          </a:xfrm>
        </p:grpSpPr>
        <p:sp>
          <p:nvSpPr>
            <p:cNvPr id="264" name=""/>
            <p:cNvSpPr/>
            <p:nvPr/>
          </p:nvSpPr>
          <p:spPr>
            <a:xfrm>
              <a:off x="0" y="3238560"/>
              <a:ext cx="9144000" cy="47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3285360"/>
              <a:ext cx="9144000" cy="75240"/>
            </a:xfrm>
            <a:prstGeom prst="rect">
              <a:avLst/>
            </a:prstGeom>
            <a:gradFill rotWithShape="0">
              <a:gsLst>
                <a:gs pos="0">
                  <a:srgbClr val="cdcdcd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721760" y="3529440"/>
            <a:ext cx="1523160" cy="2421720"/>
            <a:chOff x="4721760" y="3529440"/>
            <a:chExt cx="1523160" cy="2421720"/>
          </a:xfrm>
        </p:grpSpPr>
        <p:grpSp>
          <p:nvGrpSpPr>
            <p:cNvPr id="267" name=""/>
            <p:cNvGrpSpPr/>
            <p:nvPr/>
          </p:nvGrpSpPr>
          <p:grpSpPr>
            <a:xfrm>
              <a:off x="4721760" y="3686760"/>
              <a:ext cx="1418400" cy="2264400"/>
              <a:chOff x="4721760" y="3686760"/>
              <a:chExt cx="1418400" cy="2264400"/>
            </a:xfrm>
          </p:grpSpPr>
          <p:sp>
            <p:nvSpPr>
              <p:cNvPr id="268" name=""/>
              <p:cNvSpPr/>
              <p:nvPr/>
            </p:nvSpPr>
            <p:spPr>
              <a:xfrm rot="3876600">
                <a:off x="429408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3876600">
                <a:off x="565992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156640" y="3529440"/>
              <a:ext cx="1088280" cy="1737360"/>
              <a:chOff x="5156640" y="3529440"/>
              <a:chExt cx="1088280" cy="1737360"/>
            </a:xfrm>
          </p:grpSpPr>
          <p:sp>
            <p:nvSpPr>
              <p:cNvPr id="271" name=""/>
              <p:cNvSpPr/>
              <p:nvPr/>
            </p:nvSpPr>
            <p:spPr>
              <a:xfrm flipV="1" rot="3876600">
                <a:off x="482832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 rot="3876600">
                <a:off x="586116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273" name=""/>
          <p:cNvGrpSpPr/>
          <p:nvPr/>
        </p:nvGrpSpPr>
        <p:grpSpPr>
          <a:xfrm>
            <a:off x="4313160" y="2685960"/>
            <a:ext cx="1270080" cy="1308240"/>
            <a:chOff x="4313160" y="2685960"/>
            <a:chExt cx="1270080" cy="1308240"/>
          </a:xfrm>
        </p:grpSpPr>
        <p:sp>
          <p:nvSpPr>
            <p:cNvPr id="274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13160" y="2685960"/>
              <a:ext cx="12700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97040" y="277092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97040" y="2773800"/>
              <a:ext cx="110160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51760" y="2828880"/>
              <a:ext cx="99252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4466880" y="2844360"/>
              <a:ext cx="961920" cy="992160"/>
              <a:chOff x="4466880" y="2844360"/>
              <a:chExt cx="961920" cy="992160"/>
            </a:xfrm>
          </p:grpSpPr>
          <p:sp>
            <p:nvSpPr>
              <p:cNvPr id="280" name=""/>
              <p:cNvSpPr/>
              <p:nvPr/>
            </p:nvSpPr>
            <p:spPr>
              <a:xfrm>
                <a:off x="4466880" y="2844360"/>
                <a:ext cx="96192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79120" y="2849760"/>
                <a:ext cx="93888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488840" y="2859120"/>
                <a:ext cx="89280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541400" y="2884680"/>
                <a:ext cx="79344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6688800" y="3595680"/>
            <a:ext cx="1523880" cy="2422080"/>
            <a:chOff x="6688800" y="3595680"/>
            <a:chExt cx="1523880" cy="2422080"/>
          </a:xfrm>
        </p:grpSpPr>
        <p:grpSp>
          <p:nvGrpSpPr>
            <p:cNvPr id="285" name=""/>
            <p:cNvGrpSpPr/>
            <p:nvPr/>
          </p:nvGrpSpPr>
          <p:grpSpPr>
            <a:xfrm>
              <a:off x="6688800" y="3753360"/>
              <a:ext cx="1418760" cy="2264400"/>
              <a:chOff x="6688800" y="3753360"/>
              <a:chExt cx="1418760" cy="2264400"/>
            </a:xfrm>
          </p:grpSpPr>
          <p:sp>
            <p:nvSpPr>
              <p:cNvPr id="286" name=""/>
              <p:cNvSpPr/>
              <p:nvPr/>
            </p:nvSpPr>
            <p:spPr>
              <a:xfrm rot="3876600">
                <a:off x="6261120" y="46396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3876600">
                <a:off x="7627320" y="55180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7124040" y="3595680"/>
              <a:ext cx="1088640" cy="1737720"/>
              <a:chOff x="7124040" y="3595680"/>
              <a:chExt cx="1088640" cy="1737720"/>
            </a:xfrm>
          </p:grpSpPr>
          <p:sp>
            <p:nvSpPr>
              <p:cNvPr id="289" name=""/>
              <p:cNvSpPr/>
              <p:nvPr/>
            </p:nvSpPr>
            <p:spPr>
              <a:xfrm flipV="1" rot="3876600">
                <a:off x="6795720" y="42757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 rot="3876600">
                <a:off x="7828560" y="49564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89760" y="2541600"/>
            <a:ext cx="1523880" cy="15685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91280" y="2644920"/>
            <a:ext cx="1324080" cy="136188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92720" y="2647800"/>
            <a:ext cx="1324080" cy="136224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256440" y="2712960"/>
            <a:ext cx="1191960" cy="12258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275520" y="2732040"/>
            <a:ext cx="1155600" cy="1189080"/>
            <a:chOff x="6275520" y="2732040"/>
            <a:chExt cx="1155600" cy="1189080"/>
          </a:xfrm>
        </p:grpSpPr>
        <p:sp>
          <p:nvSpPr>
            <p:cNvPr id="297" name=""/>
            <p:cNvSpPr/>
            <p:nvPr/>
          </p:nvSpPr>
          <p:spPr>
            <a:xfrm>
              <a:off x="6275520" y="2732040"/>
              <a:ext cx="1155600" cy="11890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90280" y="2738520"/>
              <a:ext cx="1127880" cy="11595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02160" y="2750040"/>
              <a:ext cx="1072440" cy="10836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64800" y="2780280"/>
              <a:ext cx="953280" cy="8791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916720" y="3529440"/>
            <a:ext cx="1523160" cy="2421720"/>
            <a:chOff x="2916720" y="3529440"/>
            <a:chExt cx="1523160" cy="2421720"/>
          </a:xfrm>
        </p:grpSpPr>
        <p:grpSp>
          <p:nvGrpSpPr>
            <p:cNvPr id="302" name=""/>
            <p:cNvGrpSpPr/>
            <p:nvPr/>
          </p:nvGrpSpPr>
          <p:grpSpPr>
            <a:xfrm>
              <a:off x="2916720" y="3686760"/>
              <a:ext cx="1418400" cy="2264400"/>
              <a:chOff x="2916720" y="3686760"/>
              <a:chExt cx="1418400" cy="2264400"/>
            </a:xfrm>
          </p:grpSpPr>
          <p:sp>
            <p:nvSpPr>
              <p:cNvPr id="303" name=""/>
              <p:cNvSpPr/>
              <p:nvPr/>
            </p:nvSpPr>
            <p:spPr>
              <a:xfrm rot="3876600">
                <a:off x="2489040" y="4573080"/>
                <a:ext cx="2273400" cy="4910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876600">
                <a:off x="385488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351600" y="3529440"/>
              <a:ext cx="1088280" cy="1737360"/>
              <a:chOff x="3351600" y="3529440"/>
              <a:chExt cx="1088280" cy="1737360"/>
            </a:xfrm>
          </p:grpSpPr>
          <p:sp>
            <p:nvSpPr>
              <p:cNvPr id="306" name=""/>
              <p:cNvSpPr/>
              <p:nvPr/>
            </p:nvSpPr>
            <p:spPr>
              <a:xfrm flipV="1" rot="3876600">
                <a:off x="3023280" y="4209840"/>
                <a:ext cx="1744560" cy="376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 rot="3876600">
                <a:off x="4056120" y="4889880"/>
                <a:ext cx="273960" cy="3081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308" name=""/>
          <p:cNvGrpSpPr/>
          <p:nvPr/>
        </p:nvGrpSpPr>
        <p:grpSpPr>
          <a:xfrm>
            <a:off x="2509920" y="2685960"/>
            <a:ext cx="1268280" cy="1308240"/>
            <a:chOff x="2509920" y="2685960"/>
            <a:chExt cx="1268280" cy="1308240"/>
          </a:xfrm>
        </p:grpSpPr>
        <p:sp>
          <p:nvSpPr>
            <p:cNvPr id="309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099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938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938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481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663640" y="2844360"/>
              <a:ext cx="960480" cy="992160"/>
              <a:chOff x="2663640" y="2844360"/>
              <a:chExt cx="960480" cy="992160"/>
            </a:xfrm>
          </p:grpSpPr>
          <p:sp>
            <p:nvSpPr>
              <p:cNvPr id="315" name=""/>
              <p:cNvSpPr/>
              <p:nvPr/>
            </p:nvSpPr>
            <p:spPr>
              <a:xfrm>
                <a:off x="26636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6758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6856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7378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1170720" y="3529080"/>
            <a:ext cx="1523880" cy="2422080"/>
            <a:chOff x="1170720" y="3529080"/>
            <a:chExt cx="1523880" cy="2422080"/>
          </a:xfrm>
        </p:grpSpPr>
        <p:grpSp>
          <p:nvGrpSpPr>
            <p:cNvPr id="320" name=""/>
            <p:cNvGrpSpPr/>
            <p:nvPr/>
          </p:nvGrpSpPr>
          <p:grpSpPr>
            <a:xfrm>
              <a:off x="1170720" y="3686760"/>
              <a:ext cx="1418760" cy="2264400"/>
              <a:chOff x="1170720" y="3686760"/>
              <a:chExt cx="1418760" cy="2264400"/>
            </a:xfrm>
          </p:grpSpPr>
          <p:sp>
            <p:nvSpPr>
              <p:cNvPr id="321" name=""/>
              <p:cNvSpPr/>
              <p:nvPr/>
            </p:nvSpPr>
            <p:spPr>
              <a:xfrm rot="3876600">
                <a:off x="743040" y="4573080"/>
                <a:ext cx="2273400" cy="4914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3876600">
                <a:off x="2109240" y="5451480"/>
                <a:ext cx="357120" cy="4021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605960" y="3529080"/>
              <a:ext cx="1088640" cy="1737720"/>
              <a:chOff x="1605960" y="3529080"/>
              <a:chExt cx="1088640" cy="1737720"/>
            </a:xfrm>
          </p:grpSpPr>
          <p:sp>
            <p:nvSpPr>
              <p:cNvPr id="324" name=""/>
              <p:cNvSpPr/>
              <p:nvPr/>
            </p:nvSpPr>
            <p:spPr>
              <a:xfrm flipV="1" rot="3876600">
                <a:off x="1277640" y="4209120"/>
                <a:ext cx="1744560" cy="3769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 rot="3876600">
                <a:off x="2310480" y="4889880"/>
                <a:ext cx="273960" cy="3085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762120" y="2685960"/>
            <a:ext cx="1268280" cy="1308240"/>
            <a:chOff x="762120" y="2685960"/>
            <a:chExt cx="1268280" cy="1308240"/>
          </a:xfrm>
        </p:grpSpPr>
        <p:sp>
          <p:nvSpPr>
            <p:cNvPr id="327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62120" y="2685960"/>
              <a:ext cx="1268280" cy="13082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46000" y="277092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46000" y="2773800"/>
              <a:ext cx="1100160" cy="113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00360" y="2828880"/>
              <a:ext cx="991080" cy="102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915840" y="2844360"/>
              <a:ext cx="960480" cy="992160"/>
              <a:chOff x="915840" y="2844360"/>
              <a:chExt cx="960480" cy="992160"/>
            </a:xfrm>
          </p:grpSpPr>
          <p:sp>
            <p:nvSpPr>
              <p:cNvPr id="333" name=""/>
              <p:cNvSpPr/>
              <p:nvPr/>
            </p:nvSpPr>
            <p:spPr>
              <a:xfrm>
                <a:off x="915840" y="2844360"/>
                <a:ext cx="960480" cy="9921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28080" y="2849760"/>
                <a:ext cx="937440" cy="9676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937800" y="2859120"/>
                <a:ext cx="891360" cy="903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990000" y="2884680"/>
                <a:ext cx="792360" cy="7336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"/>
          <p:cNvSpPr/>
          <p:nvPr/>
        </p:nvSpPr>
        <p:spPr>
          <a:xfrm rot="3925800">
            <a:off x="112680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3925800">
            <a:off x="159120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3925800">
            <a:off x="286812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3925800">
            <a:off x="33328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3925800">
            <a:off x="4681080" y="45014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3925800">
            <a:off x="5145480" y="4225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3925800">
            <a:off x="6633720" y="4644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3925800">
            <a:off x="7096680" y="4368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101600" y="1828800"/>
            <a:ext cx="6056640" cy="407880"/>
            <a:chOff x="1101600" y="1828800"/>
            <a:chExt cx="6056640" cy="407880"/>
          </a:xfrm>
        </p:grpSpPr>
        <p:sp>
          <p:nvSpPr>
            <p:cNvPr id="346" name=""/>
            <p:cNvSpPr/>
            <p:nvPr/>
          </p:nvSpPr>
          <p:spPr>
            <a:xfrm>
              <a:off x="110160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190b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55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190b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01880" y="186840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190b"/>
                  </a:solidFill>
                  <a:latin typeface="Verdana"/>
                </a:rPr>
                <a:t>20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92160" y="1828800"/>
              <a:ext cx="76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190b"/>
                  </a:solidFill>
                  <a:latin typeface="Verdana"/>
                </a:rPr>
                <a:t>2004</a:t>
              </a:r>
              <a:endParaRPr b="0" lang="en-US" sz="2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cxnSp>
          <p:nvCxnSpPr>
            <p:cNvPr id="350" name=""/>
            <p:cNvCxnSpPr>
              <a:stCxn id="346" idx="3"/>
              <a:endCxn id="347" idx="1"/>
            </p:cNvCxnSpPr>
            <p:nvPr/>
          </p:nvCxnSpPr>
          <p:spPr>
            <a:xfrm>
              <a:off x="1837800" y="2052360"/>
              <a:ext cx="98676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  <p:cxnSp>
          <p:nvCxnSpPr>
            <p:cNvPr id="351" name=""/>
            <p:cNvCxnSpPr>
              <a:stCxn id="347" idx="3"/>
              <a:endCxn id="348" idx="1"/>
            </p:cNvCxnSpPr>
            <p:nvPr/>
          </p:nvCxnSpPr>
          <p:spPr>
            <a:xfrm>
              <a:off x="3592440" y="2052360"/>
              <a:ext cx="97848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  <p:cxnSp>
          <p:nvCxnSpPr>
            <p:cNvPr id="352" name=""/>
            <p:cNvCxnSpPr/>
            <p:nvPr/>
          </p:nvCxnSpPr>
          <p:spPr>
            <a:xfrm>
              <a:off x="5338800" y="2057040"/>
              <a:ext cx="978480" cy="1080"/>
            </a:xfrm>
            <a:prstGeom prst="straightConnector1">
              <a:avLst/>
            </a:prstGeom>
            <a:ln w="9360">
              <a:solidFill>
                <a:srgbClr val="99190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/>
  <dc:description/>
  <cp:keywords>幻灯片之家 http:/www.eeppt.com</cp:keywords>
  <dc:language>en-US</dc:language>
  <cp:lastModifiedBy/>
  <dcterms:modified xsi:type="dcterms:W3CDTF">2015-07-05T03:14:21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