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1F4E4-910A-40B1-9FDD-EF8214AD9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B363-4B61-4CF6-8DB1-56B91B51A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15DF-0AF1-4120-8939-F01285A6B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DBDB-626C-4B7B-A2DA-A7DD27CFE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7200" y="318960"/>
            <a:ext cx="7162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605DC-6A68-4829-BF7E-8345D9B5B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1893-71FB-44A5-A8A3-97E79B265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B9137-0041-48BF-8B0D-388FEEF61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722AA-2A5F-401E-AA75-56E0FC423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47200" y="318960"/>
            <a:ext cx="7162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DAF01-5D04-4672-895F-71BAA13F6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D979-CDF0-49FA-9668-057A16E7E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7EC5C-68CD-4B3D-9C41-516FEE354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60E84-5789-4A7E-84F8-834C63EFC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-27000"/>
            <a:ext cx="9144000" cy="692280"/>
          </a:xfrm>
          <a:prstGeom prst="rect">
            <a:avLst/>
          </a:prstGeom>
          <a:solidFill>
            <a:srgbClr val="497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233280"/>
            <a:ext cx="7488360" cy="720720"/>
          </a:xfrm>
          <a:prstGeom prst="roundRect">
            <a:avLst>
              <a:gd name="adj" fmla="val 16667"/>
            </a:avLst>
          </a:prstGeom>
          <a:solidFill>
            <a:srgbClr val="23387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94324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3387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387d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657240" y="6386040"/>
            <a:ext cx="2133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3387d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2421-AFED-4D0D-AF21-F0C987839B4C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8153280" y="2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5400000">
            <a:off x="8397720" y="-136440"/>
            <a:ext cx="284040" cy="75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a9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253040" y="0"/>
            <a:ext cx="4890960" cy="4437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9360"/>
            <a:ext cx="1476360" cy="684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0" y="4266720"/>
            <a:ext cx="9144000" cy="1106640"/>
          </a:xfrm>
          <a:prstGeom prst="rect">
            <a:avLst/>
          </a:prstGeom>
          <a:solidFill>
            <a:srgbClr val="497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4920" y="5156280"/>
            <a:ext cx="7129440" cy="504720"/>
          </a:xfrm>
          <a:prstGeom prst="roundRect">
            <a:avLst>
              <a:gd name="adj" fmla="val 16667"/>
            </a:avLst>
          </a:prstGeom>
          <a:solidFill>
            <a:srgbClr val="23387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87d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54480" y="6087960"/>
            <a:ext cx="1079640" cy="605160"/>
            <a:chOff x="4254480" y="6087960"/>
            <a:chExt cx="1079640" cy="605160"/>
          </a:xfrm>
        </p:grpSpPr>
        <p:sp>
          <p:nvSpPr>
            <p:cNvPr id="52" name=""/>
            <p:cNvSpPr/>
            <p:nvPr/>
          </p:nvSpPr>
          <p:spPr>
            <a:xfrm>
              <a:off x="4254480" y="6264000"/>
              <a:ext cx="107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1a3d97"/>
                  </a:solidFill>
                  <a:latin typeface="Verdana"/>
                </a:rPr>
                <a:t>LOGO</a:t>
              </a:r>
              <a:endParaRPr b="0" lang="en-US" sz="22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648320" y="57942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a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3387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3387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3387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87d"/>
                </a:solidFill>
                <a:latin typeface="Verdana"/>
              </a:rPr>
              <a:t>国外免费</a:t>
            </a:r>
            <a:r>
              <a:rPr b="1" lang="zh-CN" sz="4000" spc="-1" strike="noStrike">
                <a:solidFill>
                  <a:srgbClr val="23387d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23387d"/>
                </a:solidFill>
                <a:latin typeface="Verdana"/>
              </a:rPr>
              <a:t>模板</a:t>
            </a: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14600" y="5223960"/>
            <a:ext cx="6858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6b1e6"/>
              </a:gs>
              <a:gs pos="100000">
                <a:srgbClr val="4972b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d97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344" name="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437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567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283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386000"/>
            <a:ext cx="8381880" cy="4709520"/>
            <a:chOff x="457200" y="1386000"/>
            <a:chExt cx="8381880" cy="4709520"/>
          </a:xfrm>
        </p:grpSpPr>
        <p:sp>
          <p:nvSpPr>
            <p:cNvPr id="363" name=""/>
            <p:cNvSpPr/>
            <p:nvPr/>
          </p:nvSpPr>
          <p:spPr>
            <a:xfrm>
              <a:off x="2590920" y="213336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96b1e6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497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3581280" y="3124080"/>
              <a:ext cx="2057400" cy="2133000"/>
              <a:chOff x="3581280" y="3124080"/>
              <a:chExt cx="2057400" cy="2133000"/>
            </a:xfrm>
          </p:grpSpPr>
          <p:sp>
            <p:nvSpPr>
              <p:cNvPr id="365" name=""/>
              <p:cNvSpPr/>
              <p:nvPr/>
            </p:nvSpPr>
            <p:spPr>
              <a:xfrm>
                <a:off x="3581280" y="3124080"/>
                <a:ext cx="2057400" cy="21330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2338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16360" y="3159360"/>
                <a:ext cx="1587240" cy="804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3952080" y="3962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4191120" y="1752480"/>
              <a:ext cx="685800" cy="658440"/>
              <a:chOff x="4191120" y="1752480"/>
              <a:chExt cx="685800" cy="65844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4191120" y="1752480"/>
                <a:ext cx="685800" cy="658440"/>
                <a:chOff x="4191120" y="1752480"/>
                <a:chExt cx="685800" cy="65844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4191120" y="1752480"/>
                  <a:ext cx="685800" cy="65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9d8"/>
                    </a:gs>
                    <a:gs pos="100000">
                      <a:srgbClr val="2c405b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a99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4356000" y="18536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3524760" y="5037840"/>
              <a:ext cx="368280" cy="334080"/>
              <a:chOff x="3524760" y="5037840"/>
              <a:chExt cx="368280" cy="334080"/>
            </a:xfrm>
          </p:grpSpPr>
          <p:sp>
            <p:nvSpPr>
              <p:cNvPr id="374" name=""/>
              <p:cNvSpPr/>
              <p:nvPr/>
            </p:nvSpPr>
            <p:spPr>
              <a:xfrm rot="18226800">
                <a:off x="3553560" y="5208840"/>
                <a:ext cx="131040" cy="139320"/>
              </a:xfrm>
              <a:prstGeom prst="ellipse">
                <a:avLst/>
              </a:prstGeom>
              <a:gradFill rotWithShape="0">
                <a:gsLst>
                  <a:gs pos="0">
                    <a:srgbClr val="99c25c"/>
                  </a:gs>
                  <a:gs pos="100000">
                    <a:srgbClr val="65803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226800">
                <a:off x="3732480" y="5061240"/>
                <a:ext cx="131400" cy="139320"/>
              </a:xfrm>
              <a:prstGeom prst="ellipse">
                <a:avLst/>
              </a:prstGeom>
              <a:gradFill rotWithShape="0">
                <a:gsLst>
                  <a:gs pos="0">
                    <a:srgbClr val="99c25c"/>
                  </a:gs>
                  <a:gs pos="100000">
                    <a:srgbClr val="65803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2895480" y="5329080"/>
              <a:ext cx="685800" cy="685440"/>
              <a:chOff x="2895480" y="5329080"/>
              <a:chExt cx="685800" cy="68544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2895480" y="5329080"/>
                <a:ext cx="685800" cy="685440"/>
                <a:chOff x="2895480" y="5329080"/>
                <a:chExt cx="685800" cy="6854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895480" y="5329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25c"/>
                    </a:gs>
                    <a:gs pos="100000">
                      <a:srgbClr val="252e1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973600" y="5340240"/>
                  <a:ext cx="529200" cy="258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2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>
                <a:off x="3053880" y="5457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251400" y="3124080"/>
              <a:ext cx="682560" cy="693360"/>
              <a:chOff x="6251400" y="3124080"/>
              <a:chExt cx="682560" cy="69336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6251400" y="3124080"/>
                <a:ext cx="682560" cy="693360"/>
                <a:chOff x="6251400" y="3124080"/>
                <a:chExt cx="682560" cy="6933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251400" y="3124080"/>
                  <a:ext cx="682560" cy="69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b1e6"/>
                    </a:gs>
                    <a:gs pos="100000">
                      <a:srgbClr val="c1d1e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329160" y="3135240"/>
                  <a:ext cx="52668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b1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6396840" y="32191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638680" y="5333760"/>
              <a:ext cx="654120" cy="622080"/>
              <a:chOff x="5638680" y="5333760"/>
              <a:chExt cx="654120" cy="62208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5638680" y="5333760"/>
                <a:ext cx="654120" cy="622080"/>
                <a:chOff x="5638680" y="5333760"/>
                <a:chExt cx="654120" cy="6220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5638680" y="533376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4646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713200" y="534384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5794920" y="536688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362320" y="3124080"/>
              <a:ext cx="685800" cy="685440"/>
              <a:chOff x="2362320" y="3124080"/>
              <a:chExt cx="685800" cy="68544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2362320" y="3124080"/>
                <a:ext cx="685800" cy="685440"/>
                <a:chOff x="2362320" y="3124080"/>
                <a:chExt cx="685800" cy="6854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362320" y="3124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72bb"/>
                    </a:gs>
                    <a:gs pos="100000">
                      <a:srgbClr val="21335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440440" y="3135240"/>
                  <a:ext cx="529200" cy="258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72b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" name=""/>
              <p:cNvSpPr/>
              <p:nvPr/>
            </p:nvSpPr>
            <p:spPr>
              <a:xfrm>
                <a:off x="2523240" y="32000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 rot="18226800">
              <a:off x="5563440" y="5173920"/>
              <a:ext cx="129600" cy="137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8226800">
              <a:off x="5411160" y="502092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099240" y="3553560"/>
              <a:ext cx="416160" cy="261000"/>
              <a:chOff x="3099240" y="3553560"/>
              <a:chExt cx="416160" cy="261000"/>
            </a:xfrm>
          </p:grpSpPr>
          <p:sp>
            <p:nvSpPr>
              <p:cNvPr id="399" name=""/>
              <p:cNvSpPr/>
              <p:nvPr/>
            </p:nvSpPr>
            <p:spPr>
              <a:xfrm rot="18226800">
                <a:off x="3127680" y="3577320"/>
                <a:ext cx="132120" cy="139320"/>
              </a:xfrm>
              <a:prstGeom prst="ellipse">
                <a:avLst/>
              </a:prstGeom>
              <a:gradFill rotWithShape="0">
                <a:gsLst>
                  <a:gs pos="0">
                    <a:srgbClr val="4972bb"/>
                  </a:gs>
                  <a:gs pos="100000">
                    <a:srgbClr val="29416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8226800">
                <a:off x="3354840" y="3651120"/>
                <a:ext cx="131760" cy="139320"/>
              </a:xfrm>
              <a:prstGeom prst="ellipse">
                <a:avLst/>
              </a:prstGeom>
              <a:gradFill rotWithShape="0">
                <a:gsLst>
                  <a:gs pos="0">
                    <a:srgbClr val="4972bb"/>
                  </a:gs>
                  <a:gs pos="100000">
                    <a:srgbClr val="23375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4470840" y="2531520"/>
              <a:ext cx="187920" cy="466920"/>
              <a:chOff x="4470840" y="2531520"/>
              <a:chExt cx="187920" cy="466920"/>
            </a:xfrm>
          </p:grpSpPr>
          <p:sp>
            <p:nvSpPr>
              <p:cNvPr id="402" name=""/>
              <p:cNvSpPr/>
              <p:nvPr/>
            </p:nvSpPr>
            <p:spPr>
              <a:xfrm rot="18226800">
                <a:off x="4498920" y="2555280"/>
                <a:ext cx="131040" cy="138240"/>
              </a:xfrm>
              <a:prstGeom prst="ellipse">
                <a:avLst/>
              </a:prstGeom>
              <a:gradFill rotWithShape="0">
                <a:gsLst>
                  <a:gs pos="0">
                    <a:srgbClr val="6a99d8"/>
                  </a:gs>
                  <a:gs pos="100000">
                    <a:srgbClr val="30456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8226800">
                <a:off x="4498920" y="2836080"/>
                <a:ext cx="131040" cy="138240"/>
              </a:xfrm>
              <a:prstGeom prst="ellipse">
                <a:avLst/>
              </a:prstGeom>
              <a:gradFill rotWithShape="0">
                <a:gsLst>
                  <a:gs pos="0">
                    <a:srgbClr val="6a99d8"/>
                  </a:gs>
                  <a:gs pos="100000">
                    <a:srgbClr val="334a6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 rot="18226800">
              <a:off x="5963400" y="36018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aec3eb"/>
                </a:gs>
                <a:gs pos="100000">
                  <a:srgbClr val="96b1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8226800">
              <a:off x="5715720" y="37256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aec3eb"/>
                </a:gs>
                <a:gs pos="100000">
                  <a:srgbClr val="96b1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7200" y="3276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3d97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3d97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3d97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380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3d97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244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3d97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09480" y="647712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6b1e6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23387d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96b1e6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14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21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29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43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48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59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62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63" name="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66" name="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69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75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80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81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84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92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97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98" name="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501" name="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04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510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15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16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19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22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528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8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8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8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8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541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3d97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3d97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3d97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a3d97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  <p:cxnSp>
          <p:nvCxnSpPr>
            <p:cNvPr id="545" name=""/>
            <p:cNvCxnSpPr>
              <a:stCxn id="541" idx="3"/>
              <a:endCxn id="542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1a3d97"/>
              </a:solidFill>
              <a:miter/>
              <a:tailEnd len="med" type="triangle" w="med"/>
            </a:ln>
          </p:spPr>
        </p:cxnSp>
        <p:cxnSp>
          <p:nvCxnSpPr>
            <p:cNvPr id="546" name=""/>
            <p:cNvCxnSpPr>
              <a:stCxn id="542" idx="3"/>
              <a:endCxn id="543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1a3d97"/>
              </a:solidFill>
              <a:miter/>
              <a:tailEnd len="med" type="triangle" w="med"/>
            </a:ln>
          </p:spPr>
        </p:cxnSp>
        <p:cxnSp>
          <p:nvCxnSpPr>
            <p:cNvPr id="547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1a3d97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512280" y="563400"/>
            <a:ext cx="7379280" cy="5581080"/>
            <a:chOff x="512280" y="563400"/>
            <a:chExt cx="7379280" cy="5581080"/>
          </a:xfrm>
        </p:grpSpPr>
        <p:sp>
          <p:nvSpPr>
            <p:cNvPr id="549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14695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1385640" y="2176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6b1e6"/>
                </a:gs>
                <a:gs pos="100000">
                  <a:srgbClr val="bbcce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4972bb"/>
                </a:gs>
                <a:gs pos="100000">
                  <a:srgbClr val="324f82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d1ddf3"/>
                </a:gs>
                <a:gs pos="100000">
                  <a:srgbClr val="96b1e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rot="20602200">
              <a:off x="1403280" y="218592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304663"/>
                </a:gs>
                <a:gs pos="100000">
                  <a:srgbClr val="6a99d8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26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94160" y="41785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6b1e6">
                    <a:alpha val="19215"/>
                  </a:srgbClr>
                </a:gs>
                <a:gs pos="100000">
                  <a:srgbClr val="b8ca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25c"/>
                </a:gs>
                <a:gs pos="100000">
                  <a:srgbClr val="b4d1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539200">
              <a:off x="930600" y="146736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576f34"/>
                </a:gs>
                <a:gs pos="100000">
                  <a:srgbClr val="99c25c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91000" y="3983040"/>
              <a:ext cx="924120" cy="131148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bdd796"/>
                </a:gs>
                <a:gs pos="100000">
                  <a:srgbClr val="99c2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0601600">
              <a:off x="3032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4972bb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a3d97"/>
              </a:gs>
              <a:gs pos="50000">
                <a:srgbClr val="6b81bb"/>
              </a:gs>
              <a:gs pos="100000">
                <a:srgbClr val="1a3d9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914400" y="4235400"/>
            <a:ext cx="1579680" cy="2070000"/>
            <a:chOff x="914400" y="4235400"/>
            <a:chExt cx="1579680" cy="2070000"/>
          </a:xfrm>
        </p:grpSpPr>
        <p:grpSp>
          <p:nvGrpSpPr>
            <p:cNvPr id="573" name=""/>
            <p:cNvGrpSpPr/>
            <p:nvPr/>
          </p:nvGrpSpPr>
          <p:grpSpPr>
            <a:xfrm>
              <a:off x="914400" y="4235400"/>
              <a:ext cx="1486080" cy="1514520"/>
              <a:chOff x="914400" y="4235400"/>
              <a:chExt cx="1486080" cy="151452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914400" y="4235400"/>
                <a:ext cx="1486080" cy="1514520"/>
                <a:chOff x="914400" y="4235400"/>
                <a:chExt cx="1486080" cy="15145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914400" y="423540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9d8"/>
                    </a:gs>
                    <a:gs pos="100000">
                      <a:srgbClr val="4360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084320" y="426024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a99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1072440" y="500652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914400" y="586728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819520" y="4235400"/>
            <a:ext cx="1617120" cy="2070000"/>
            <a:chOff x="2819520" y="4235400"/>
            <a:chExt cx="1617120" cy="2070000"/>
          </a:xfrm>
        </p:grpSpPr>
        <p:grpSp>
          <p:nvGrpSpPr>
            <p:cNvPr id="580" name=""/>
            <p:cNvGrpSpPr/>
            <p:nvPr/>
          </p:nvGrpSpPr>
          <p:grpSpPr>
            <a:xfrm>
              <a:off x="2819520" y="4235400"/>
              <a:ext cx="1523520" cy="1521000"/>
              <a:chOff x="2819520" y="4235400"/>
              <a:chExt cx="1523520" cy="1521000"/>
            </a:xfrm>
          </p:grpSpPr>
          <p:sp>
            <p:nvSpPr>
              <p:cNvPr id="581" name=""/>
              <p:cNvSpPr/>
              <p:nvPr/>
            </p:nvSpPr>
            <p:spPr>
              <a:xfrm>
                <a:off x="2819520" y="423540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96b1e6"/>
                  </a:gs>
                  <a:gs pos="100000">
                    <a:srgbClr val="4c5a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993400" y="42606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6b1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2895480" y="49654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857320" y="586728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876920" y="4191120"/>
            <a:ext cx="1631880" cy="2113920"/>
            <a:chOff x="4876920" y="4191120"/>
            <a:chExt cx="1631880" cy="2113920"/>
          </a:xfrm>
        </p:grpSpPr>
        <p:grpSp>
          <p:nvGrpSpPr>
            <p:cNvPr id="586" name=""/>
            <p:cNvGrpSpPr/>
            <p:nvPr/>
          </p:nvGrpSpPr>
          <p:grpSpPr>
            <a:xfrm>
              <a:off x="4876920" y="4191120"/>
              <a:ext cx="1523880" cy="1520640"/>
              <a:chOff x="4876920" y="4191120"/>
              <a:chExt cx="1523880" cy="1520640"/>
            </a:xfrm>
          </p:grpSpPr>
          <p:sp>
            <p:nvSpPr>
              <p:cNvPr id="587" name=""/>
              <p:cNvSpPr/>
              <p:nvPr/>
            </p:nvSpPr>
            <p:spPr>
              <a:xfrm>
                <a:off x="4876920" y="41911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4972bb"/>
                  </a:gs>
                  <a:gs pos="100000">
                    <a:srgbClr val="253a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051160" y="42163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4972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4953240" y="49208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929480" y="586728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6781680" y="4191120"/>
            <a:ext cx="1579680" cy="2113920"/>
            <a:chOff x="6781680" y="4191120"/>
            <a:chExt cx="1579680" cy="2113920"/>
          </a:xfrm>
        </p:grpSpPr>
        <p:grpSp>
          <p:nvGrpSpPr>
            <p:cNvPr id="592" name=""/>
            <p:cNvGrpSpPr/>
            <p:nvPr/>
          </p:nvGrpSpPr>
          <p:grpSpPr>
            <a:xfrm>
              <a:off x="6781680" y="4191120"/>
              <a:ext cx="1523880" cy="1531440"/>
              <a:chOff x="6781680" y="4191120"/>
              <a:chExt cx="1523880" cy="153144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6781680" y="4191120"/>
                <a:ext cx="1523880" cy="1531440"/>
                <a:chOff x="6781680" y="4191120"/>
                <a:chExt cx="1523880" cy="153144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6781680" y="4191120"/>
                  <a:ext cx="152388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25c"/>
                    </a:gs>
                    <a:gs pos="100000">
                      <a:srgbClr val="252e1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955920" y="421632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2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6924600" y="490500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6781680" y="586728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1600200" y="4386240"/>
            <a:ext cx="548640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72bb"/>
                    </a:gs>
                    <a:gs pos="100000">
                      <a:srgbClr val="96b1e6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1a3d97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72bb"/>
                  </a:gs>
                  <a:gs pos="100000">
                    <a:srgbClr val="96b1e6"/>
                  </a:gs>
                </a:gsLst>
                <a:lin ang="10800000"/>
              </a:gradFill>
              <a:effectLst>
                <a:outerShdw dist="89604" dir="2700000" blurRad="0" rotWithShape="0">
                  <a:srgbClr val="1a3d97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3387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4AC3-8A70-49C8-8DDC-C0BD31B49D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2359080"/>
            <a:ext cx="4800600" cy="0"/>
          </a:xfrm>
          <a:prstGeom prst="line">
            <a:avLst/>
          </a:prstGeom>
          <a:ln w="25560">
            <a:solidFill>
              <a:srgbClr val="5f5f5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28880" y="2214720"/>
            <a:ext cx="258480" cy="258480"/>
            <a:chOff x="1928880" y="2214720"/>
            <a:chExt cx="258480" cy="258480"/>
          </a:xfrm>
        </p:grpSpPr>
        <p:sp>
          <p:nvSpPr>
            <p:cNvPr id="96" name=""/>
            <p:cNvSpPr/>
            <p:nvPr/>
          </p:nvSpPr>
          <p:spPr>
            <a:xfrm rot="2700000">
              <a:off x="1966680" y="225252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18900000">
              <a:off x="1966680" y="2252520"/>
              <a:ext cx="182880" cy="182520"/>
            </a:xfrm>
            <a:prstGeom prst="rtTriangle">
              <a:avLst/>
            </a:prstGeom>
            <a:solidFill>
              <a:srgbClr val="96b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017160" y="19051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928880" y="2819520"/>
            <a:ext cx="5081040" cy="568080"/>
            <a:chOff x="1928880" y="2819520"/>
            <a:chExt cx="5081040" cy="568080"/>
          </a:xfrm>
        </p:grpSpPr>
        <p:sp>
          <p:nvSpPr>
            <p:cNvPr id="100" name=""/>
            <p:cNvSpPr/>
            <p:nvPr/>
          </p:nvSpPr>
          <p:spPr>
            <a:xfrm>
              <a:off x="2209680" y="327348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928880" y="3129480"/>
              <a:ext cx="258480" cy="258120"/>
              <a:chOff x="1928880" y="3129480"/>
              <a:chExt cx="258480" cy="258120"/>
            </a:xfrm>
          </p:grpSpPr>
          <p:sp>
            <p:nvSpPr>
              <p:cNvPr id="102" name=""/>
              <p:cNvSpPr/>
              <p:nvPr/>
            </p:nvSpPr>
            <p:spPr>
              <a:xfrm rot="2700000">
                <a:off x="1966680" y="316728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rot="18900000">
                <a:off x="1965960" y="3167280"/>
                <a:ext cx="182880" cy="182160"/>
              </a:xfrm>
              <a:prstGeom prst="rtTriangle">
                <a:avLst/>
              </a:prstGeom>
              <a:solidFill>
                <a:srgbClr val="6a9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3016440" y="28195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Click to add Title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928880" y="3736800"/>
            <a:ext cx="5081040" cy="568080"/>
            <a:chOff x="1928880" y="3736800"/>
            <a:chExt cx="5081040" cy="568080"/>
          </a:xfrm>
        </p:grpSpPr>
        <p:sp>
          <p:nvSpPr>
            <p:cNvPr id="106" name=""/>
            <p:cNvSpPr/>
            <p:nvPr/>
          </p:nvSpPr>
          <p:spPr>
            <a:xfrm>
              <a:off x="2209680" y="419076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1928880" y="4046760"/>
              <a:ext cx="258480" cy="258120"/>
              <a:chOff x="1928880" y="4046760"/>
              <a:chExt cx="258480" cy="258120"/>
            </a:xfrm>
          </p:grpSpPr>
          <p:sp>
            <p:nvSpPr>
              <p:cNvPr id="108" name=""/>
              <p:cNvSpPr/>
              <p:nvPr/>
            </p:nvSpPr>
            <p:spPr>
              <a:xfrm rot="2700000">
                <a:off x="1966680" y="408456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rot="18900000">
                <a:off x="1965960" y="4084560"/>
                <a:ext cx="182880" cy="182160"/>
              </a:xfrm>
              <a:prstGeom prst="rtTriangle">
                <a:avLst/>
              </a:prstGeom>
              <a:solidFill>
                <a:srgbClr val="4972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3016440" y="373680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lick to add Title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28880" y="4648320"/>
            <a:ext cx="5081040" cy="568080"/>
            <a:chOff x="1928880" y="4648320"/>
            <a:chExt cx="5081040" cy="568080"/>
          </a:xfrm>
        </p:grpSpPr>
        <p:sp>
          <p:nvSpPr>
            <p:cNvPr id="112" name=""/>
            <p:cNvSpPr/>
            <p:nvPr/>
          </p:nvSpPr>
          <p:spPr>
            <a:xfrm>
              <a:off x="2209680" y="510228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28880" y="4958280"/>
              <a:ext cx="258480" cy="258120"/>
              <a:chOff x="1928880" y="4958280"/>
              <a:chExt cx="258480" cy="258120"/>
            </a:xfrm>
          </p:grpSpPr>
          <p:sp>
            <p:nvSpPr>
              <p:cNvPr id="114" name=""/>
              <p:cNvSpPr/>
              <p:nvPr/>
            </p:nvSpPr>
            <p:spPr>
              <a:xfrm rot="2700000">
                <a:off x="1966680" y="499608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8900000">
                <a:off x="1965960" y="4996080"/>
                <a:ext cx="182880" cy="182160"/>
              </a:xfrm>
              <a:prstGeom prst="rtTriangle">
                <a:avLst/>
              </a:prstGeom>
              <a:solidFill>
                <a:srgbClr val="99c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016440" y="46483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Click to add Title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fbde5"/>
              </a:gs>
              <a:gs pos="100000">
                <a:srgbClr val="6a99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ce5f6"/>
              </a:gs>
              <a:gs pos="100000">
                <a:srgbClr val="96b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048120" y="1600200"/>
            <a:ext cx="2998440" cy="1601280"/>
            <a:chOff x="3048120" y="1600200"/>
            <a:chExt cx="2998440" cy="1601280"/>
          </a:xfrm>
        </p:grpSpPr>
        <p:grpSp>
          <p:nvGrpSpPr>
            <p:cNvPr id="124" name=""/>
            <p:cNvGrpSpPr/>
            <p:nvPr/>
          </p:nvGrpSpPr>
          <p:grpSpPr>
            <a:xfrm>
              <a:off x="3048120" y="1743120"/>
              <a:ext cx="2998440" cy="1458360"/>
              <a:chOff x="3048120" y="1743120"/>
              <a:chExt cx="2998440" cy="1458360"/>
            </a:xfrm>
          </p:grpSpPr>
          <p:sp>
            <p:nvSpPr>
              <p:cNvPr id="125" name=""/>
              <p:cNvSpPr/>
              <p:nvPr/>
            </p:nvSpPr>
            <p:spPr>
              <a:xfrm>
                <a:off x="3080880" y="1789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8556f"/>
                  </a:gs>
                  <a:gs pos="100000">
                    <a:srgbClr val="96b1e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8120" y="174312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6b1e6"/>
                  </a:gs>
                  <a:gs pos="100000">
                    <a:srgbClr val="cfdbf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18924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99c25c"/>
                </a:gs>
                <a:gs pos="100000">
                  <a:srgbClr val="4659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24160" y="160812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dae8c5"/>
                </a:gs>
                <a:gs pos="100000">
                  <a:srgbClr val="99c25c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51160" y="162072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99c25c">
                    <a:alpha val="48235"/>
                  </a:srgbClr>
                </a:gs>
                <a:gs pos="100000">
                  <a:srgbClr val="7899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82920" y="164772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99c25c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62120" y="1645920"/>
            <a:ext cx="7328520" cy="4583520"/>
            <a:chOff x="762120" y="1645920"/>
            <a:chExt cx="7328520" cy="4583520"/>
          </a:xfrm>
        </p:grpSpPr>
        <p:sp>
          <p:nvSpPr>
            <p:cNvPr id="135" name=""/>
            <p:cNvSpPr/>
            <p:nvPr/>
          </p:nvSpPr>
          <p:spPr>
            <a:xfrm rot="20241600">
              <a:off x="1392120" y="272556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056200">
              <a:off x="4343040" y="2666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056200">
              <a:off x="7010280" y="281880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056200">
              <a:off x="2895480" y="54860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056200">
              <a:off x="5486040" y="487620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056200">
              <a:off x="2057040" y="4038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21400" y="198108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6b1e6"/>
                </a:gs>
                <a:gs pos="100000">
                  <a:srgbClr val="333c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86160" y="329868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972bb"/>
                </a:gs>
                <a:gs pos="100000">
                  <a:srgbClr val="1623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70240" y="476568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a99d8"/>
                </a:gs>
                <a:gs pos="100000">
                  <a:srgbClr val="2536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38760" y="4221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64520" y="217800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9c25c"/>
                </a:gs>
                <a:gs pos="100000">
                  <a:srgbClr val="3442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23400" y="3693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27040" y="2376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36680" y="2616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44400" y="4616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34480" y="5154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29000" y="3581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338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02080" y="2376360"/>
              <a:ext cx="1627200" cy="1251000"/>
            </a:xfrm>
            <a:prstGeom prst="line">
              <a:avLst/>
            </a:prstGeom>
            <a:ln w="9360">
              <a:solidFill>
                <a:srgbClr val="2338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cxnSp>
          <p:nvCxnSpPr>
            <p:cNvPr id="153" name=""/>
            <p:cNvCxnSpPr/>
            <p:nvPr/>
          </p:nvCxnSpPr>
          <p:spPr>
            <a:xfrm flipH="1">
              <a:off x="887040" y="2376000"/>
              <a:ext cx="1726560" cy="1080"/>
            </a:xfrm>
            <a:prstGeom prst="straightConnector1">
              <a:avLst/>
            </a:prstGeom>
            <a:ln w="9360">
              <a:solidFill>
                <a:srgbClr val="23387d"/>
              </a:solidFill>
              <a:miter/>
            </a:ln>
          </p:spPr>
        </p:cxnSp>
        <p:sp>
          <p:nvSpPr>
            <p:cNvPr id="154" name=""/>
            <p:cNvSpPr/>
            <p:nvPr/>
          </p:nvSpPr>
          <p:spPr>
            <a:xfrm>
              <a:off x="762120" y="19810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3387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7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338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338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13456"/>
                </a:gs>
                <a:gs pos="50000">
                  <a:srgbClr val="4972bb"/>
                </a:gs>
                <a:gs pos="100000">
                  <a:srgbClr val="2134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5516a"/>
                </a:gs>
                <a:gs pos="50000">
                  <a:srgbClr val="96b1e6"/>
                </a:gs>
                <a:gs pos="100000">
                  <a:srgbClr val="4551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7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78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2d5"/>
                  </a:gs>
                  <a:gs pos="100000">
                    <a:srgbClr val="1a3d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2d5"/>
                  </a:gs>
                  <a:gs pos="100000">
                    <a:srgbClr val="1a3d9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2d5"/>
                  </a:gs>
                  <a:gs pos="100000">
                    <a:srgbClr val="1a3d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6b1e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505f7b"/>
                  </a:gs>
                  <a:gs pos="50000">
                    <a:srgbClr val="96b1e6"/>
                  </a:gs>
                  <a:gs pos="100000">
                    <a:srgbClr val="505f7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456"/>
                </a:gs>
                <a:gs pos="50000">
                  <a:srgbClr val="4972bb"/>
                </a:gs>
                <a:gs pos="100000">
                  <a:srgbClr val="2134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456"/>
                </a:gs>
                <a:gs pos="50000">
                  <a:srgbClr val="4972bb"/>
                </a:gs>
                <a:gs pos="100000">
                  <a:srgbClr val="2134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456"/>
                </a:gs>
                <a:gs pos="50000">
                  <a:srgbClr val="4972bb"/>
                </a:gs>
                <a:gs pos="100000">
                  <a:srgbClr val="2134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338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38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338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338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338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338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38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38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38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38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16" name="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04663"/>
                </a:gs>
                <a:gs pos="50000">
                  <a:srgbClr val="6a99d8"/>
                </a:gs>
                <a:gs pos="100000">
                  <a:srgbClr val="3046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6a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5516a"/>
                </a:gs>
                <a:gs pos="50000">
                  <a:srgbClr val="96b1e6"/>
                </a:gs>
                <a:gs pos="100000">
                  <a:srgbClr val="4551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96b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b1c45"/>
                </a:gs>
                <a:gs pos="50000">
                  <a:srgbClr val="1a3d97"/>
                </a:gs>
                <a:gs pos="100000">
                  <a:srgbClr val="0b1c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a3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4c6e9c"/>
                </a:gs>
                <a:gs pos="50000">
                  <a:srgbClr val="6a99d8"/>
                </a:gs>
                <a:gs pos="100000">
                  <a:srgbClr val="4c6e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6c7fa6"/>
                </a:gs>
                <a:gs pos="50000">
                  <a:srgbClr val="96b1e6"/>
                </a:gs>
                <a:gs pos="100000">
                  <a:srgbClr val="6c7f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c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e8c42"/>
                </a:gs>
                <a:gs pos="50000">
                  <a:srgbClr val="99c25c"/>
                </a:gs>
                <a:gs pos="100000">
                  <a:srgbClr val="6e8c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22c6d"/>
                </a:gs>
                <a:gs pos="50000">
                  <a:srgbClr val="1a3d97"/>
                </a:gs>
                <a:gs pos="100000">
                  <a:srgbClr val="122c6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231" name="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8755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875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43f30"/>
                </a:gs>
                <a:gs pos="50000">
                  <a:srgbClr val="d8755a"/>
                </a:gs>
                <a:gs pos="100000">
                  <a:srgbClr val="743f3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0"/>
                  </a:srgbClr>
                </a:gs>
                <a:gs pos="100000">
                  <a:srgbClr val="884a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237" name="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00520" y="2055960"/>
                <a:ext cx="174312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2895480" y="2743200"/>
            <a:ext cx="3580920" cy="1904040"/>
            <a:chOff x="2895480" y="2743200"/>
            <a:chExt cx="3580920" cy="1904040"/>
          </a:xfrm>
        </p:grpSpPr>
        <p:sp>
          <p:nvSpPr>
            <p:cNvPr id="242" name=""/>
            <p:cNvSpPr/>
            <p:nvPr/>
          </p:nvSpPr>
          <p:spPr>
            <a:xfrm rot="10800000">
              <a:off x="5866920" y="274320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44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95480" y="274320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8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637320" y="2286000"/>
            <a:ext cx="1440000" cy="1440000"/>
            <a:chOff x="6637320" y="2286000"/>
            <a:chExt cx="1440000" cy="1440000"/>
          </a:xfrm>
        </p:grpSpPr>
        <p:sp>
          <p:nvSpPr>
            <p:cNvPr id="248" name="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32720" y="23796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32720" y="23828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94640" y="24433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11920" y="2460600"/>
              <a:ext cx="1090800" cy="1092240"/>
              <a:chOff x="6811920" y="2460600"/>
              <a:chExt cx="1090800" cy="10922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11920" y="24606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37120" y="24771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896160" y="25048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257800" y="4495680"/>
            <a:ext cx="1444680" cy="1523880"/>
            <a:chOff x="5257800" y="4495680"/>
            <a:chExt cx="1444680" cy="1523880"/>
          </a:xfrm>
        </p:grpSpPr>
        <p:sp>
          <p:nvSpPr>
            <p:cNvPr id="260" name="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66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51400" y="4593960"/>
              <a:ext cx="1257480" cy="1327320"/>
            </a:xfrm>
            <a:prstGeom prst="ellipse">
              <a:avLst/>
            </a:prstGeom>
            <a:gradFill rotWithShape="0">
              <a:gsLst>
                <a:gs pos="0">
                  <a:srgbClr val="893652"/>
                </a:gs>
                <a:gs pos="50000">
                  <a:srgbClr val="ff6699"/>
                </a:gs>
                <a:gs pos="100000">
                  <a:srgbClr val="8936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4120" y="4572000"/>
              <a:ext cx="1255680" cy="132696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a14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19800" y="4662360"/>
              <a:ext cx="1130400" cy="119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10080" y="464796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64080" y="4698720"/>
              <a:ext cx="1015920" cy="105264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2760" y="4728960"/>
              <a:ext cx="903600" cy="854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9400" y="50893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271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90680" y="2385000"/>
              <a:ext cx="1256760" cy="1325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58000" y="245232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76360" y="2471400"/>
              <a:ext cx="1095840" cy="115452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90040" y="2478600"/>
              <a:ext cx="1068840" cy="112392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01200" y="2489040"/>
              <a:ext cx="1017000" cy="105192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282" name="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283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965e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965e1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88840" y="4591080"/>
                <a:ext cx="1249200" cy="1250640"/>
              </a:xfrm>
              <a:prstGeom prst="ellipse">
                <a:avLst/>
              </a:prstGeom>
              <a:gradFill rotWithShape="0">
                <a:gsLst>
                  <a:gs pos="0">
                    <a:srgbClr val="1e3679"/>
                  </a:gs>
                  <a:gs pos="50000">
                    <a:srgbClr val="3965e1"/>
                  </a:gs>
                  <a:gs pos="100000">
                    <a:srgbClr val="1e36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88840" y="4600440"/>
                <a:ext cx="1249200" cy="1251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0"/>
                    </a:srgbClr>
                  </a:gs>
                  <a:gs pos="100000">
                    <a:srgbClr val="25439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50760" y="4662360"/>
                <a:ext cx="112536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5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2779560" y="4676760"/>
                <a:ext cx="1090080" cy="1092240"/>
                <a:chOff x="2779560" y="4676760"/>
                <a:chExt cx="1090080" cy="10922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779560" y="4676760"/>
                  <a:ext cx="109008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793240" y="4682880"/>
                  <a:ext cx="106380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804760" y="4693320"/>
                  <a:ext cx="101160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863800" y="4721040"/>
                  <a:ext cx="89928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295128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3d97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3d97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3d97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97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6b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b1e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b1e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05f7b"/>
              </a:gs>
              <a:gs pos="50000">
                <a:srgbClr val="96b1e6"/>
              </a:gs>
              <a:gs pos="100000">
                <a:srgbClr val="505f7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6b1e6">
                  <a:alpha val="0"/>
                </a:srgbClr>
              </a:gs>
              <a:gs pos="100000">
                <a:srgbClr val="5e709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c25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c25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26831"/>
              </a:gs>
              <a:gs pos="50000">
                <a:srgbClr val="99c25c"/>
              </a:gs>
              <a:gs pos="100000">
                <a:srgbClr val="52683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9c25c">
                  <a:alpha val="0"/>
                </a:srgbClr>
              </a:gs>
              <a:gs pos="100000">
                <a:srgbClr val="607a3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311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972b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213456"/>
              </a:gs>
              <a:gs pos="100000">
                <a:srgbClr val="4972b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73d64"/>
              </a:gs>
              <a:gs pos="50000">
                <a:srgbClr val="4972bb"/>
              </a:gs>
              <a:gs pos="100000">
                <a:srgbClr val="273d6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972bb">
                  <a:alpha val="0"/>
                </a:srgbClr>
              </a:gs>
              <a:gs pos="100000">
                <a:srgbClr val="2e487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321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26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7:52:38Z</dcterms:created>
  <dc:creator/>
  <dc:description/>
  <cp:keywords>幻灯片之家 http:/www.eeppt.com</cp:keywords>
  <dc:language>en-US</dc:language>
  <cp:lastModifiedBy/>
  <dcterms:modified xsi:type="dcterms:W3CDTF">2015-07-12T09:33:37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