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9E38-9D18-49A9-9992-A010C7BE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1559-9D1B-47FA-B10A-83CBA868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8709-9E5A-451B-B4DB-36DC333B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F071-4CF9-4D79-B5FD-9C2C09E3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056A-6E9B-494F-846D-F6509DFE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ECC8-B8D7-4C91-A054-0F18F8C6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D45-48DE-4FE7-9034-3FCADB11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3ACB-2AC5-4104-A9A3-9E454E9F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0918-D19C-4DF9-90F2-8F277235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17B2-46EA-4515-B2D0-F6B7DB86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901E-CFDD-4A83-B379-B9BB36E9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39A-89A4-482F-9735-62F84E57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BC2F-8BD3-4A69-9637-81C51B52B30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A591-93E1-47DD-8A10-14F637369E7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643200" y="4643280"/>
            <a:ext cx="52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POWE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357800" y="55594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意境及相关类别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5040" y="25495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70280" y="115416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国外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设计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3500280" y="192888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38548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38548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8960" y="5772240"/>
            <a:ext cx="6111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79640" y="5375160"/>
            <a:ext cx="68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创意设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chuang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E04A-5C18-4F50-91B9-BEE2F7100D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5"/>
          <p:cNvSpPr/>
          <p:nvPr/>
        </p:nvSpPr>
        <p:spPr>
          <a:xfrm>
            <a:off x="3595680" y="2428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2810160" y="3786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3667320" y="4929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/>
          <p:cNvSpPr/>
          <p:nvPr/>
        </p:nvSpPr>
        <p:spPr>
          <a:xfrm>
            <a:off x="5167440" y="4929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9"/>
          <p:cNvSpPr/>
          <p:nvPr/>
        </p:nvSpPr>
        <p:spPr>
          <a:xfrm>
            <a:off x="5810400" y="3786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0"/>
          <p:cNvSpPr/>
          <p:nvPr/>
        </p:nvSpPr>
        <p:spPr>
          <a:xfrm>
            <a:off x="5096160" y="2428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"/>
          <p:cNvSpPr/>
          <p:nvPr/>
        </p:nvSpPr>
        <p:spPr>
          <a:xfrm>
            <a:off x="24976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"/>
          <p:cNvSpPr/>
          <p:nvPr/>
        </p:nvSpPr>
        <p:spPr>
          <a:xfrm>
            <a:off x="5355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3"/>
          <p:cNvSpPr/>
          <p:nvPr/>
        </p:nvSpPr>
        <p:spPr>
          <a:xfrm>
            <a:off x="442656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/>
  <dc:description/>
  <cp:keywords>幻灯片之家 http:/www.eeppt.com</cp:keywords>
  <dc:language>en-US</dc:language>
  <cp:lastModifiedBy/>
  <dcterms:modified xsi:type="dcterms:W3CDTF">2015-07-06T02:33:4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