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AAAB-2EB3-42A9-A905-568E43F02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689D-3504-43EF-9A38-828F5C0AC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4979-6929-4D64-A7E6-7FA932BB4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9C2D-9794-4D3A-B7A6-2DDDD7875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1689-5762-4DCF-AE9E-9944F10AA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EE5B-1A75-493F-9919-C04BC2D1C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4AFB-7F9D-4F60-9464-FC31EB53E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48F3-BA5D-4343-BFD8-8B98280F5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5E70-1AB8-4769-BB5C-26A2FFF02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DBAC-BA7B-4A6C-BEBE-5937A2641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B8CF-8A67-4D3F-9952-977461A4A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7B8A-9C9F-4F49-9A23-A8D21BE73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5281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528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7E1-7EF7-41E9-B844-5C7975CFFF69}" type="slidenum">
              <a:rPr b="0" lang="en-US" sz="1400" spc="-1" strike="noStrike">
                <a:solidFill>
                  <a:srgbClr val="1f52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5" name=""/>
            <p:cNvSpPr/>
            <p:nvPr/>
          </p:nvSpPr>
          <p:spPr>
            <a:xfrm>
              <a:off x="250920" y="260280"/>
              <a:ext cx="8642160" cy="474804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74840" y="2122560"/>
              <a:ext cx="56880" cy="29340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880" y="253188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4840" y="2525760"/>
              <a:ext cx="7560" cy="61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8880" y="255096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68040" y="249552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3600" y="2333520"/>
              <a:ext cx="1080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72960" y="23209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9480" y="236376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7720" y="234000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87160" y="2309760"/>
              <a:ext cx="154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69880" y="24001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0800" y="2316240"/>
              <a:ext cx="187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17320" y="2344680"/>
              <a:ext cx="108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5692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87160" y="24159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33240" y="243036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63520" y="2381040"/>
              <a:ext cx="4068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7320" y="21510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732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7440" y="2249280"/>
              <a:ext cx="7560" cy="176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0040" y="2206440"/>
              <a:ext cx="16920" cy="19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2360" y="2333520"/>
              <a:ext cx="2160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040" y="243036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1200" y="244296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04560" y="24303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6720" y="243504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240" y="2344680"/>
              <a:ext cx="612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5692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160" y="2435040"/>
              <a:ext cx="34560" cy="19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5000" y="1585800"/>
              <a:ext cx="43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8520" y="150660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9680" y="1338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8520" y="1350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3240" y="145404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2960" y="1827000"/>
              <a:ext cx="1692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5400" y="1506600"/>
              <a:ext cx="26640" cy="37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4720" y="1398600"/>
              <a:ext cx="1872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4960" y="1350720"/>
              <a:ext cx="3456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6000" y="138744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9480" y="1428840"/>
              <a:ext cx="1692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77880" y="1338120"/>
              <a:ext cx="1224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95160" y="1307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62200" y="2273400"/>
              <a:ext cx="2340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06520" y="308772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74760" y="2538360"/>
              <a:ext cx="11376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4360" y="2977920"/>
              <a:ext cx="23400" cy="558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93760" y="2967120"/>
              <a:ext cx="2340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54160" y="2941560"/>
              <a:ext cx="2808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01600" y="296712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6920" y="29908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5920" y="2977920"/>
              <a:ext cx="10800" cy="24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97080" y="29671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696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2760" y="2284200"/>
              <a:ext cx="45720" cy="8424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55520" y="2327040"/>
              <a:ext cx="33120" cy="129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4080" y="2784240"/>
              <a:ext cx="4104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34920" y="2803320"/>
              <a:ext cx="1080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30240" y="283536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2548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92160" y="238104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34920" y="2442960"/>
              <a:ext cx="3924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11160" y="2477880"/>
              <a:ext cx="23400" cy="129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53920" y="2585880"/>
              <a:ext cx="2340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57080" y="27129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96800" y="2682720"/>
              <a:ext cx="22500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368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1680" y="2797200"/>
              <a:ext cx="28080" cy="489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3080" y="272556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2749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8920" y="2682720"/>
              <a:ext cx="1692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41120" y="262872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29960" y="2609640"/>
              <a:ext cx="1080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7360" y="2598840"/>
              <a:ext cx="1224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0080" y="2585880"/>
              <a:ext cx="1080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9480" y="2719440"/>
              <a:ext cx="576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68320" y="281628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68120" y="3298680"/>
              <a:ext cx="1872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7600" y="3073320"/>
              <a:ext cx="1080" cy="1908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012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2520" y="3182760"/>
              <a:ext cx="14724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720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16000" y="2381040"/>
              <a:ext cx="188280" cy="33192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2984400"/>
              <a:ext cx="154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63480" y="303372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000" y="2917800"/>
              <a:ext cx="3312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9400" y="285912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432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31960" y="2797200"/>
              <a:ext cx="3456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720" y="2773440"/>
              <a:ext cx="576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4320" y="2967120"/>
              <a:ext cx="4320" cy="2988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3760" y="3092400"/>
              <a:ext cx="1224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6360" y="306216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452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63600" y="30081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1440" y="3286080"/>
              <a:ext cx="1692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4920" y="3298680"/>
              <a:ext cx="1836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9840" y="3322440"/>
              <a:ext cx="576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3640" y="32385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7680" y="2381040"/>
              <a:ext cx="420120" cy="18108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8120" y="2151000"/>
              <a:ext cx="21204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43080" y="229068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1320" y="2792520"/>
              <a:ext cx="6300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33640" y="2568600"/>
              <a:ext cx="24552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2779560"/>
              <a:ext cx="4392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5240" y="2435040"/>
              <a:ext cx="131400" cy="10800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9040" y="2609640"/>
              <a:ext cx="2340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8280" y="2657520"/>
              <a:ext cx="676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2600" y="2562120"/>
              <a:ext cx="3276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2502000"/>
              <a:ext cx="2808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1760" y="2055600"/>
              <a:ext cx="124920" cy="15732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5080" y="1911240"/>
              <a:ext cx="18360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80840" y="2808360"/>
              <a:ext cx="8208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23840" y="3906720"/>
              <a:ext cx="1486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38200" y="4732200"/>
              <a:ext cx="9828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48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97120" y="3182760"/>
              <a:ext cx="63000" cy="17460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46360" y="3365280"/>
              <a:ext cx="50400" cy="590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8160" y="3352680"/>
              <a:ext cx="28440" cy="475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3413160"/>
              <a:ext cx="109080" cy="8388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8520" y="3460680"/>
              <a:ext cx="21708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3680" y="3690720"/>
              <a:ext cx="223560" cy="19224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5600" y="3635280"/>
              <a:ext cx="21240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65360" y="3960720"/>
              <a:ext cx="87408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3800" y="3816360"/>
              <a:ext cx="3456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51040" y="3822480"/>
              <a:ext cx="3456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5960" y="3840120"/>
              <a:ext cx="2340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7120" y="3809880"/>
              <a:ext cx="694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1000" y="3503520"/>
              <a:ext cx="234360" cy="26496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104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1640" y="3816360"/>
              <a:ext cx="104400" cy="489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4560" y="3152880"/>
              <a:ext cx="34560" cy="18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7560" y="3182760"/>
              <a:ext cx="13140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6000" y="3100320"/>
              <a:ext cx="24588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45160" y="3219480"/>
              <a:ext cx="5184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6200" y="1989000"/>
              <a:ext cx="1692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1995480"/>
              <a:ext cx="2808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260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86080" y="1216080"/>
              <a:ext cx="279828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9fb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022800" y="549360"/>
              <a:ext cx="1861200" cy="1240920"/>
              <a:chOff x="6022800" y="549360"/>
              <a:chExt cx="1861200" cy="1240920"/>
            </a:xfrm>
          </p:grpSpPr>
          <p:sp>
            <p:nvSpPr>
              <p:cNvPr id="185" name=""/>
              <p:cNvSpPr/>
              <p:nvPr/>
            </p:nvSpPr>
            <p:spPr>
              <a:xfrm>
                <a:off x="7824600" y="101232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960" y="704160"/>
                <a:ext cx="70704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152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03360" y="1045440"/>
                <a:ext cx="20880" cy="324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13800" y="1110960"/>
                <a:ext cx="59400" cy="7812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70600" y="1182960"/>
                <a:ext cx="447120" cy="5288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62240" y="1574280"/>
                <a:ext cx="129960" cy="10044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97800" y="726120"/>
                <a:ext cx="4860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38960" y="1040760"/>
                <a:ext cx="13500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0080" y="1062360"/>
                <a:ext cx="108360" cy="17532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14600" y="1106640"/>
                <a:ext cx="37152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5040" y="752400"/>
                <a:ext cx="189720" cy="1504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9000" y="686880"/>
                <a:ext cx="38160" cy="439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51840" y="625680"/>
                <a:ext cx="108360" cy="6732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47160" y="714960"/>
                <a:ext cx="96480" cy="547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34120" y="89028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27640" y="924840"/>
                <a:ext cx="183600" cy="1486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9960" y="704160"/>
                <a:ext cx="32040" cy="824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38960" y="820080"/>
                <a:ext cx="117720" cy="1486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63160" y="913680"/>
                <a:ext cx="64080" cy="7668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44160" y="885600"/>
                <a:ext cx="269280" cy="15948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65760" y="621360"/>
                <a:ext cx="64080" cy="874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70600" y="636840"/>
                <a:ext cx="113040" cy="24228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86480" y="13273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35440" y="664920"/>
                <a:ext cx="53640" cy="3276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7100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14200" y="7981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57040" y="714960"/>
                <a:ext cx="2124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19440" y="824760"/>
                <a:ext cx="27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92200" y="1056240"/>
                <a:ext cx="96480" cy="7200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60960" y="139896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3244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96880" y="1722960"/>
                <a:ext cx="16560" cy="45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60960" y="1657440"/>
                <a:ext cx="27720" cy="3276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45840" y="599400"/>
                <a:ext cx="371880" cy="44136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10920" y="2601720"/>
              <a:ext cx="1420560" cy="167184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208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f528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f5281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f528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国外商务</a:t>
            </a:r>
            <a:r>
              <a:rPr b="1" i="1" lang="zh-CN" sz="3600" spc="-1" strike="noStrike">
                <a:solidFill>
                  <a:srgbClr val="1f5281"/>
                </a:solidFill>
                <a:latin typeface="Verdana"/>
                <a:ea typeface="宋体"/>
              </a:rPr>
              <a:t>PPT</a:t>
            </a: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模板</a:t>
            </a: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8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8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499" name="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50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03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06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1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2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2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3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3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538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41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5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6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8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585" name=""/>
            <p:cNvCxnSpPr>
              <a:stCxn id="581" idx="3"/>
              <a:endCxn id="582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6" name=""/>
            <p:cNvCxnSpPr>
              <a:stCxn id="582" idx="3"/>
              <a:endCxn id="583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698920" y="1785600"/>
            <a:ext cx="4013640" cy="4254120"/>
            <a:chOff x="2698920" y="1785600"/>
            <a:chExt cx="4013640" cy="4254120"/>
          </a:xfrm>
        </p:grpSpPr>
        <p:sp>
          <p:nvSpPr>
            <p:cNvPr id="590" name="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b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200000">
              <a:off x="4396320" y="20408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593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 rot="14400000">
              <a:off x="4510800" y="389484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598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4400000">
                <a:off x="4985640" y="3578760"/>
                <a:ext cx="150480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02" name=""/>
              <p:cNvSpPr/>
              <p:nvPr/>
            </p:nvSpPr>
            <p:spPr>
              <a:xfrm>
                <a:off x="2698920" y="4327560"/>
                <a:ext cx="581400" cy="10998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400000">
                <a:off x="4179600" y="4709520"/>
                <a:ext cx="1385640" cy="64008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23080" y="4649760"/>
                <a:ext cx="1596600" cy="77724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1481b8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65e3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54e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b5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838080" y="22352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7add0"/>
              </a:gs>
              <a:gs pos="100000">
                <a:srgbClr val="1481b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633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56b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640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47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934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52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48800" y="679320"/>
            <a:ext cx="7379280" cy="5581080"/>
            <a:chOff x="748800" y="679320"/>
            <a:chExt cx="7379280" cy="5581080"/>
          </a:xfrm>
        </p:grpSpPr>
        <p:sp>
          <p:nvSpPr>
            <p:cNvPr id="660" name="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acc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01600">
              <a:off x="16171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01600">
              <a:off x="15332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9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rot="20602200">
              <a:off x="15825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22463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601600">
              <a:off x="15404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ac8e0"/>
                </a:gs>
                <a:gs pos="100000">
                  <a:srgbClr val="1481b8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20602200">
              <a:off x="15508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554e08"/>
                </a:gs>
                <a:gs pos="100000">
                  <a:srgbClr val="baaa1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539200">
              <a:off x="11671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740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417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1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601600">
              <a:off x="31798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f5281"/>
                    </a:gs>
                    <a:gs pos="100000">
                      <a:srgbClr val="32665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f5281"/>
                  </a:gs>
                  <a:gs pos="100000">
                    <a:srgbClr val="326652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ccce"/>
              </a:gs>
              <a:gs pos="100000">
                <a:srgbClr val="eff3f3"/>
              </a:gs>
            </a:gsLst>
            <a:lin ang="1080000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80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6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0f1f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c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8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446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29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29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0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55e5e">
                    <a:alpha val="12156"/>
                  </a:srgbClr>
                </a:gs>
                <a:gs pos="100000">
                  <a:srgbClr val="bacc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55e5e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2ddd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2ddde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2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323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1481b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0a4563"/>
                  </a:gs>
                  <a:gs pos="50000">
                    <a:srgbClr val="1481b8"/>
                  </a:gs>
                  <a:gs pos="100000">
                    <a:srgbClr val="0a45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665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ec25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aa6c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54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56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246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aa0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eaa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61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4a2ca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81b8">
                      <a:alpha val="0"/>
                    </a:srgbClr>
                  </a:gs>
                  <a:gs pos="100000">
                    <a:srgbClr val="9ac8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68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70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c8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aa12">
                      <a:alpha val="0"/>
                    </a:srgbClr>
                  </a:gs>
                  <a:gs pos="100000">
                    <a:srgbClr val="dc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385" name="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3884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180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2344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404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406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e470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525120" y="5037840"/>
              <a:ext cx="367920" cy="333720"/>
              <a:chOff x="3525120" y="5037840"/>
              <a:chExt cx="367920" cy="333720"/>
            </a:xfrm>
          </p:grpSpPr>
          <p:sp>
            <p:nvSpPr>
              <p:cNvPr id="415" name=""/>
              <p:cNvSpPr/>
              <p:nvPr/>
            </p:nvSpPr>
            <p:spPr>
              <a:xfrm rot="18226800">
                <a:off x="3553560" y="520920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8226800">
                <a:off x="3733560" y="506124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7b5d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45c5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6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rot="18226800">
              <a:off x="5564880" y="51750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226800">
              <a:off x="5412600" y="50227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099600" y="3553560"/>
              <a:ext cx="415800" cy="260640"/>
              <a:chOff x="3099600" y="3553560"/>
              <a:chExt cx="415800" cy="260640"/>
            </a:xfrm>
          </p:grpSpPr>
          <p:sp>
            <p:nvSpPr>
              <p:cNvPr id="440" name=""/>
              <p:cNvSpPr/>
              <p:nvPr/>
            </p:nvSpPr>
            <p:spPr>
              <a:xfrm rot="18226800">
                <a:off x="3128040" y="3576960"/>
                <a:ext cx="13068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c3a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8226800">
                <a:off x="3356280" y="3651840"/>
                <a:ext cx="13068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12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471200" y="2531520"/>
              <a:ext cx="187200" cy="466560"/>
              <a:chOff x="4471200" y="2531520"/>
              <a:chExt cx="187200" cy="466560"/>
            </a:xfrm>
          </p:grpSpPr>
          <p:sp>
            <p:nvSpPr>
              <p:cNvPr id="443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4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226800">
                <a:off x="4499640" y="283608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2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18226800">
              <a:off x="5965200" y="360396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226800">
              <a:off x="5717520" y="372780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0:33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