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F268-CC4E-4FA6-A134-A54B62948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CCA4-9C88-4B6A-B3CB-3A27238B9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6234-4782-4BB3-B9E3-84939FBEF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D27E-B23F-4E5E-A62D-FDC870857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D28CB-4E7A-4A18-9821-403B78965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A3770-996B-4CD5-8B6E-6568EB5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9BEB-7764-410C-A2C6-A1D332E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03A64-6266-4B8B-984A-39CE442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527B0-8B7F-4EC8-8C84-1FE1ABEA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98F70-A11A-42EE-AD2F-CCDEAE0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E5C0-0E4A-423A-AC5B-18658B56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7333-8858-4CAD-979F-5CA401270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46C15-C4B0-48A9-9E68-8B87756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E589B-1224-4F4C-BE74-BC3997A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6CAC8-EC93-436E-996B-17577034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7F5D7-3C02-41C6-A8AD-64A97FB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3F61A-1065-4218-9C03-448168C36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A409-35E6-49F4-AA97-DF98087D4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513B-8C8E-46E0-9D2F-61C3E8AFD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05EF-11E6-4181-9A70-1951482FD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13CD-E8C3-426C-BF8B-A7A19433C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1FFC-75F8-4E24-A4A6-BD3B20686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2CAD-69C4-4E36-9CE1-7DDA203BF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C67A-1D64-4021-9F73-0D7107ECD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947F-BE1D-401C-8014-7ACD010D732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14640" y="0"/>
            <a:ext cx="702936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4e6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6D0-A61A-436D-A963-1B342FCA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3809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国外优秀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欣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 rot="17973000">
            <a:off x="4615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3465600">
            <a:off x="4615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4368800">
            <a:off x="3396240" y="2483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7534800">
            <a:off x="3358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94440" y="35352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78424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5240" y="177804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67000" y="1825560"/>
            <a:ext cx="360360" cy="360360"/>
            <a:chOff x="3267000" y="1825560"/>
            <a:chExt cx="360360" cy="360360"/>
          </a:xfrm>
        </p:grpSpPr>
        <p:sp>
          <p:nvSpPr>
            <p:cNvPr id="257" name=""/>
            <p:cNvSpPr/>
            <p:nvPr/>
          </p:nvSpPr>
          <p:spPr>
            <a:xfrm>
              <a:off x="3267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82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22360" y="3481560"/>
            <a:ext cx="360360" cy="360360"/>
            <a:chOff x="2322360" y="3481560"/>
            <a:chExt cx="360360" cy="360360"/>
          </a:xfrm>
        </p:grpSpPr>
        <p:sp>
          <p:nvSpPr>
            <p:cNvPr id="260" name=""/>
            <p:cNvSpPr/>
            <p:nvPr/>
          </p:nvSpPr>
          <p:spPr>
            <a:xfrm>
              <a:off x="2322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8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86000" y="5024520"/>
            <a:ext cx="360360" cy="360360"/>
            <a:chOff x="3186000" y="5024520"/>
            <a:chExt cx="360360" cy="360360"/>
          </a:xfrm>
        </p:grpSpPr>
        <p:sp>
          <p:nvSpPr>
            <p:cNvPr id="263" name=""/>
            <p:cNvSpPr/>
            <p:nvPr/>
          </p:nvSpPr>
          <p:spPr>
            <a:xfrm>
              <a:off x="3186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1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116680" y="1805040"/>
            <a:ext cx="360360" cy="360360"/>
            <a:chOff x="5116680" y="1805040"/>
            <a:chExt cx="360360" cy="360360"/>
          </a:xfrm>
        </p:grpSpPr>
        <p:sp>
          <p:nvSpPr>
            <p:cNvPr id="266" name=""/>
            <p:cNvSpPr/>
            <p:nvPr/>
          </p:nvSpPr>
          <p:spPr>
            <a:xfrm>
              <a:off x="511668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3252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66000" y="3481560"/>
            <a:ext cx="360360" cy="360360"/>
            <a:chOff x="6066000" y="3481560"/>
            <a:chExt cx="360360" cy="360360"/>
          </a:xfrm>
        </p:grpSpPr>
        <p:sp>
          <p:nvSpPr>
            <p:cNvPr id="269" name=""/>
            <p:cNvSpPr/>
            <p:nvPr/>
          </p:nvSpPr>
          <p:spPr>
            <a:xfrm>
              <a:off x="606600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184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172120" y="5081760"/>
            <a:ext cx="360360" cy="360360"/>
            <a:chOff x="5172120" y="5081760"/>
            <a:chExt cx="360360" cy="360360"/>
          </a:xfrm>
        </p:grpSpPr>
        <p:sp>
          <p:nvSpPr>
            <p:cNvPr id="272" name=""/>
            <p:cNvSpPr/>
            <p:nvPr/>
          </p:nvSpPr>
          <p:spPr>
            <a:xfrm>
              <a:off x="5172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7960" y="5112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46248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56000" y="27036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8581b"/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9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71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73440" y="29304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95760" y="29494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3040" y="29592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8880" y="2973240"/>
            <a:ext cx="136692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30099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0284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5660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716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7100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56600" y="5105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76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90840" y="50436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92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99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07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21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26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3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40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41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44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4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53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5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59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62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7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75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76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79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38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388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39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394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397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0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06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19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4e63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" name=""/>
            <p:cNvCxnSpPr>
              <a:stCxn id="419" idx="3"/>
              <a:endCxn id="420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24" name=""/>
            <p:cNvCxnSpPr>
              <a:stCxn id="420" idx="3"/>
              <a:endCxn id="421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25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28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30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8c83"/>
                  </a:gs>
                  <a:gs pos="100000">
                    <a:srgbClr val="226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bfba"/>
                  </a:gs>
                  <a:gs pos="50000">
                    <a:srgbClr val="328c83">
                      <a:alpha val="0"/>
                    </a:srgbClr>
                  </a:gs>
                  <a:gs pos="100000">
                    <a:srgbClr val="8ebf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35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37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d071"/>
                  </a:gs>
                  <a:gs pos="100000">
                    <a:srgbClr val="9dc03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c03c">
                      <a:alpha val="0"/>
                    </a:srgbClr>
                  </a:gs>
                  <a:gs pos="100000">
                    <a:srgbClr val="d4e3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442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ab2e4"/>
                  </a:gs>
                  <a:gs pos="100000">
                    <a:srgbClr val="2f87d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87d7">
                      <a:alpha val="0"/>
                    </a:srgbClr>
                  </a:gs>
                  <a:gs pos="100000">
                    <a:srgbClr val="99c3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73440" y="31291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31291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27520" y="1558440"/>
            <a:ext cx="6215400" cy="1324800"/>
            <a:chOff x="1127520" y="1558440"/>
            <a:chExt cx="6215400" cy="1324800"/>
          </a:xfrm>
        </p:grpSpPr>
        <p:sp>
          <p:nvSpPr>
            <p:cNvPr id="454" name=""/>
            <p:cNvSpPr/>
            <p:nvPr/>
          </p:nvSpPr>
          <p:spPr>
            <a:xfrm rot="3418800">
              <a:off x="133524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258280" y="1939680"/>
              <a:ext cx="901080" cy="124200"/>
              <a:chOff x="2258280" y="1939680"/>
              <a:chExt cx="901080" cy="124200"/>
            </a:xfrm>
          </p:grpSpPr>
          <p:sp>
            <p:nvSpPr>
              <p:cNvPr id="456" name=""/>
              <p:cNvSpPr/>
              <p:nvPr/>
            </p:nvSpPr>
            <p:spPr>
              <a:xfrm>
                <a:off x="225828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468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2292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96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rot="3418800">
              <a:off x="2999880" y="1704240"/>
              <a:ext cx="874080" cy="97092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922920" y="1939680"/>
              <a:ext cx="901080" cy="124200"/>
              <a:chOff x="3922920" y="1939680"/>
              <a:chExt cx="901080" cy="124200"/>
            </a:xfrm>
          </p:grpSpPr>
          <p:sp>
            <p:nvSpPr>
              <p:cNvPr id="462" name=""/>
              <p:cNvSpPr/>
              <p:nvPr/>
            </p:nvSpPr>
            <p:spPr>
              <a:xfrm>
                <a:off x="3922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0932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87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6064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rot="3418800">
              <a:off x="4595760" y="170388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587560" y="1939680"/>
              <a:ext cx="1178640" cy="124200"/>
              <a:chOff x="5587560" y="1939680"/>
              <a:chExt cx="1178640" cy="124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58756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0060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8764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8304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rot="3418800">
              <a:off x="6260400" y="1703880"/>
              <a:ext cx="874080" cy="97128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4425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81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43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7956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90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428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380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336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838080" y="216540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dc03c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dc03c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596520" y="657000"/>
            <a:ext cx="7378560" cy="5581080"/>
            <a:chOff x="596520" y="657000"/>
            <a:chExt cx="7378560" cy="5581080"/>
          </a:xfrm>
        </p:grpSpPr>
        <p:sp>
          <p:nvSpPr>
            <p:cNvPr id="485" name=""/>
            <p:cNvSpPr/>
            <p:nvPr/>
          </p:nvSpPr>
          <p:spPr>
            <a:xfrm>
              <a:off x="2133360" y="4443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01600">
              <a:off x="1407960" y="232992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01600">
              <a:off x="1464480" y="216828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601600">
              <a:off x="1380960" y="215388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c03c"/>
                </a:gs>
                <a:gs pos="100000">
                  <a:srgbClr val="bfd68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20602200">
              <a:off x="1429920" y="215424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8c83"/>
                </a:gs>
                <a:gs pos="100000">
                  <a:srgbClr val="2261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601600">
              <a:off x="1387800" y="216504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4e3ab"/>
                </a:gs>
                <a:gs pos="100000">
                  <a:srgbClr val="9dc03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rot="20602200">
              <a:off x="1397880" y="216360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53c00"/>
                </a:gs>
                <a:gs pos="100000">
                  <a:srgbClr val="dc8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9040" y="360036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539200">
              <a:off x="1014840" y="156132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153e6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70120" y="394020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601600">
              <a:off x="2925360" y="288288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15920" y="3562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21040" y="2343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49840" y="2647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44920" y="3867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35240" y="4552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89120" y="415620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dc03c">
                    <a:alpha val="19215"/>
                  </a:srgbClr>
                </a:gs>
                <a:gs pos="100000">
                  <a:srgbClr val="bcd4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601600">
              <a:off x="3027240" y="313524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8c83"/>
              </a:gs>
              <a:gs pos="50000">
                <a:srgbClr val="7ab4ae"/>
              </a:gs>
              <a:gs pos="100000">
                <a:srgbClr val="328c8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09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8300"/>
                    </a:gs>
                    <a:gs pos="100000">
                      <a:srgbClr val="8b5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c8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16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17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5062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dc0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2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2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8c83"/>
                  </a:gs>
                  <a:gs pos="100000">
                    <a:srgbClr val="194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8c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28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87d7"/>
                    </a:gs>
                    <a:gs pos="100000">
                      <a:srgbClr val="0b20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f87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0" y="38862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8c83"/>
                    </a:gs>
                    <a:gs pos="100000">
                      <a:srgbClr val="1b4e63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8c83"/>
                  </a:gs>
                  <a:gs pos="100000">
                    <a:srgbClr val="1b4e63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dc83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c83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28c8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8c8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dc03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dc03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2f87d7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f87d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7af5c"/>
              </a:gs>
              <a:gs pos="100000">
                <a:srgbClr val="dc8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eac0"/>
              </a:gs>
              <a:gs pos="100000">
                <a:srgbClr val="9dc03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24" name="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c5d1d"/>
                  </a:gs>
                  <a:gs pos="100000">
                    <a:srgbClr val="9dc03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d2e2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1740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6d6d2"/>
                </a:gs>
                <a:gs pos="100000">
                  <a:srgbClr val="328c8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48235"/>
                  </a:srgbClr>
                </a:gs>
                <a:gs pos="100000">
                  <a:srgbClr val="276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34080" y="32767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93640"/>
            <a:ext cx="7328520" cy="4583520"/>
            <a:chOff x="380880" y="1493640"/>
            <a:chExt cx="7328520" cy="4583520"/>
          </a:xfrm>
        </p:grpSpPr>
        <p:sp>
          <p:nvSpPr>
            <p:cNvPr id="135" name=""/>
            <p:cNvSpPr/>
            <p:nvPr/>
          </p:nvSpPr>
          <p:spPr>
            <a:xfrm rot="20241600">
              <a:off x="101088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3961800" y="25142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662904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2514240" y="53337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5104800" y="47239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1675800" y="3885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016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35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04920" y="3146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0f2b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9000" y="4613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c8300"/>
                </a:gs>
                <a:gs pos="100000">
                  <a:srgbClr val="4e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57520" y="40687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3280" y="20257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2f87d7"/>
                </a:gs>
                <a:gs pos="100000">
                  <a:srgbClr val="102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216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4580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544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316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5324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776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0840" y="22240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 flipH="1">
              <a:off x="505800" y="22237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38088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8c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c8300"/>
              </a:gs>
              <a:gs pos="100000">
                <a:srgbClr val="e5a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dc03c"/>
              </a:gs>
              <a:gs pos="100000">
                <a:srgbClr val="b9d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dc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f87d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f87d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94873"/>
              </a:gs>
              <a:gs pos="50000">
                <a:srgbClr val="2f87d7"/>
              </a:gs>
              <a:gs pos="100000">
                <a:srgbClr val="1948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f87d7">
                  <a:alpha val="0"/>
                </a:srgbClr>
              </a:gs>
              <a:gs pos="100000">
                <a:srgbClr val="1d55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9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28c8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7403c"/>
              </a:gs>
              <a:gs pos="100000">
                <a:srgbClr val="328c8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a4b46"/>
              </a:gs>
              <a:gs pos="50000">
                <a:srgbClr val="328c83"/>
              </a:gs>
              <a:gs pos="100000">
                <a:srgbClr val="1a4b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28c83">
                  <a:alpha val="0"/>
                </a:srgbClr>
              </a:gs>
              <a:gs pos="100000">
                <a:srgbClr val="1f58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0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1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dc03c"/>
              </a:gs>
              <a:gs pos="100000">
                <a:srgbClr val="328c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e63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31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606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00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765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128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308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3:36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