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1C9-8C69-4231-92BB-44FA0A59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48C-5A76-4685-BC29-9BC8F9EF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E1-7115-4A03-95EE-A4A0DF8E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583-F517-4C82-B691-F30D3E11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22DF-3322-4501-9CD1-988E4798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26DA-9774-448A-94A0-12518A7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2295-959D-46FA-B953-8819CE7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118A-B18C-42D6-8FEF-2336D9F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DF4-0A2F-49D0-85E2-C35C3218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68544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6D5-C3BF-4FB1-9AE6-2114760B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A07-B645-4B19-97E8-E657DE2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4F5-9DA1-470E-AE51-23097B85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4995-C324-4455-ABD7-AC15D79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695-016D-4B33-9910-426001E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92BD-FAE7-4CD5-8802-C5BA8B38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CCE3-7047-43A6-BD28-3ACA3859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476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3880" y="167652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476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3880" y="4000680"/>
            <a:ext cx="237996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2FE-3412-4ED9-A9DD-FD813186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179-88AF-4E8F-963F-AFF0C5C7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23-DE92-4604-911A-15C816A8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AD6-7E01-40F1-8EB6-64AA08E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68544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5AA-D5DC-4BF3-A34A-8BA11073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3C4-CCC6-440D-98AF-EB346DF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400068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D46-503E-4595-B005-C8F3F01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6888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676520"/>
            <a:ext cx="36068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000680"/>
            <a:ext cx="7391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343-F96B-470A-A96B-10A6D0F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42372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4" marL="2057400" indent="-228600">
              <a:spcBef>
                <a:spcPts val="451"/>
              </a:spcBef>
              <a:buClr>
                <a:srgbClr val="42372c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0F5-E338-43A8-A541-D40D5A3D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BFE-9DF0-4C25-8D7D-2A32EC9B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372c"/>
                </a:solidFill>
                <a:latin typeface="Arial Black"/>
              </a:rPr>
              <a:t>Second Outline Level</a:t>
            </a:r>
            <a:endParaRPr b="0" lang="en-US" sz="1600" spc="-1" strike="noStrike">
              <a:solidFill>
                <a:srgbClr val="42372c"/>
              </a:solidFill>
              <a:latin typeface="Arial Black"/>
            </a:endParaRPr>
          </a:p>
          <a:p>
            <a:pPr lvl="2" marL="914400" algn="ctr">
              <a:spcBef>
                <a:spcPts val="349"/>
              </a:spcBef>
              <a:buClr>
                <a:srgbClr val="42372c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372c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42372c"/>
              </a:solidFill>
              <a:latin typeface="Arial Black"/>
            </a:endParaRPr>
          </a:p>
          <a:p>
            <a:pPr lvl="3" marL="1371600" algn="ctr">
              <a:spcBef>
                <a:spcPts val="300"/>
              </a:spcBef>
              <a:buClr>
                <a:srgbClr val="42372c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4" marL="1828800" algn="ctr">
              <a:spcBef>
                <a:spcPts val="300"/>
              </a:spcBef>
              <a:buClr>
                <a:srgbClr val="42372c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372c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42372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工业产品设计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模板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3430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2372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372c"/>
                </a:solidFill>
                <a:latin typeface="Arial Black"/>
                <a:ea typeface="宋体"/>
              </a:rPr>
              <a:t>YOUR SUBTOPICS GO HERE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S GO HERE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6843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工业制造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1ec"/>
                </a:solidFill>
                <a:latin typeface="Times New Roman"/>
                <a:ea typeface="宋体"/>
              </a:rPr>
              <a:t>Transitional Pa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1800" spc="-1" strike="noStrike">
              <a:solidFill>
                <a:srgbClr val="42372c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578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169560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43000" y="169560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23:04Z</dcterms:created>
  <dc:creator/>
  <dc:description/>
  <cp:keywords>幻灯片之家 http:/www.eeppt.com</cp:keywords>
  <dc:language>en-US</dc:language>
  <cp:lastModifiedBy/>
  <dcterms:modified xsi:type="dcterms:W3CDTF">2015-07-05T07:09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