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1C5-1F89-4812-894A-F7177332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1FD-70F5-4909-B8BE-5AA6C952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A67-F23B-48F5-A8B1-16923B9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160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37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160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37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83A-6AF6-4436-994D-8BA99EFF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8206-B342-4D8E-BC98-8B7F8831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37D-6AA5-4722-A1B7-61DB89BB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6A6A-4D5E-4268-803E-CE11FB0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380-C932-44F4-9AA6-012F2A9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354-B07B-45D8-BC34-6B14518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57150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6A9-81B8-4729-ADA5-3D59EF3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9E9-FFEC-4805-AD57-9E03BC1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314-2B95-4965-9745-6FF740A3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823-466D-4347-B856-F6633E9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1FDD-B741-4A83-B953-62BFFC2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5B5-8032-474F-BCCD-EFF68BA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3EC-CC8C-4B97-808E-0501F59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4160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37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4160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37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907-7D8D-41EB-B4C8-22DFD444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958-3D19-40C0-9A4D-F21653B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02C-FFB1-47E1-B9C2-0E74E74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323-0353-472D-9BCD-403A0FBB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57150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884-99B2-4D77-B9B6-F29B3BB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42E-7A6A-4B63-8E22-C4893D4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D49-D05A-47D6-A171-8631185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1AB-29D2-4247-A19B-435A693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0090-2D16-479E-A15C-EA416A1BBA4A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6481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DC7-AE7A-4581-8F58-D161F07882B8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05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f6481"/>
                </a:solidFill>
                <a:latin typeface="Impact"/>
                <a:ea typeface="宋体"/>
              </a:rPr>
              <a:t>工业污染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与环保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PPT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模板</a:t>
            </a:r>
            <a:endParaRPr b="0" lang="en-US" sz="45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ranklin Gothic Dem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Franklin Gothic Demi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74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工业制造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gong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6481"/>
                </a:solidFill>
                <a:latin typeface="Impact"/>
                <a:ea typeface="宋体"/>
              </a:rPr>
              <a:t>Elements</a:t>
            </a: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1" name="windpower_prt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2" name="windpower_qx" descr=""/>
          <p:cNvPicPr/>
          <p:nvPr/>
        </p:nvPicPr>
        <p:blipFill>
          <a:blip r:embed="rId2"/>
          <a:stretch/>
        </p:blipFill>
        <p:spPr>
          <a:xfrm>
            <a:off x="0" y="2971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3" name="windpower_sld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/>
  <dc:description/>
  <cp:keywords>幻灯片之家 http:/www.eeppt.com</cp:keywords>
  <dc:language>en-US</dc:language>
  <cp:lastModifiedBy/>
  <dcterms:modified xsi:type="dcterms:W3CDTF">2015-07-05T07:10:59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