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1C1A-11D6-4D37-81BB-4D3530774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26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822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2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EA62-00AD-42EC-B8AC-4C5D24390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2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26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26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5520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26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8608-BF86-47A6-A7CE-F2F43AC12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26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220932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26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220932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26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26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5520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26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5520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26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E0FD-F67C-491B-964F-AA0AD8159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66B6F-1436-49EE-B867-FCB586558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2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152E4-C62F-4C90-9214-90DE16D29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2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F1F74-FD92-4EB5-BA5D-B18E02875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15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26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2209320"/>
            <a:ext cx="4015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2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DA2BE-D249-44A4-9273-3A2376A22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2CF46-1358-44AA-B93A-B336B96A1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000" spc="-1" strike="noStrike">
              <a:solidFill>
                <a:srgbClr val="0062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82F83-B067-49BA-B22E-7FDF67A1F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26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2209320"/>
            <a:ext cx="4015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26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2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10D50-2F8E-421D-945E-18CC4F0A2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2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1A41-0471-4EFB-9F8E-700734889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15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26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26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25520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2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F6248-D342-4183-B58B-AB7F4FB2B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26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26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822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2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820CE-645E-409A-B09F-47A723996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26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822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2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0916B-F6DC-40C7-8EFA-60F00787A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26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26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26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25520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26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A97A5-96C1-42CA-8614-E30ADE385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26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220932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26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220932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26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26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25520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26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25520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26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31F74-6DCF-4CB0-BBD8-5C8974D6B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2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9934-E042-43AB-85E4-CC6782953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15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26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2209320"/>
            <a:ext cx="4015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2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9FE3-8568-4BFB-A0D2-66B7480B0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0845-3512-4D44-8C1E-FCDFD04B3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000" spc="-1" strike="noStrike">
              <a:solidFill>
                <a:srgbClr val="0062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C99E-EAC6-4316-AF5A-440A8B239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26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2209320"/>
            <a:ext cx="4015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26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2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956B-4F1E-44D3-B762-1D8A59D4B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15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26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26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5520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2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B3FE-264A-45E1-A062-9F8CA46EE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26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26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822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2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1EA0-DA08-4FA4-9AC5-B809BFD92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62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26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626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2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26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626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62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26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626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62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26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626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62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26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626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26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626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26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626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92DAB-ADEF-4218-B01B-F7DA5AA13F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335268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5F8E0-9C7B-4797-87C9-95A48CA600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26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6260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26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626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6260"/>
              </a:buClr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26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6260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006260"/>
              </a:buClr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26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6260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6260"/>
              </a:buClr>
              <a:buFont typeface="Wingdings" charset="2"/>
              <a:buChar char="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260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006260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260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006260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260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00626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chuangyi/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440" y="335268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宋体"/>
              </a:rPr>
              <a:t>格子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宋体"/>
              </a:rPr>
              <a:t>模板下载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5029200" y="4267080"/>
            <a:ext cx="4114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1" lang="en-US" sz="1800" spc="-1" strike="noStrike">
              <a:solidFill>
                <a:srgbClr val="0062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宋体"/>
              </a:rPr>
              <a:t>Your Topic Goes Here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62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260"/>
                </a:solidFill>
                <a:latin typeface="Arial"/>
                <a:ea typeface="宋体"/>
              </a:rPr>
              <a:t>Your Subtopics Go Here</a:t>
            </a:r>
            <a:endParaRPr b="1" lang="en-US" sz="2000" spc="-1" strike="noStrike">
              <a:solidFill>
                <a:srgbClr val="0062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宋体"/>
              </a:rPr>
              <a:t>Your Topic Goes Here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Your Subtopics Go Here</a:t>
            </a:r>
            <a:endParaRPr b="1" lang="en-US" sz="2000" spc="-1" strike="noStrike">
              <a:solidFill>
                <a:srgbClr val="00626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920880" y="1693800"/>
            <a:ext cx="68198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创意设计ppt模板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chuangy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440" y="304812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260"/>
                </a:solidFill>
                <a:latin typeface="Times New Roman"/>
                <a:ea typeface="宋体"/>
              </a:rPr>
              <a:t>Transitional Page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777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ffff"/>
                </a:solidFill>
                <a:latin typeface="Times New Roman"/>
                <a:ea typeface="宋体"/>
              </a:rPr>
              <a:t>elements</a:t>
            </a:r>
            <a:endParaRPr b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www.animationfactory.com</a:t>
            </a:r>
            <a:endParaRPr b="1" lang="en-US" sz="2000" spc="-1" strike="noStrike">
              <a:solidFill>
                <a:srgbClr val="00626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5867280" y="4286160"/>
            <a:ext cx="2819520" cy="2114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438280" y="1676520"/>
            <a:ext cx="2819520" cy="21142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438280" y="4286160"/>
            <a:ext cx="2819520" cy="2114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5867280" y="1676520"/>
            <a:ext cx="2819520" cy="21142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8T22:40:12Z</dcterms:created>
  <dc:creator/>
  <dc:description/>
  <cp:keywords>幻灯片之家 http:/www.eeppt.com</cp:keywords>
  <dc:language>en-US</dc:language>
  <cp:lastModifiedBy/>
  <dcterms:modified xsi:type="dcterms:W3CDTF">2015-07-05T07:31:28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