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A20F-B800-4884-A24D-E331E006A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66520" y="21240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Butterbelly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7238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00200" y="4057200"/>
            <a:ext cx="7238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3402-3EA6-4DF1-8E83-1CBA4B67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6520" y="21240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Butterbelly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09640" y="182844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00200" y="405720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09640" y="405720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D370-B702-4D33-9FBC-F7FCA7DB7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6520" y="21240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Butterbelly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47840" y="182844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95480" y="182844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00200" y="405720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47840" y="405720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95480" y="405720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D406-90B0-4A40-A087-A33B56E69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29E8-C88B-4608-ADD5-CE7D96D81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666520" y="21240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Butterbelly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600200" y="182844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OCR-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AEC2-A1F5-44E1-B3EF-0E3D1E0A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66520" y="21240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Butterbelly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9623-6104-4AF0-A67A-FBF9A6D6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6520" y="21240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Butterbelly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09640" y="182844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1819-0EDA-4E31-BCD3-E5A9C6B7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66520" y="21240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Butterbell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760B-9B62-4320-AE55-7C6E9618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666520" y="304920"/>
            <a:ext cx="6248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OCR-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13DF-3952-424A-95D1-02FD8FC5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66520" y="21240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Butterbelly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09640" y="182844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600200" y="405720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63AC-102B-416A-AEA3-C1D73020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66520" y="21240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Butterbelly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00200" y="182844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OCR-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329B-3CF9-4802-906D-F30B874E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666520" y="21240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Butterbelly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09640" y="182844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09640" y="405720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F6D2-8A51-4759-88FE-08F6AB50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6520" y="21240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Butterbelly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09640" y="182844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600200" y="4057200"/>
            <a:ext cx="7238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6D77-167F-4F66-BB9E-077FB5A4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6520" y="21240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Butterbell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7238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600200" y="4057200"/>
            <a:ext cx="7238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418C-AFC9-4343-8D3D-5B82BC03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666520" y="21240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Butterbelly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09640" y="182844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600200" y="405720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09640" y="405720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48E3-712D-4382-90EA-124730D5E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66520" y="21240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Butterbelly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047840" y="182844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95480" y="182844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600200" y="405720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047840" y="405720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95480" y="405720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B35A-73F6-4086-BFB2-4124EF429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6520" y="21240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Butterbelly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AD8B-705E-44BF-9972-F4C2B9C1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6520" y="21240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Butterbelly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09640" y="182844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BB04-680B-48E3-AE2F-1439B39F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6520" y="21240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Butterbell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B4CD-16A8-4D8E-AF5B-5AE3BB87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666520" y="304920"/>
            <a:ext cx="6248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OCR-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2E9F-7F4B-40E8-8FAE-8BCAB92B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6520" y="21240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Butterbelly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09640" y="182844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00200" y="405720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119B-8CEF-44BE-A154-9D64EC5C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66520" y="21240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Butterbelly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09640" y="182844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09640" y="405720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47BE-BDFA-4ADB-A0DE-00A12E97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666520" y="21240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Butterbelly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09640" y="182844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00200" y="4057200"/>
            <a:ext cx="7238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9241-09A5-4087-9882-965EDB21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6520" y="30492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Butterbelly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Butterbell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0200" y="182844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OCR-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CR-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OCR-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CR-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OCR-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CR-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OCR-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CR-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OCR-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CR-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OCR-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CR-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OCR-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CR-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43FE-FA0E-4DF8-9962-C1C025DB5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990720"/>
            <a:ext cx="5715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hex_spin" descr=""/>
          <p:cNvPicPr/>
          <p:nvPr/>
        </p:nvPicPr>
        <p:blipFill>
          <a:blip r:embed="rId3"/>
          <a:stretch/>
        </p:blipFill>
        <p:spPr>
          <a:xfrm>
            <a:off x="3809880" y="1143000"/>
            <a:ext cx="1486080" cy="1382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8954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utterbelly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Butterbelly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7A37-6DBE-4246-965D-166D85765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3505320"/>
            <a:ext cx="8534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OCR-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OCR-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CR-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OCR-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OCR-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CR-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OCR-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OCR-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CR-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OCR-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OCR-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CR-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OCR-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OCR-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CR-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OCR-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OCR-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CR-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OCR-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chuangyi/" TargetMode="Externa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8954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Butterbelly"/>
                <a:ea typeface="宋体"/>
              </a:rPr>
              <a:t>红色抽象</a:t>
            </a:r>
            <a:r>
              <a:rPr b="1" lang="zh-CN" sz="4400" spc="-1" strike="noStrike">
                <a:solidFill>
                  <a:srgbClr val="ffffff"/>
                </a:solidFill>
                <a:latin typeface="Butterbelly"/>
                <a:ea typeface="宋体"/>
              </a:rPr>
              <a:t>PPT</a:t>
            </a:r>
            <a:r>
              <a:rPr b="1" lang="zh-CN" sz="4400" spc="-1" strike="noStrike">
                <a:solidFill>
                  <a:srgbClr val="ffffff"/>
                </a:solidFill>
                <a:latin typeface="Butterbelly"/>
                <a:ea typeface="宋体"/>
              </a:rPr>
              <a:t>模板</a:t>
            </a:r>
            <a:endParaRPr b="1" lang="en-US" sz="4400" spc="-1" strike="noStrike">
              <a:solidFill>
                <a:srgbClr val="ffffff"/>
              </a:solidFill>
              <a:latin typeface="Butterbelly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OCR-A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OCR-A"/>
              </a:rPr>
              <a:t>http://www.eeppt.com</a:t>
            </a:r>
            <a:endParaRPr b="1" lang="en-US" sz="2000" spc="-1" strike="noStrike">
              <a:solidFill>
                <a:srgbClr val="ffffff"/>
              </a:solidFill>
              <a:latin typeface="OCR-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66520" y="30492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Butterbelly"/>
                <a:ea typeface="宋体"/>
              </a:rPr>
              <a:t>Your Topic Goes Here</a:t>
            </a:r>
            <a:endParaRPr b="1" lang="en-US" sz="3600" spc="-1" strike="noStrike">
              <a:solidFill>
                <a:srgbClr val="800000"/>
              </a:solidFill>
              <a:latin typeface="Butterbelly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OCR-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CR-A"/>
                <a:ea typeface="宋体"/>
              </a:rPr>
              <a:t>Your subtopic goes here</a:t>
            </a: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8954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utterbelly"/>
                <a:ea typeface="宋体"/>
              </a:rPr>
              <a:t>Transitional Page</a:t>
            </a:r>
            <a:endParaRPr b="1" lang="en-US" sz="4800" spc="-1" strike="noStrike">
              <a:solidFill>
                <a:srgbClr val="ffffff"/>
              </a:solidFill>
              <a:latin typeface="Butterbelly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OCR-A"/>
              <a:ea typeface="宋体"/>
            </a:endParaRPr>
          </a:p>
        </p:txBody>
      </p:sp>
      <p:sp>
        <p:nvSpPr>
          <p:cNvPr id="91" name=""/>
          <p:cNvSpPr/>
          <p:nvPr/>
        </p:nvSpPr>
        <p:spPr>
          <a:xfrm>
            <a:off x="920880" y="1693800"/>
            <a:ext cx="68198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创意设计ppt模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chuangyi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666520" y="30492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Butterbelly"/>
                <a:ea typeface="宋体"/>
              </a:rPr>
              <a:t>Your Topic Goes Here</a:t>
            </a:r>
            <a:endParaRPr b="1" lang="en-US" sz="3600" spc="-1" strike="noStrike">
              <a:solidFill>
                <a:srgbClr val="800000"/>
              </a:solidFill>
              <a:latin typeface="Butterbelly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OCR-A"/>
              <a:buChar char="•"/>
              <a:tabLst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CR-A"/>
                <a:ea typeface="宋体"/>
              </a:rPr>
              <a:t>Your subtopic goes here</a:t>
            </a: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CR-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1T21:34:32Z</dcterms:created>
  <dc:creator/>
  <dc:description/>
  <cp:keywords>幻灯片之家 http:/www.eeppt.com</cp:keywords>
  <dc:language>en-US</dc:language>
  <cp:lastModifiedBy/>
  <dcterms:modified xsi:type="dcterms:W3CDTF">2015-07-05T07:30:19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