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2DBE-8DD5-4B51-9A90-2FEDD2840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0176-9001-4D90-A73B-7CF9A777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580C-44AB-4108-914A-3E8B03126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4802-5302-449C-AB41-54B5AFE1D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0B0-F776-4EC7-8EC8-EF89D268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3AB9-F301-4824-96FF-DF11F09D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A87-CAE2-46BB-9B3F-A2CDA64B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4834-6F09-4986-B735-B3C67445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A84-0AC3-4B4A-953C-39702FE1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718B-36F0-4369-AA14-F390586C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D6B-86D9-44FA-ABC1-82C77B20A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272-AFD6-48AB-BDD9-99D151F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5A33-0FC8-4F87-8034-C3D26835349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1BFC-A160-4197-80C6-713C6B234D5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椭圆 10"/>
          <p:cNvSpPr/>
          <p:nvPr/>
        </p:nvSpPr>
        <p:spPr>
          <a:xfrm>
            <a:off x="317520" y="4389480"/>
            <a:ext cx="6116760" cy="1085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5"/>
          <p:cNvSpPr/>
          <p:nvPr/>
        </p:nvSpPr>
        <p:spPr>
          <a:xfrm>
            <a:off x="2541600" y="1965240"/>
            <a:ext cx="1668600" cy="31402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1"/>
          <p:cNvSpPr/>
          <p:nvPr/>
        </p:nvSpPr>
        <p:spPr>
          <a:xfrm>
            <a:off x="3375000" y="3598920"/>
            <a:ext cx="309600" cy="10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右箭头 1"/>
          <p:cNvSpPr/>
          <p:nvPr/>
        </p:nvSpPr>
        <p:spPr>
          <a:xfrm rot="20832600">
            <a:off x="917280" y="2534760"/>
            <a:ext cx="5221080" cy="2125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43"/>
          <p:cNvSpPr/>
          <p:nvPr/>
        </p:nvSpPr>
        <p:spPr>
          <a:xfrm rot="20832600">
            <a:off x="4343040" y="2119320"/>
            <a:ext cx="1838160" cy="10634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61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44"/>
          <p:cNvSpPr/>
          <p:nvPr/>
        </p:nvSpPr>
        <p:spPr>
          <a:xfrm rot="20832600">
            <a:off x="4614840" y="3129120"/>
            <a:ext cx="1787400" cy="1076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86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任意多边形 45"/>
          <p:cNvSpPr/>
          <p:nvPr/>
        </p:nvSpPr>
        <p:spPr>
          <a:xfrm>
            <a:off x="2306520" y="1965240"/>
            <a:ext cx="258840" cy="3146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 flipH="1" rot="20856000">
            <a:off x="4136400" y="3063600"/>
            <a:ext cx="16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7"/>
          <p:cNvSpPr/>
          <p:nvPr/>
        </p:nvSpPr>
        <p:spPr>
          <a:xfrm flipH="1">
            <a:off x="2585880" y="2092320"/>
            <a:ext cx="4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f3f3f"/>
                </a:solidFill>
                <a:latin typeface="微软雅黑"/>
                <a:ea typeface="微软雅黑"/>
              </a:rPr>
              <a:t>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5987880" y="4251240"/>
            <a:ext cx="2184480" cy="459000"/>
            <a:chOff x="5987880" y="4251240"/>
            <a:chExt cx="2184480" cy="459000"/>
          </a:xfrm>
        </p:grpSpPr>
        <p:sp>
          <p:nvSpPr>
            <p:cNvPr id="51" name="TextBox 11"/>
            <p:cNvSpPr/>
            <p:nvPr/>
          </p:nvSpPr>
          <p:spPr>
            <a:xfrm flipH="1">
              <a:off x="5987880" y="42512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11"/>
            <p:cNvSpPr/>
            <p:nvPr/>
          </p:nvSpPr>
          <p:spPr>
            <a:xfrm flipH="1">
              <a:off x="7026120" y="42512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1"/>
          <p:cNvSpPr/>
          <p:nvPr/>
        </p:nvSpPr>
        <p:spPr>
          <a:xfrm flipH="1">
            <a:off x="6010200" y="38336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03400" y="5800680"/>
            <a:ext cx="5756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38560" y="20750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34520" y="1047600"/>
            <a:ext cx="45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简洁箭头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ACC2-EA26-4524-A63E-8760340AF8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21:37:00Z</dcterms:created>
  <dc:creator/>
  <dc:description/>
  <cp:keywords>幻灯片之家 http:/www.eeppt.com</cp:keywords>
  <dc:language>en-US</dc:language>
  <cp:lastModifiedBy/>
  <dcterms:modified xsi:type="dcterms:W3CDTF">2015-07-06T03:58:24Z</dcterms:modified>
  <cp:revision>8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Presentation">
    <vt:lpwstr>锐普图表</vt:lpwstr>
  </property>
</Properties>
</file>