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C99-B698-4778-8D52-6281D961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7C7-0506-4647-9452-E9CEE393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ADB1-FBC4-47DB-A4B1-B9A8A006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5BB-71C6-4746-BA22-C548E1BB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0CD-35B5-4770-B891-DD75CBA7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56E-D5B4-4BFD-8A5A-E5FE05E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14C-90FC-41E4-A19B-9700035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186F-AD9A-46C6-8614-597B9DA6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A107-1B62-44AC-9FEC-D4290925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D30-19DA-4C5B-9520-19643FAC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6D2-F464-4A16-B33B-19669E7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F4D-22B7-4713-B89E-993B529F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4F3D-C7FD-4327-A68D-AD241EFE3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副本"/>
          <p:cNvPicPr/>
          <p:nvPr/>
        </p:nvPicPr>
        <p:blipFill>
          <a:blip r:embed="rId1"/>
          <a:stretch/>
        </p:blipFill>
        <p:spPr>
          <a:xfrm>
            <a:off x="-108000" y="-98280"/>
            <a:ext cx="9369360" cy="7005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4365720"/>
            <a:ext cx="79171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绿色是生命的像征                 更是环保的像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9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2600" y="40464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简洁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YL`{@GIGRB0Q[UI94Z14VGQ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20080311190227[1]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2009061011340099[1]"/>
          <p:cNvPicPr/>
          <p:nvPr/>
        </p:nvPicPr>
        <p:blipFill>
          <a:blip r:embed="rId3"/>
          <a:stretch/>
        </p:blipFill>
        <p:spPr>
          <a:xfrm>
            <a:off x="4572000" y="1486080"/>
            <a:ext cx="4572000" cy="280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68ae2d3d1bd1f3d955e723a2[1]"/>
          <p:cNvPicPr/>
          <p:nvPr/>
        </p:nvPicPr>
        <p:blipFill>
          <a:blip r:embed="rId4"/>
          <a:stretch/>
        </p:blipFill>
        <p:spPr>
          <a:xfrm>
            <a:off x="0" y="4149720"/>
            <a:ext cx="3132000" cy="2708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44360" y="112680"/>
            <a:ext cx="882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Arial"/>
              </a:rPr>
              <a:t>用我们的双手栽下漫天的绿色              用我们的心灵守望五彩的家园</a:t>
            </a:r>
            <a:r>
              <a:rPr b="1" lang="en-US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7"/>
          <p:cNvGrpSpPr/>
          <p:nvPr/>
        </p:nvGrpSpPr>
        <p:grpSpPr>
          <a:xfrm>
            <a:off x="3132000" y="4149720"/>
            <a:ext cx="3024360" cy="2709720"/>
            <a:chOff x="3132000" y="4149720"/>
            <a:chExt cx="3024360" cy="2709720"/>
          </a:xfrm>
        </p:grpSpPr>
        <p:pic>
          <p:nvPicPr>
            <p:cNvPr id="97" name="Picture 8" descr="07784a18ce0d8eab4aedbc9e[1]"/>
            <p:cNvPicPr/>
            <p:nvPr/>
          </p:nvPicPr>
          <p:blipFill>
            <a:blip r:embed="rId5"/>
            <a:stretch/>
          </p:blipFill>
          <p:spPr>
            <a:xfrm>
              <a:off x="3132000" y="4149720"/>
              <a:ext cx="30243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9"/>
            <p:cNvSpPr/>
            <p:nvPr/>
          </p:nvSpPr>
          <p:spPr>
            <a:xfrm>
              <a:off x="3352680" y="4852080"/>
              <a:ext cx="423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</a:rPr>
                <a:t>不要等到最后一秒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>
              <a:off x="3713040" y="4251600"/>
              <a:ext cx="423720" cy="20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66699"/>
                  </a:solidFill>
                  <a:latin typeface="Arial"/>
                </a:rPr>
                <a:t>我们才知道珍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11" descr="6ad01a259da02934908f9d0b[1]"/>
          <p:cNvPicPr/>
          <p:nvPr/>
        </p:nvPicPr>
        <p:blipFill>
          <a:blip r:embed="rId6"/>
          <a:stretch/>
        </p:blipFill>
        <p:spPr>
          <a:xfrm>
            <a:off x="6156360" y="4149720"/>
            <a:ext cx="3058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500"/>
                            </p:stCondLst>
                            <p:childTnLst>
                              <p:par>
                                <p:cTn id="2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500"/>
                            </p:stCondLst>
                            <p:childTnLst>
                              <p:par>
                                <p:cTn id="2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635f2d801e563ef9bd3e1e3b[1]"/>
          <p:cNvPicPr/>
          <p:nvPr/>
        </p:nvPicPr>
        <p:blipFill>
          <a:blip r:embed="rId1"/>
          <a:stretch/>
        </p:blipFill>
        <p:spPr>
          <a:xfrm>
            <a:off x="-31680" y="-131760"/>
            <a:ext cx="9356760" cy="7016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427640" y="0"/>
            <a:ext cx="4427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ff00"/>
                </a:solidFill>
                <a:latin typeface="Arial"/>
              </a:rPr>
              <a:t>我爱绿色，绿的可靠，绿的谦虚，绿的宽容，绿的博大与永恒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ff00"/>
                </a:solidFill>
                <a:latin typeface="Arial"/>
              </a:rPr>
              <a:t>我爱这有着无限生命力，充溢着旺盛的青春气息滴翠的色彩。这四季的绿就像人的一生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949-2811-491C-9DAB-9BADC46D8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l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24000" y="3789360"/>
            <a:ext cx="84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光阴荏苒，绿色又向我们走来，我按捺不住激动的心，于是又沉浸在绿色遐思之中树成荫  草成被   花吐艳   驻四季皆春 山变绿  水变清  鸟歌唱迎八方清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69a71ab50a1be6df37d3cac4[1]"/>
          <p:cNvPicPr/>
          <p:nvPr/>
        </p:nvPicPr>
        <p:blipFill>
          <a:blip r:embed="rId1"/>
          <a:stretch/>
        </p:blipFill>
        <p:spPr>
          <a:xfrm>
            <a:off x="-31680" y="-22320"/>
            <a:ext cx="9356760" cy="70246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3"/>
          <p:cNvGrpSpPr/>
          <p:nvPr/>
        </p:nvGrpSpPr>
        <p:grpSpPr>
          <a:xfrm>
            <a:off x="250920" y="1442880"/>
            <a:ext cx="12493080" cy="4662360"/>
            <a:chOff x="250920" y="1442880"/>
            <a:chExt cx="12493080" cy="4662360"/>
          </a:xfrm>
        </p:grpSpPr>
        <p:sp>
          <p:nvSpPr>
            <p:cNvPr id="110" name="Text Box 4"/>
            <p:cNvSpPr/>
            <p:nvPr/>
          </p:nvSpPr>
          <p:spPr>
            <a:xfrm>
              <a:off x="3016080" y="1442880"/>
              <a:ext cx="1836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250920" y="5343480"/>
              <a:ext cx="79927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6"/>
            <p:cNvSpPr/>
            <p:nvPr/>
          </p:nvSpPr>
          <p:spPr>
            <a:xfrm>
              <a:off x="3563640" y="2781000"/>
              <a:ext cx="5040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7"/>
            <p:cNvSpPr/>
            <p:nvPr/>
          </p:nvSpPr>
          <p:spPr>
            <a:xfrm>
              <a:off x="6803640" y="3897000"/>
              <a:ext cx="594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-22320"/>
            <a:ext cx="9217080" cy="7196040"/>
            <a:chOff x="0" y="-22320"/>
            <a:chExt cx="9217080" cy="7196040"/>
          </a:xfrm>
        </p:grpSpPr>
        <p:pic>
          <p:nvPicPr>
            <p:cNvPr id="46" name="Picture 3" descr="200912210531381277806[1]"/>
            <p:cNvPicPr/>
            <p:nvPr/>
          </p:nvPicPr>
          <p:blipFill>
            <a:blip r:embed="rId1"/>
            <a:stretch/>
          </p:blipFill>
          <p:spPr>
            <a:xfrm>
              <a:off x="0" y="3791520"/>
              <a:ext cx="4572000" cy="33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4" descr="200692415202073825[1]"/>
            <p:cNvPicPr/>
            <p:nvPr/>
          </p:nvPicPr>
          <p:blipFill>
            <a:blip r:embed="rId2"/>
            <a:stretch/>
          </p:blipFill>
          <p:spPr>
            <a:xfrm>
              <a:off x="4500720" y="3956400"/>
              <a:ext cx="4716360" cy="32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W020081209561981215968[1]"/>
            <p:cNvPicPr/>
            <p:nvPr/>
          </p:nvPicPr>
          <p:blipFill>
            <a:blip r:embed="rId3"/>
            <a:stretch/>
          </p:blipFill>
          <p:spPr>
            <a:xfrm>
              <a:off x="0" y="-22320"/>
              <a:ext cx="4483080" cy="400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过度放牧"/>
            <p:cNvPicPr/>
            <p:nvPr/>
          </p:nvPicPr>
          <p:blipFill>
            <a:blip r:embed="rId4"/>
            <a:stretch/>
          </p:blipFill>
          <p:spPr>
            <a:xfrm>
              <a:off x="4446720" y="-22320"/>
              <a:ext cx="4733640" cy="40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AutoShape 7"/>
          <p:cNvSpPr/>
          <p:nvPr/>
        </p:nvSpPr>
        <p:spPr>
          <a:xfrm>
            <a:off x="7308720" y="4292640"/>
            <a:ext cx="1657440" cy="863640"/>
          </a:xfrm>
          <a:prstGeom prst="wedgeEllipseCallout">
            <a:avLst>
              <a:gd name="adj1" fmla="val -33907"/>
              <a:gd name="adj2" fmla="val 79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</a:rPr>
              <a:t>过度放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 flipH="1">
            <a:off x="108000" y="115920"/>
            <a:ext cx="1657440" cy="863640"/>
          </a:xfrm>
          <a:prstGeom prst="wedgeEllipseCallout">
            <a:avLst>
              <a:gd name="adj1" fmla="val -27203"/>
              <a:gd name="adj2" fmla="val 77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</a:rPr>
              <a:t>人类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7236000" y="333360"/>
            <a:ext cx="1657080" cy="863640"/>
          </a:xfrm>
          <a:prstGeom prst="wedgeEllipseCallout">
            <a:avLst>
              <a:gd name="adj1" fmla="val -32662"/>
              <a:gd name="adj2" fmla="val 845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</a:rPr>
              <a:t>工业污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flipH="1">
            <a:off x="250200" y="4221000"/>
            <a:ext cx="1657080" cy="863640"/>
          </a:xfrm>
          <a:prstGeom prst="wedgeEllipseCallout">
            <a:avLst>
              <a:gd name="adj1" fmla="val -27203"/>
              <a:gd name="adj2" fmla="val 77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ccff"/>
                </a:solidFill>
                <a:latin typeface="Arial"/>
              </a:rPr>
              <a:t>过度砍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2268360" y="2060640"/>
            <a:ext cx="4824720" cy="3456000"/>
          </a:xfrm>
          <a:prstGeom prst="cloudCallout">
            <a:avLst>
              <a:gd name="adj1" fmla="val -52467"/>
              <a:gd name="adj2" fmla="val 280958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让我们想一想，人类过度地消耗资源和污染环境，会给地球造成怎样的灾难；让我们想一想，我们每个在这样的灾难中负有怎样不可推卸的责任。当脆弱的生态难以维系，人类的消费将如何   持续；当地球患了绝症，人类又能生存多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20090428171337[1]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44360" y="26496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当青蛙的绿色，成为了远古的回忆；当娇啭的鸟鸣，成为了昨夜的童话；当砍伐树木的热血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在奋力的呐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人类，还会剩下怎样的记忆？人类，耗费大量的水，却将废弃毒液排进明澈的地球血液，使地球的心脏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为这粘稠的血液，越来越不堪重负。人类，使藏羚羊的鲜血绽开在最圣洁的土地上，最美丽的地方，上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卧着骨，下面藏着皮，真是悲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`C0X0TG70F2KNMO%MDFODX"/>
          <p:cNvPicPr/>
          <p:nvPr/>
        </p:nvPicPr>
        <p:blipFill>
          <a:blip r:embed="rId1"/>
          <a:stretch/>
        </p:blipFill>
        <p:spPr>
          <a:xfrm>
            <a:off x="1440" y="0"/>
            <a:ext cx="9178920" cy="6958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79280" y="731880"/>
            <a:ext cx="867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cc33"/>
                </a:solidFill>
                <a:latin typeface="Arial"/>
              </a:rPr>
              <a:t>人 类 既 是 环 境 灾难 的 制 造 者 ， 也是 环 境 灾 难 的 受害 者 ， 更 是 环 境灾 难 的 治 理 者 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108000" y="189000"/>
            <a:ext cx="5229000" cy="5591160"/>
            <a:chOff x="108000" y="189000"/>
            <a:chExt cx="5229000" cy="5591160"/>
          </a:xfrm>
        </p:grpSpPr>
        <p:pic>
          <p:nvPicPr>
            <p:cNvPr id="60" name="Picture 3" descr="OOOPIC_liuzhenwei1987_20090223da68c648d2d5e76a[1]"/>
            <p:cNvPicPr/>
            <p:nvPr/>
          </p:nvPicPr>
          <p:blipFill>
            <a:blip r:embed="rId1"/>
            <a:stretch/>
          </p:blipFill>
          <p:spPr>
            <a:xfrm>
              <a:off x="108000" y="189000"/>
              <a:ext cx="5229000" cy="559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4"/>
            <p:cNvSpPr/>
            <p:nvPr/>
          </p:nvSpPr>
          <p:spPr>
            <a:xfrm>
              <a:off x="2328480" y="1808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ff00"/>
                  </a:solidFill>
                  <a:latin typeface="Arial"/>
                </a:rPr>
                <a:t>绿色地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5"/>
          <p:cNvSpPr/>
          <p:nvPr/>
        </p:nvSpPr>
        <p:spPr>
          <a:xfrm>
            <a:off x="5492520" y="166356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节约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341840" y="191628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减少污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901840" y="245592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绿色消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652880" y="281628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环保选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636880" y="324792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重复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292520" y="371628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多次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276520" y="404028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7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垃圾分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003800" y="465300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8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循环回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700160" y="4941720"/>
            <a:ext cx="10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9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救助物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430320" y="5479920"/>
            <a:ext cx="12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10.</a:t>
            </a:r>
            <a:r>
              <a:rPr b="1" lang="zh-CN" sz="2000" spc="-1" strike="noStrike">
                <a:solidFill>
                  <a:srgbClr val="33cc33"/>
                </a:solidFill>
                <a:latin typeface="Arial"/>
              </a:rPr>
              <a:t>保护自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684360" y="5877000"/>
            <a:ext cx="44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179280" y="59961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追 求 绿 色 时 尚     拥  抱 绿 色 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076720" y="519120"/>
            <a:ext cx="39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cc33"/>
                </a:solidFill>
                <a:latin typeface="Arial"/>
              </a:rPr>
              <a:t>我们每个人都可以通过选择绿色的生活方式来参与环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80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8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3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80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300"/>
                            </p:stCondLst>
                            <p:childTnLst>
                              <p:par>
                                <p:cTn id="1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300"/>
                            </p:stCondLst>
                            <p:childTnLst>
                              <p:par>
                                <p:cTn id="1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7300"/>
                            </p:stCondLst>
                            <p:childTnLst>
                              <p:par>
                                <p:cTn id="1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8800"/>
                            </p:stCondLst>
                            <p:childTnLst>
                              <p:par>
                                <p:cTn id="1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400"/>
                            </p:stCondLst>
                            <p:childTnLst>
                              <p:par>
                                <p:cTn id="1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绿    色   生   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032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99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6699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绿色生活是新世纪的信息，它引导着企业界去发展绿色技术和清洁生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324000" y="1413000"/>
            <a:ext cx="4322520" cy="5149800"/>
            <a:chOff x="324000" y="1413000"/>
            <a:chExt cx="4322520" cy="5149800"/>
          </a:xfrm>
        </p:grpSpPr>
        <p:pic>
          <p:nvPicPr>
            <p:cNvPr id="78" name="Picture 5" descr="24[1]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432072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201083183747[1]"/>
            <p:cNvPicPr/>
            <p:nvPr/>
          </p:nvPicPr>
          <p:blipFill>
            <a:blip r:embed="rId2"/>
            <a:stretch/>
          </p:blipFill>
          <p:spPr>
            <a:xfrm>
              <a:off x="324000" y="4077000"/>
              <a:ext cx="4322520" cy="24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7"/>
          <p:cNvSpPr/>
          <p:nvPr/>
        </p:nvSpPr>
        <p:spPr>
          <a:xfrm>
            <a:off x="5148360" y="324972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绿色生活是新世纪的要求，它鼓励政治家去承担人类可持续发展的责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5076720" y="479736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绿色生活是新世纪的时尚，它体现着一个人的文明与素养，也标志着一个民族的素质和力量。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}~YNS74JI`Q63XBKNWV4C9P"/>
          <p:cNvPicPr/>
          <p:nvPr/>
        </p:nvPicPr>
        <p:blipFill>
          <a:blip r:embed="rId1"/>
          <a:stretch/>
        </p:blipFill>
        <p:spPr>
          <a:xfrm>
            <a:off x="-68400" y="-101520"/>
            <a:ext cx="9212400" cy="6959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79280" y="4076640"/>
            <a:ext cx="889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追求绿色时尚 拥抱绿色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清新氧气源于绿色 健康生命源于自然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让水更清，让天更蓝，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                               让花更艳，让我们的地球更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让风沙不再猖狂，还地球一片绿色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2781360"/>
            <a:ext cx="5756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简洁ppt模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aa9b63645a73c0b0a55a99d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95280" y="501480"/>
            <a:ext cx="4897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聪明的欧亨利在小说中，以最后的一片不凋的绿叶带了一个危亡病人的新生，我想，我们也会创造一个欧亨利式的结局，带来人类的新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人人参与创建绿色家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859280" y="1844640"/>
            <a:ext cx="388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716360" y="1587600"/>
            <a:ext cx="4032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ff00"/>
                </a:solidFill>
                <a:latin typeface="Arial"/>
              </a:rPr>
              <a:t>      </a:t>
            </a:r>
            <a:r>
              <a:rPr b="1" lang="zh-CN" sz="2900" spc="-1" strike="noStrike">
                <a:solidFill>
                  <a:srgbClr val="33cc33"/>
                </a:solidFill>
                <a:latin typeface="Arial"/>
              </a:rPr>
              <a:t>从现在开始我们从小事做起，从身边做起，捡起地下的一片纸屑，关爱一只小鸟，爱护一棵小树，怀着绿色文明的信念，踏着时代的步伐，寻找绿色的生命，去拥抱绿色的明天。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33cc33"/>
                </a:solidFill>
                <a:latin typeface="Arial"/>
              </a:rPr>
              <a:t>给地球母亲一份爱，她会还你整个世界</a:t>
            </a: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2008121593013818[1]"/>
          <p:cNvPicPr/>
          <p:nvPr/>
        </p:nvPicPr>
        <p:blipFill>
          <a:blip r:embed="rId1"/>
          <a:stretch/>
        </p:blipFill>
        <p:spPr>
          <a:xfrm>
            <a:off x="395280" y="1486080"/>
            <a:ext cx="4032360" cy="46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2:29:03Z</dcterms:created>
  <dc:creator/>
  <dc:description/>
  <cp:keywords>幻灯片之家 http:/www.eeppt.com</cp:keywords>
  <dc:language>en-US</dc:language>
  <cp:lastModifiedBy/>
  <dcterms:modified xsi:type="dcterms:W3CDTF">2015-07-06T04:00:30Z</dcterms:modified>
  <cp:revision>6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