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A0A-3D1A-4264-95F5-F2BD2B79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11D-214F-4565-9C43-DA92B33D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E31-7BDE-45E2-B577-A132219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A7A-5E1D-4CD5-82D8-32B5A1B9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748-E99B-47C1-BDEF-F513915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613-3008-4C02-9E5F-65378ABE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C9F-3C76-41E1-B103-BE523CD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283-E903-4235-AEBF-3974448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644-AEAF-4D5A-9BD1-175D1F06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C33-244C-4E8D-B6AC-70DFB04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6EF-E3EB-4E98-A040-3E9A5628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91A-096D-4382-A57D-23B608BB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DDF-B5B2-4967-8D19-BE02F6122E7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942-FAD5-407F-A794-06EDBAFA90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www.eeppt.com/moban/jianjie/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-379440"/>
            <a:ext cx="12192120" cy="761832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-92160" y="1084320"/>
            <a:ext cx="12190320" cy="34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简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 免费完整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308240" y="1689120"/>
            <a:ext cx="95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"/>
          <p:cNvSpPr/>
          <p:nvPr/>
        </p:nvSpPr>
        <p:spPr>
          <a:xfrm>
            <a:off x="3016080" y="3429000"/>
            <a:ext cx="62676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240" y="6269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0960" y="2719440"/>
            <a:ext cx="3800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简洁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0" y="-379440"/>
            <a:ext cx="12192120" cy="761832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0" y="531720"/>
            <a:ext cx="12192120" cy="57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7600" y="1111320"/>
            <a:ext cx="6261120" cy="1123560"/>
            <a:chOff x="2757600" y="1111320"/>
            <a:chExt cx="6261120" cy="1123560"/>
          </a:xfrm>
        </p:grpSpPr>
        <p:pic>
          <p:nvPicPr>
            <p:cNvPr id="50" name="AutoShape 864" descr=""/>
            <p:cNvPicPr/>
            <p:nvPr/>
          </p:nvPicPr>
          <p:blipFill>
            <a:blip r:embed="rId3"/>
            <a:stretch/>
          </p:blipFill>
          <p:spPr>
            <a:xfrm>
              <a:off x="2757600" y="1111320"/>
              <a:ext cx="6261120" cy="11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"/>
            <p:cNvSpPr/>
            <p:nvPr/>
          </p:nvSpPr>
          <p:spPr>
            <a:xfrm>
              <a:off x="2952720" y="1298520"/>
              <a:ext cx="56991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86040" y="1268280"/>
            <a:ext cx="4867200" cy="560160"/>
            <a:chOff x="3686040" y="1268280"/>
            <a:chExt cx="4867200" cy="560160"/>
          </a:xfrm>
        </p:grpSpPr>
        <p:sp>
          <p:nvSpPr>
            <p:cNvPr id="53" name="AutoShape 50"/>
            <p:cNvSpPr/>
            <p:nvPr/>
          </p:nvSpPr>
          <p:spPr>
            <a:xfrm>
              <a:off x="3686040" y="1268280"/>
              <a:ext cx="4867200" cy="56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1"/>
            <p:cNvSpPr/>
            <p:nvPr/>
          </p:nvSpPr>
          <p:spPr>
            <a:xfrm>
              <a:off x="3800880" y="1335960"/>
              <a:ext cx="4556520" cy="26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39320" bIns="-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47"/>
          <p:cNvSpPr/>
          <p:nvPr/>
        </p:nvSpPr>
        <p:spPr>
          <a:xfrm>
            <a:off x="3125520" y="120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57600" y="2008080"/>
            <a:ext cx="6261120" cy="1116000"/>
            <a:chOff x="2757600" y="2008080"/>
            <a:chExt cx="6261120" cy="1116000"/>
          </a:xfrm>
        </p:grpSpPr>
        <p:grpSp>
          <p:nvGrpSpPr>
            <p:cNvPr id="57" name=""/>
            <p:cNvGrpSpPr/>
            <p:nvPr/>
          </p:nvGrpSpPr>
          <p:grpSpPr>
            <a:xfrm>
              <a:off x="2757600" y="2008080"/>
              <a:ext cx="6261120" cy="1116000"/>
              <a:chOff x="2757600" y="2008080"/>
              <a:chExt cx="6261120" cy="1116000"/>
            </a:xfrm>
          </p:grpSpPr>
          <p:pic>
            <p:nvPicPr>
              <p:cNvPr id="58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757600" y="200808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12"/>
              <p:cNvSpPr/>
              <p:nvPr/>
            </p:nvSpPr>
            <p:spPr>
              <a:xfrm>
                <a:off x="2951280" y="2194560"/>
                <a:ext cx="5700240" cy="55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714120" y="2184840"/>
              <a:ext cx="4866120" cy="559080"/>
              <a:chOff x="3714120" y="2184840"/>
              <a:chExt cx="4866120" cy="559080"/>
            </a:xfrm>
          </p:grpSpPr>
          <p:sp>
            <p:nvSpPr>
              <p:cNvPr id="61" name="AutoShape 50"/>
              <p:cNvSpPr/>
              <p:nvPr/>
            </p:nvSpPr>
            <p:spPr>
              <a:xfrm>
                <a:off x="3714120" y="2184840"/>
                <a:ext cx="486612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51"/>
              <p:cNvSpPr/>
              <p:nvPr/>
            </p:nvSpPr>
            <p:spPr>
              <a:xfrm>
                <a:off x="3872520" y="2215080"/>
                <a:ext cx="4555800" cy="262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896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Box 53"/>
            <p:cNvSpPr/>
            <p:nvPr/>
          </p:nvSpPr>
          <p:spPr>
            <a:xfrm>
              <a:off x="3125160" y="2103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57600" y="2905200"/>
            <a:ext cx="6261120" cy="1114200"/>
            <a:chOff x="2757600" y="2905200"/>
            <a:chExt cx="6261120" cy="1114200"/>
          </a:xfrm>
        </p:grpSpPr>
        <p:grpSp>
          <p:nvGrpSpPr>
            <p:cNvPr id="65" name=""/>
            <p:cNvGrpSpPr/>
            <p:nvPr/>
          </p:nvGrpSpPr>
          <p:grpSpPr>
            <a:xfrm>
              <a:off x="2757600" y="2905200"/>
              <a:ext cx="6261120" cy="1114200"/>
              <a:chOff x="2757600" y="2905200"/>
              <a:chExt cx="6261120" cy="1114200"/>
            </a:xfrm>
          </p:grpSpPr>
          <p:pic>
            <p:nvPicPr>
              <p:cNvPr id="66" name="AutoShape 864" descr=""/>
              <p:cNvPicPr/>
              <p:nvPr/>
            </p:nvPicPr>
            <p:blipFill>
              <a:blip r:embed="rId5"/>
              <a:stretch/>
            </p:blipFill>
            <p:spPr>
              <a:xfrm>
                <a:off x="2757600" y="2905200"/>
                <a:ext cx="626112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20"/>
              <p:cNvSpPr/>
              <p:nvPr/>
            </p:nvSpPr>
            <p:spPr>
              <a:xfrm>
                <a:off x="2951280" y="3090600"/>
                <a:ext cx="570024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3714120" y="3080880"/>
              <a:ext cx="4866120" cy="558360"/>
              <a:chOff x="3714120" y="3080880"/>
              <a:chExt cx="4866120" cy="558360"/>
            </a:xfrm>
          </p:grpSpPr>
          <p:sp>
            <p:nvSpPr>
              <p:cNvPr id="69" name="AutoShape 50"/>
              <p:cNvSpPr/>
              <p:nvPr/>
            </p:nvSpPr>
            <p:spPr>
              <a:xfrm>
                <a:off x="3714120" y="3080880"/>
                <a:ext cx="4866120" cy="55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51"/>
              <p:cNvSpPr/>
              <p:nvPr/>
            </p:nvSpPr>
            <p:spPr>
              <a:xfrm>
                <a:off x="3872520" y="3111120"/>
                <a:ext cx="455580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93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59"/>
            <p:cNvSpPr/>
            <p:nvPr/>
          </p:nvSpPr>
          <p:spPr>
            <a:xfrm>
              <a:off x="3125160" y="2999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57600" y="3800520"/>
            <a:ext cx="6261120" cy="1116000"/>
            <a:chOff x="2757600" y="3800520"/>
            <a:chExt cx="6261120" cy="1116000"/>
          </a:xfrm>
        </p:grpSpPr>
        <p:grpSp>
          <p:nvGrpSpPr>
            <p:cNvPr id="73" name=""/>
            <p:cNvGrpSpPr/>
            <p:nvPr/>
          </p:nvGrpSpPr>
          <p:grpSpPr>
            <a:xfrm>
              <a:off x="2757600" y="3800520"/>
              <a:ext cx="6261120" cy="1116000"/>
              <a:chOff x="2757600" y="3800520"/>
              <a:chExt cx="6261120" cy="1116000"/>
            </a:xfrm>
          </p:grpSpPr>
          <p:pic>
            <p:nvPicPr>
              <p:cNvPr id="74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7600" y="380052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28"/>
              <p:cNvSpPr/>
              <p:nvPr/>
            </p:nvSpPr>
            <p:spPr>
              <a:xfrm>
                <a:off x="2950920" y="3985200"/>
                <a:ext cx="57006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714120" y="3975840"/>
              <a:ext cx="4866120" cy="558000"/>
              <a:chOff x="3714120" y="3975840"/>
              <a:chExt cx="4866120" cy="558000"/>
            </a:xfrm>
          </p:grpSpPr>
          <p:sp>
            <p:nvSpPr>
              <p:cNvPr id="77" name="AutoShape 50"/>
              <p:cNvSpPr/>
              <p:nvPr/>
            </p:nvSpPr>
            <p:spPr>
              <a:xfrm>
                <a:off x="3714120" y="3975840"/>
                <a:ext cx="4866120" cy="55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51"/>
              <p:cNvSpPr/>
              <p:nvPr/>
            </p:nvSpPr>
            <p:spPr>
              <a:xfrm>
                <a:off x="3872520" y="4006080"/>
                <a:ext cx="455580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93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65"/>
            <p:cNvSpPr/>
            <p:nvPr/>
          </p:nvSpPr>
          <p:spPr>
            <a:xfrm>
              <a:off x="3125160" y="389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57600" y="4691160"/>
            <a:ext cx="6261120" cy="1120680"/>
            <a:chOff x="2757600" y="4691160"/>
            <a:chExt cx="6261120" cy="1120680"/>
          </a:xfrm>
        </p:grpSpPr>
        <p:grpSp>
          <p:nvGrpSpPr>
            <p:cNvPr id="81" name=""/>
            <p:cNvGrpSpPr/>
            <p:nvPr/>
          </p:nvGrpSpPr>
          <p:grpSpPr>
            <a:xfrm>
              <a:off x="2757600" y="4691160"/>
              <a:ext cx="6261120" cy="1120680"/>
              <a:chOff x="2757600" y="4691160"/>
              <a:chExt cx="6261120" cy="1120680"/>
            </a:xfrm>
          </p:grpSpPr>
          <p:pic>
            <p:nvPicPr>
              <p:cNvPr id="82" name="AutoShape 864" descr=""/>
              <p:cNvPicPr/>
              <p:nvPr/>
            </p:nvPicPr>
            <p:blipFill>
              <a:blip r:embed="rId7"/>
              <a:stretch/>
            </p:blipFill>
            <p:spPr>
              <a:xfrm>
                <a:off x="2757600" y="4691160"/>
                <a:ext cx="6261120" cy="11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36"/>
              <p:cNvSpPr/>
              <p:nvPr/>
            </p:nvSpPr>
            <p:spPr>
              <a:xfrm>
                <a:off x="2951280" y="4881240"/>
                <a:ext cx="570024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714120" y="4871520"/>
              <a:ext cx="4866120" cy="558360"/>
              <a:chOff x="3714120" y="4871520"/>
              <a:chExt cx="4866120" cy="558360"/>
            </a:xfrm>
          </p:grpSpPr>
          <p:sp>
            <p:nvSpPr>
              <p:cNvPr id="85" name="AutoShape 50"/>
              <p:cNvSpPr/>
              <p:nvPr/>
            </p:nvSpPr>
            <p:spPr>
              <a:xfrm>
                <a:off x="3714120" y="4871520"/>
                <a:ext cx="4866120" cy="55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1"/>
              <p:cNvSpPr/>
              <p:nvPr/>
            </p:nvSpPr>
            <p:spPr>
              <a:xfrm>
                <a:off x="3872520" y="4901760"/>
                <a:ext cx="455580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93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71"/>
            <p:cNvSpPr/>
            <p:nvPr/>
          </p:nvSpPr>
          <p:spPr>
            <a:xfrm>
              <a:off x="3125160" y="478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"/>
          <p:cNvPicPr/>
          <p:nvPr/>
        </p:nvPicPr>
        <p:blipFill>
          <a:blip r:embed="rId2"/>
          <a:stretch/>
        </p:blipFill>
        <p:spPr>
          <a:xfrm>
            <a:off x="0" y="-379440"/>
            <a:ext cx="12192120" cy="76183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0" y="531720"/>
            <a:ext cx="12192120" cy="57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479520" y="2425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3"/>
          <a:stretch/>
        </p:blipFill>
        <p:spPr>
          <a:xfrm>
            <a:off x="0" y="-379440"/>
            <a:ext cx="12192120" cy="761832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0" y="1203480"/>
            <a:ext cx="12192120" cy="34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1308240" y="2031840"/>
            <a:ext cx="95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3016080" y="3429000"/>
            <a:ext cx="62676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49760" y="3511440"/>
            <a:ext cx="5756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504-527D-4F88-A7A8-C6AF217997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2:06:00Z</dcterms:created>
  <dc:creator/>
  <dc:description/>
  <cp:keywords>幻灯片之家 http:/www.eeppt.com</cp:keywords>
  <dc:language>en-US</dc:language>
  <cp:lastModifiedBy/>
  <dcterms:modified xsi:type="dcterms:W3CDTF">2015-07-12T09:35:27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