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66E9-1596-4CF3-BB7B-E3BCF57E4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9A54-732D-4C1E-B1A4-DC309059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954D-2410-41E8-9B68-5EEB5DF72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4765-C6AE-488B-B11E-37771476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3349-1572-452A-93DE-2596B390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B3A5-2B3B-424F-8805-582051AD4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4D4F-414B-426E-902C-9158922E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30F3-EB8F-42E5-B111-085CAC79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DDA9-4D0C-4115-B78F-2DB45E75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CB0F-8451-4015-BB88-73061BD7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ACCB-FEC1-4861-BE95-B8DACA66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56E4-040E-41D3-97D2-FDB755B0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A414-42AA-4DAA-94CF-EFF7D1E9D08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36E9-5786-409A-BD59-BEF51F367CE5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moban/jingpin/" TargetMode="External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6867360" y="928800"/>
            <a:ext cx="100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370920" y="350676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6715080" y="928800"/>
            <a:ext cx="7081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新及相关类别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93080" y="623736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564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3120" y="765000"/>
            <a:ext cx="53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简约精美可爱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2297880" y="3500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/>
          <p:cNvSpPr/>
          <p:nvPr/>
        </p:nvSpPr>
        <p:spPr>
          <a:xfrm>
            <a:off x="5155200" y="2928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2226600" y="2428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155200" y="4071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-6912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6"/>
          <p:cNvSpPr/>
          <p:nvPr/>
        </p:nvSpPr>
        <p:spPr>
          <a:xfrm>
            <a:off x="179784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3369600" y="1643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479808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-3708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4071960" y="16430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2226600" y="314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3369600" y="4786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4655160" y="3357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92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-6912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494100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144072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5FAC-FFB7-46C2-8244-E6798BA94C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3420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36900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5726880" y="4286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2369160" y="3714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3869640" y="4000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92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00000" y="5805360"/>
            <a:ext cx="61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精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moban/jingpi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矩形 8"/>
          <p:cNvSpPr/>
          <p:nvPr/>
        </p:nvSpPr>
        <p:spPr>
          <a:xfrm>
            <a:off x="-3708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/>
          <p:cNvSpPr/>
          <p:nvPr/>
        </p:nvSpPr>
        <p:spPr>
          <a:xfrm>
            <a:off x="1940760" y="2071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9"/>
          <p:cNvSpPr/>
          <p:nvPr/>
        </p:nvSpPr>
        <p:spPr>
          <a:xfrm>
            <a:off x="4655160" y="2928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5"/>
          <p:cNvSpPr/>
          <p:nvPr/>
        </p:nvSpPr>
        <p:spPr>
          <a:xfrm>
            <a:off x="1940760" y="4071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4512600" y="4214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6237360"/>
            <a:ext cx="676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/>
  <dc:description/>
  <cp:keywords>幻灯片之家 http:/www.eeppt.com</cp:keywords>
  <dc:language>en-US</dc:language>
  <cp:lastModifiedBy/>
  <dcterms:modified xsi:type="dcterms:W3CDTF">2015-07-06T04:51:46Z</dcterms:modified>
  <cp:revision>4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