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492-B36F-4E04-A2C9-9470D879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845-92DA-4108-8BCE-AAACC3C7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0FD-D179-4D36-B6A2-4B1CBBEA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441-6062-413E-B900-5B6D3355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6F70-EB48-4447-8D0D-F94B5E96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B689-CC61-4351-8470-2623D982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304-9733-4A3C-92FA-D087014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296C-CADA-45E3-BE0F-0C9AB9F7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B06A-8E9C-425A-96BB-DB758A6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2356-465F-449A-A32B-99A7BD41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C863-FADA-4071-B286-39F3CA7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079-FA95-46E1-8D03-CE40FE6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CD58-7DC9-433C-83EB-5DD70CC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46E-AB7A-452F-B8F5-1F4B966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5EFA-73A0-486E-9E8E-32363E5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5AC-315F-4D45-BD05-CA32C99A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F150-9B62-41ED-B30B-102FC16A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2FC-E425-45C6-9698-98BE90EE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671-2BBD-429A-9E52-D1F5F4DA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6C5-47F4-4C66-93A2-7BDB0FC2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B9E-6933-4FC2-83B9-FCE2302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49F-A8EF-46C5-8D0D-27A9AC7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A8C-81A0-41EB-AD38-022DF57B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5F4-2D81-4FCB-A523-DBBD52D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F400-E285-4065-A53A-C609EA18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F65-1686-478D-9257-0155644BB2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_12069"/>
          <p:cNvPicPr/>
          <p:nvPr/>
        </p:nvPicPr>
        <p:blipFill>
          <a:blip r:embed="rId1"/>
          <a:srcRect l="6458" t="0" r="9167" b="4995"/>
          <a:stretch/>
        </p:blipFill>
        <p:spPr>
          <a:xfrm>
            <a:off x="-108000" y="-171360"/>
            <a:ext cx="73789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 rot="5400000">
            <a:off x="6670440" y="1473120"/>
            <a:ext cx="3073320" cy="151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8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口技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399800" y="3933720"/>
            <a:ext cx="127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 嗣 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口技.mp3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2720" y="429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8120" y="119700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口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2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一时齐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</a:rPr>
              <a:t>咳嗽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以响衬静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</a:rPr>
              <a:t>无所不有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484360" y="0"/>
            <a:ext cx="3384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华文彩云"/>
              </a:rPr>
              <a:t>课后练习二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华文彩云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79280" y="76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对听众反应的描述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026240" y="1484280"/>
            <a:ext cx="3546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从侧面突出表演的效果，烘托出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79280" y="20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文中前后两次清楚地交代了极简单的道具，这对文章的结构和表现口技表演者的技艺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79280" y="3573360"/>
            <a:ext cx="24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结构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表现效果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979640" y="3573360"/>
            <a:ext cx="5183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首尾呼应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268360" y="422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开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为后文表演复杂的声响做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050920" y="5300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结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证明、强调刚才的一切声响都是从一张嘴中发出的，从而更突出表演技艺的高超，也有烘托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8099280" y="2421000"/>
            <a:ext cx="57636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数字用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FC65-A2DD-422F-9E0E-E58CF072E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1619280" y="1557360"/>
            <a:ext cx="6408720" cy="1366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最精彩的口技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283640" y="3092040"/>
            <a:ext cx="1094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-36360" y="4005360"/>
            <a:ext cx="252072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少的道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638800" y="4043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03640" y="4005360"/>
            <a:ext cx="266364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复杂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443640" y="4005360"/>
            <a:ext cx="270036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热烈的观众反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87880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302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684360" y="251280"/>
            <a:ext cx="77752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新魏"/>
              </a:rPr>
              <a:t>表时间性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掌握它们的不同用法（ 练习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同时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突然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两事相继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在特定的某个时间内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在很短时间内发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08360" y="1773360"/>
            <a:ext cx="89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一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924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忽，忽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95240" y="3706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641124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是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64000" y="5661000"/>
            <a:ext cx="304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少顷、俄而、未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63104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24000" y="48492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标上注音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顷（           ）           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呓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语（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）            夫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叱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大儿声（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夫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声起（         ）     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舒 （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   ）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曳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 ）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许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许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）声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欲先走（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04760" y="148104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907240" y="148428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192040" y="2421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139880" y="2489040"/>
            <a:ext cx="7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703600" y="342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176520" y="34290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390640" y="436248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852920" y="5370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926000" y="4365720"/>
            <a:ext cx="9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892560" y="537048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73600" y="177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26920" y="1785960"/>
            <a:ext cx="49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同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座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，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6280" y="77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78440" y="247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47120" y="325116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宾客大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262840" y="327816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：古，适逢，正赶上； 今，合拢，聚在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21920" y="38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微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闻有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077720" y="38592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微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隐隐约约；        今，小，细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37760" y="433224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中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力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959280" y="436248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中间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中间夹杂；     今，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38120" y="483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两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股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战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806360" y="48290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股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大腿             今，量词或一种组织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38120" y="5370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几欲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558960" y="543096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走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跑；                    今，行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宾客意少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62728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舒：古，放松。        今，舒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8440" y="771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589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妇抚儿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19840" y="1628640"/>
            <a:ext cx="25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乳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名词作动词，喂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195080" y="23493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善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形容词作动词，擅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73440" y="229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京中有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善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口技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069080" y="299736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名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名词作动词，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22560" y="299736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名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其一处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9080" y="373068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指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名词作动词，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044000" y="366408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指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其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900000" y="429264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抚尺一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386320" y="434988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下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方位名词作动词，落、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829440" y="5157720"/>
            <a:ext cx="12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会宾客大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182480" y="50846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宴：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名词作动词，举行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98480" y="77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76360" y="17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妇抚儿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乳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（动词，喂奶）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儿含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乳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啼  （名词，乳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611280" y="191628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076720" y="1989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39640" y="278136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39640" y="364500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539640" y="4653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539640" y="551664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4920" y="1916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5076720" y="18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手有百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指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名词，手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指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其一端（动词，指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427640" y="1989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51720" y="263700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众宾团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坐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（坐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满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坐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宾客   （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座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，座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2720" y="276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064160" y="350028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以为妙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（极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群响 毕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（消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6360" y="363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340280" y="447840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于厅事之东北角     （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妇拍而呜之            （他，指小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3708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36360" y="550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281600" y="541512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其夫呓语      （她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不能指其一端    （其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8000" y="411480"/>
            <a:ext cx="8078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宾客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意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力拉崩倒之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有百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能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一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袖出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战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欲先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20164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心情；稍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77800" y="1403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夹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0778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004720" y="3213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00472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卷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00472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大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563800" y="6338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几乎、差点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611280" y="76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彩云"/>
              </a:rPr>
              <a:t>课文第一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彩云"/>
              </a:rPr>
              <a:t>京中有善口技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彩云"/>
              </a:rPr>
              <a:t>在全文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00000" y="3068640"/>
            <a:ext cx="7404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字统领全篇，全文的内容情节都是围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来展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281904"/>
          <p:cNvPicPr/>
          <p:nvPr/>
        </p:nvPicPr>
        <p:blipFill>
          <a:blip r:embed="rId1"/>
          <a:stretch/>
        </p:blipFill>
        <p:spPr>
          <a:xfrm>
            <a:off x="5219640" y="4508640"/>
            <a:ext cx="3625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179280" y="981000"/>
            <a:ext cx="1439640" cy="5040360"/>
            <a:chOff x="179280" y="981000"/>
            <a:chExt cx="1439640" cy="5040360"/>
          </a:xfrm>
        </p:grpSpPr>
        <p:sp>
          <p:nvSpPr>
            <p:cNvPr id="169" name="Oval 3"/>
            <p:cNvSpPr/>
            <p:nvPr/>
          </p:nvSpPr>
          <p:spPr>
            <a:xfrm>
              <a:off x="179280" y="981000"/>
              <a:ext cx="1439640" cy="504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"/>
            <p:cNvSpPr/>
            <p:nvPr/>
          </p:nvSpPr>
          <p:spPr>
            <a:xfrm>
              <a:off x="399240" y="1485720"/>
              <a:ext cx="10854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Garamond"/>
                </a:rPr>
                <a:t>怎样写出</a:t>
              </a:r>
              <a:r>
                <a:rPr b="1" lang="zh-CN" sz="4000" spc="-1" strike="noStrike">
                  <a:solidFill>
                    <a:srgbClr val="cc0066"/>
                  </a:solidFill>
                  <a:latin typeface="Garamond"/>
                </a:rPr>
                <a:t>善</a:t>
              </a:r>
              <a:r>
                <a:rPr b="1" lang="zh-CN" sz="4000" spc="-1" strike="noStrike">
                  <a:solidFill>
                    <a:srgbClr val="ffffff"/>
                  </a:solidFill>
                  <a:latin typeface="Garamond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5"/>
          <p:cNvSpPr/>
          <p:nvPr/>
        </p:nvSpPr>
        <p:spPr>
          <a:xfrm>
            <a:off x="1692360" y="1557360"/>
            <a:ext cx="360360" cy="38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195640" y="1052640"/>
            <a:ext cx="2232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正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268360" y="4941720"/>
            <a:ext cx="21607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23240" y="1052640"/>
            <a:ext cx="2130120" cy="57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华文彩云"/>
              </a:rPr>
              <a:t>景场个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4572000" y="407664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85928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在表演过程中观众的神情举止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172360" y="907920"/>
            <a:ext cx="719280" cy="79236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5445000"/>
            <a:ext cx="33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开头和结尾部分对表演道具的交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16360" y="566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烘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8459640" y="5445000"/>
            <a:ext cx="684360" cy="792360"/>
          </a:xfrm>
          <a:custGeom>
            <a:avLst/>
            <a:gdLst/>
            <a:ahLst/>
            <a:rect l="l" t="t" r="r" b="b"/>
            <a:pathLst>
              <a:path w="684212" h="792163">
                <a:moveTo>
                  <a:pt x="1" y="302579"/>
                </a:moveTo>
                <a:lnTo>
                  <a:pt x="261347" y="302581"/>
                </a:lnTo>
                <a:lnTo>
                  <a:pt x="342106" y="0"/>
                </a:lnTo>
                <a:lnTo>
                  <a:pt x="422865" y="302581"/>
                </a:lnTo>
                <a:lnTo>
                  <a:pt x="684211" y="302579"/>
                </a:lnTo>
                <a:lnTo>
                  <a:pt x="472777" y="489582"/>
                </a:lnTo>
                <a:lnTo>
                  <a:pt x="553539" y="792161"/>
                </a:lnTo>
                <a:lnTo>
                  <a:pt x="342106" y="605155"/>
                </a:lnTo>
                <a:lnTo>
                  <a:pt x="130673" y="792161"/>
                </a:lnTo>
                <a:lnTo>
                  <a:pt x="211435" y="489582"/>
                </a:lnTo>
                <a:lnTo>
                  <a:pt x="1" y="3025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8244000" y="3716280"/>
            <a:ext cx="900000" cy="865080"/>
          </a:xfrm>
          <a:prstGeom prst="su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一时齐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</a:rPr>
              <a:t>咳嗽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以响衬静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</a:rPr>
              <a:t>无所不有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19:37Z</dcterms:created>
  <dc:creator/>
  <dc:description/>
  <cp:keywords>幻灯片之家 http:/www.eeppt.com</cp:keywords>
  <dc:language>en-US</dc:language>
  <cp:lastModifiedBy/>
  <dcterms:modified xsi:type="dcterms:W3CDTF">2015-07-04T12:29:4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