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72C-9FFC-43E2-9C1B-667AE778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F17-ECCD-470B-A5F7-6B8471B2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B203-9E94-4842-960E-2DB50865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834-637D-455D-8208-B44C0AB7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9125-FF3D-4F2B-BF1B-38BD9DE0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51FA-8666-4A87-BCE7-C2BEEEC1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EDDE-33CF-44F5-9AC1-8DB12ABC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C83C-2482-405E-B6AE-D44092C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583B-4EFD-42AE-95CD-9662FF1B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6671-D972-4F0C-B593-519DC709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6DFA-3792-45D7-B1E9-65BFA1F8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BCA-7DC1-451B-AC99-93E0BFB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98B-BD2C-4227-BE0A-C496E23B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3D2D-9401-42E1-9D45-8585C82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52D-7CCC-40A8-B7C0-13664FF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AAD9-063F-4918-BA61-3DA23DF0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6BE0-E15E-455D-8FA3-18457ED7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C89-3FE2-42A7-84C1-391E0132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2BA-F156-475F-BB2F-0A339BF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7D59-0CB6-46FE-B343-DEB95CDC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340-8D90-4936-BF99-BB1F93AF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ECB-5412-42E0-BCEB-941E5DDF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67F-1C08-45BD-8253-FD926F3D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ACD-D3C5-4E26-B1B3-C8A18C1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87200" indent="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6232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5111-390D-4128-B484-F495388869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AF50-CB0B-48A7-B2D5-7687A184178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40000" y="281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65720"/>
            <a:ext cx="7407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-34920" y="0"/>
            <a:ext cx="9042480" cy="5133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4533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60360" y="458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直接连接符 4"/>
          <p:cNvSpPr/>
          <p:nvPr/>
        </p:nvSpPr>
        <p:spPr>
          <a:xfrm>
            <a:off x="600120" y="5384880"/>
            <a:ext cx="80056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组合 1"/>
          <p:cNvGrpSpPr/>
          <p:nvPr/>
        </p:nvGrpSpPr>
        <p:grpSpPr>
          <a:xfrm>
            <a:off x="844560" y="216000"/>
            <a:ext cx="4462560" cy="5816520"/>
            <a:chOff x="844560" y="216000"/>
            <a:chExt cx="4462560" cy="58165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978480" y="518760"/>
              <a:ext cx="4137840" cy="46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192888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6404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653080" y="1012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0120" y="538164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6A37-6696-4159-A36F-40A5FE77C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组合 1"/>
          <p:cNvGrpSpPr/>
          <p:nvPr/>
        </p:nvGrpSpPr>
        <p:grpSpPr>
          <a:xfrm>
            <a:off x="900000" y="189000"/>
            <a:ext cx="4468680" cy="6335640"/>
            <a:chOff x="900000" y="189000"/>
            <a:chExt cx="4468680" cy="6335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00000" y="621000"/>
              <a:ext cx="440640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49120" y="3285360"/>
              <a:ext cx="6191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37040" y="3033360"/>
              <a:ext cx="597600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5365800" y="773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组合 1"/>
          <p:cNvGrpSpPr/>
          <p:nvPr/>
        </p:nvGrpSpPr>
        <p:grpSpPr>
          <a:xfrm>
            <a:off x="828720" y="333360"/>
            <a:ext cx="4336920" cy="6191280"/>
            <a:chOff x="828720" y="333360"/>
            <a:chExt cx="4336920" cy="61912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828720" y="621360"/>
              <a:ext cx="42663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10420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192636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365800" y="1328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826920" y="365040"/>
            <a:ext cx="4554720" cy="6145200"/>
            <a:chOff x="826920" y="365040"/>
            <a:chExt cx="4554720" cy="614520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826920" y="556560"/>
              <a:ext cx="4503600" cy="512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04480" y="3403440"/>
              <a:ext cx="593820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74840" y="3196440"/>
              <a:ext cx="593820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365800" y="1411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873000" y="333360"/>
            <a:ext cx="4464000" cy="6191280"/>
            <a:chOff x="873000" y="333360"/>
            <a:chExt cx="4464000" cy="619128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873000" y="520200"/>
              <a:ext cx="4377960" cy="48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7828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09772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5365800" y="216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600120" y="5381640"/>
            <a:ext cx="82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7080" y="631044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0Z</dcterms:created>
  <dc:creator/>
  <dc:description/>
  <cp:keywords>幻灯片之家 http:/www.eeppt.com</cp:keywords>
  <dc:language>en-US</dc:language>
  <cp:lastModifiedBy/>
  <dcterms:modified xsi:type="dcterms:W3CDTF">2015-07-12T09:40:31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