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B98-A1F8-474E-9BF5-E53C0DA0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07D-5812-4DB4-8B01-D8FDD746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656-BC1F-40C4-AA15-3631EE6F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562-7EFD-4C27-BA4F-126CB185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E74-81C9-46AC-A9CC-70CD904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B1E-1186-406E-859D-078EF959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FF1-A815-4230-A7FB-9334F13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E03-97A0-4497-ADBA-F4E5987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164-55E9-4E95-A3F7-5A3B98B4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F77-F380-41FC-8917-40E6C53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A92-20FE-426D-8A93-54BFBBF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4D0-95CE-44E1-9CBB-B0644B8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A20-E3DC-4819-8F51-C0EC804D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-1,5,&#24187;&#28783;&#29255; 5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-1,5,&#24187;&#28783;&#29255; 5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-1,5,&#24187;&#28783;&#29255; 5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21-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26668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66160" y="114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人与海鸥免费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40" y="30481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114300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背已经驼了，穿一身褪色的过时布衣，背一个褪色的蓝布包，连装鸟食的大塑料袋也用得褪了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4120" y="2971800"/>
            <a:ext cx="312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116d49c9f98"/>
          <p:cNvPicPr/>
          <p:nvPr/>
        </p:nvPicPr>
        <p:blipFill>
          <a:blip r:embed="rId1"/>
          <a:stretch/>
        </p:blipFill>
        <p:spPr>
          <a:xfrm>
            <a:off x="762120" y="2971800"/>
            <a:ext cx="428616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7833960" y="61722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7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1905120"/>
            <a:ext cx="8763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116d49c9f98"/>
          <p:cNvPicPr/>
          <p:nvPr/>
        </p:nvPicPr>
        <p:blipFill>
          <a:blip r:embed="rId1"/>
          <a:stretch/>
        </p:blipFill>
        <p:spPr>
          <a:xfrm>
            <a:off x="2057400" y="297180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34720" y="990720"/>
            <a:ext cx="46443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朋友告诉我，这位老人每天步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十余里，从城郊赶到翠湖，只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给海鸥送餐，跟海鸥相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53960" y="4038480"/>
            <a:ext cx="1155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767320" y="3962520"/>
            <a:ext cx="25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5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0"/>
          <p:cNvGrpSpPr/>
          <p:nvPr/>
        </p:nvGrpSpPr>
        <p:grpSpPr>
          <a:xfrm>
            <a:off x="1143000" y="2438280"/>
            <a:ext cx="1371600" cy="152280"/>
            <a:chOff x="1143000" y="2438280"/>
            <a:chExt cx="1371600" cy="152280"/>
          </a:xfrm>
        </p:grpSpPr>
        <p:grpSp>
          <p:nvGrpSpPr>
            <p:cNvPr id="49" name="Group 18"/>
            <p:cNvGrpSpPr/>
            <p:nvPr/>
          </p:nvGrpSpPr>
          <p:grpSpPr>
            <a:xfrm>
              <a:off x="1143000" y="2438280"/>
              <a:ext cx="914400" cy="152280"/>
              <a:chOff x="1143000" y="2438280"/>
              <a:chExt cx="914400" cy="152280"/>
            </a:xfrm>
          </p:grpSpPr>
          <p:sp>
            <p:nvSpPr>
              <p:cNvPr id="50" name="Oval 11"/>
              <p:cNvSpPr/>
              <p:nvPr/>
            </p:nvSpPr>
            <p:spPr>
              <a:xfrm>
                <a:off x="1143000" y="2438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1523880" y="243828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1905120" y="2438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14"/>
            <p:cNvSpPr/>
            <p:nvPr/>
          </p:nvSpPr>
          <p:spPr>
            <a:xfrm>
              <a:off x="23623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Oval 15"/>
          <p:cNvSpPr/>
          <p:nvPr/>
        </p:nvSpPr>
        <p:spPr>
          <a:xfrm>
            <a:off x="61722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66294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4"/>
          <p:cNvGrpSpPr/>
          <p:nvPr/>
        </p:nvGrpSpPr>
        <p:grpSpPr>
          <a:xfrm>
            <a:off x="6400800" y="2438280"/>
            <a:ext cx="914400" cy="152280"/>
            <a:chOff x="6400800" y="2438280"/>
            <a:chExt cx="914400" cy="152280"/>
          </a:xfrm>
        </p:grpSpPr>
        <p:sp>
          <p:nvSpPr>
            <p:cNvPr id="57" name="Oval 25"/>
            <p:cNvSpPr/>
            <p:nvPr/>
          </p:nvSpPr>
          <p:spPr>
            <a:xfrm>
              <a:off x="640080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6"/>
            <p:cNvSpPr/>
            <p:nvPr/>
          </p:nvSpPr>
          <p:spPr>
            <a:xfrm>
              <a:off x="6781680" y="24382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7"/>
            <p:cNvSpPr/>
            <p:nvPr/>
          </p:nvSpPr>
          <p:spPr>
            <a:xfrm>
              <a:off x="71629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31"/>
          <p:cNvSpPr/>
          <p:nvPr/>
        </p:nvSpPr>
        <p:spPr>
          <a:xfrm>
            <a:off x="7681680" y="59436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k21-014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824480" y="4724280"/>
            <a:ext cx="530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海鸥的鸣叫声里，老人抑扬顿挫地唱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侧耳细听，原来是亲昵得变了调的地方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灰头”“红嘴”“老沙”“公主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758000" y="601992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05280" y="919080"/>
            <a:ext cx="10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70320" y="1143000"/>
            <a:ext cx="6130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把饼干丁很小心放在湖边的围栏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退开一步，撮起嘴向鸥群呼唤。立刻便有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群海鸥应声而来，几下扫得干干净净。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顺着栏杆边走边放，海鸥依他的节奏起起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落，排成一片翻飞的白色，飞成一篇有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的乐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8"/>
          <p:cNvGrpSpPr/>
          <p:nvPr/>
        </p:nvGrpSpPr>
        <p:grpSpPr>
          <a:xfrm>
            <a:off x="5105520" y="2438280"/>
            <a:ext cx="914400" cy="152280"/>
            <a:chOff x="5105520" y="2438280"/>
            <a:chExt cx="914400" cy="152280"/>
          </a:xfrm>
        </p:grpSpPr>
        <p:sp>
          <p:nvSpPr>
            <p:cNvPr id="69" name="Oval 9"/>
            <p:cNvSpPr/>
            <p:nvPr/>
          </p:nvSpPr>
          <p:spPr>
            <a:xfrm>
              <a:off x="51055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0"/>
            <p:cNvSpPr/>
            <p:nvPr/>
          </p:nvSpPr>
          <p:spPr>
            <a:xfrm>
              <a:off x="5486400" y="24382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1"/>
            <p:cNvSpPr/>
            <p:nvPr/>
          </p:nvSpPr>
          <p:spPr>
            <a:xfrm>
              <a:off x="586764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k21-014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824480" y="4724280"/>
            <a:ext cx="530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海鸥的鸣叫声里，老人抑扬顿挫地唱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侧耳细听，原来是亲昵得变了调的地方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灰头”“红嘴”“老沙”“公主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5280" y="919080"/>
            <a:ext cx="10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494000" y="1295280"/>
            <a:ext cx="6130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把饼干丁很小心放在湖边的围栏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退开一步，撮起嘴向鸥群呼唤。立刻便有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群海鸥应声而来，几下扫得干干净净。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顺着栏杆边走边放，海鸥依他的节奏起起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落，排成一片翻飞的白色，飞成一篇有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的乐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362320" y="3886200"/>
            <a:ext cx="914400" cy="152280"/>
            <a:chOff x="2362320" y="3886200"/>
            <a:chExt cx="914400" cy="152280"/>
          </a:xfrm>
        </p:grpSpPr>
        <p:sp>
          <p:nvSpPr>
            <p:cNvPr id="79" name="Oval 6"/>
            <p:cNvSpPr/>
            <p:nvPr/>
          </p:nvSpPr>
          <p:spPr>
            <a:xfrm>
              <a:off x="23623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7"/>
            <p:cNvSpPr/>
            <p:nvPr/>
          </p:nvSpPr>
          <p:spPr>
            <a:xfrm>
              <a:off x="2743200" y="3886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312444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Oval 10"/>
          <p:cNvSpPr/>
          <p:nvPr/>
        </p:nvSpPr>
        <p:spPr>
          <a:xfrm>
            <a:off x="3505320" y="3886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7162920" y="3886200"/>
            <a:ext cx="914400" cy="152280"/>
            <a:chOff x="7162920" y="3886200"/>
            <a:chExt cx="914400" cy="152280"/>
          </a:xfrm>
        </p:grpSpPr>
        <p:sp>
          <p:nvSpPr>
            <p:cNvPr id="84" name="Oval 14"/>
            <p:cNvSpPr/>
            <p:nvPr/>
          </p:nvSpPr>
          <p:spPr>
            <a:xfrm>
              <a:off x="71629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5"/>
            <p:cNvSpPr/>
            <p:nvPr/>
          </p:nvSpPr>
          <p:spPr>
            <a:xfrm>
              <a:off x="7543800" y="3886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6"/>
            <p:cNvSpPr/>
            <p:nvPr/>
          </p:nvSpPr>
          <p:spPr>
            <a:xfrm>
              <a:off x="792504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17"/>
          <p:cNvSpPr/>
          <p:nvPr/>
        </p:nvSpPr>
        <p:spPr>
          <a:xfrm>
            <a:off x="6858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758000" y="59436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40" y="30481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114300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背已经驼了，穿一身褪色的过时布衣，背一个褪色的蓝布包，连装鸟食的大塑料袋也用得褪了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34120" y="2971800"/>
            <a:ext cx="312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4572000" y="1828800"/>
            <a:ext cx="914400" cy="152280"/>
            <a:chOff x="4572000" y="1828800"/>
            <a:chExt cx="914400" cy="152280"/>
          </a:xfrm>
        </p:grpSpPr>
        <p:sp>
          <p:nvSpPr>
            <p:cNvPr id="94" name="Oval 7"/>
            <p:cNvSpPr/>
            <p:nvPr/>
          </p:nvSpPr>
          <p:spPr>
            <a:xfrm>
              <a:off x="4572000" y="1828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4952880" y="1828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5334120" y="1828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762120" y="2362320"/>
            <a:ext cx="914400" cy="152280"/>
            <a:chOff x="762120" y="2362320"/>
            <a:chExt cx="914400" cy="152280"/>
          </a:xfrm>
        </p:grpSpPr>
        <p:sp>
          <p:nvSpPr>
            <p:cNvPr id="98" name="Oval 11"/>
            <p:cNvSpPr/>
            <p:nvPr/>
          </p:nvSpPr>
          <p:spPr>
            <a:xfrm>
              <a:off x="7621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1143000" y="23623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152424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6629400" y="2362320"/>
            <a:ext cx="914400" cy="152280"/>
            <a:chOff x="6629400" y="2362320"/>
            <a:chExt cx="914400" cy="152280"/>
          </a:xfrm>
        </p:grpSpPr>
        <p:sp>
          <p:nvSpPr>
            <p:cNvPr id="102" name="Oval 15"/>
            <p:cNvSpPr/>
            <p:nvPr/>
          </p:nvSpPr>
          <p:spPr>
            <a:xfrm>
              <a:off x="66294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7010280" y="23623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7391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8" descr="116d49c9f98"/>
          <p:cNvPicPr/>
          <p:nvPr/>
        </p:nvPicPr>
        <p:blipFill>
          <a:blip r:embed="rId1"/>
          <a:stretch/>
        </p:blipFill>
        <p:spPr>
          <a:xfrm>
            <a:off x="685800" y="3048120"/>
            <a:ext cx="4286160" cy="3143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0"/>
          <p:cNvSpPr/>
          <p:nvPr/>
        </p:nvSpPr>
        <p:spPr>
          <a:xfrm>
            <a:off x="7833960" y="61722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3560" y="14479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36440" y="304920"/>
            <a:ext cx="5387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昆明人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鸥老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吴庆恒生前孤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人，每年冬天飞抵昆明的红嘴鸥是他唯一的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。每当红嘴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驾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老人天天徒步二十里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给它们喂食，和它们嬉戏，风雨无阻；老人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三百零八元的退休工资有一半以上都用来给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鸥买吃的，为此，老人平时几乎舍不得花一分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坐公交车。四元五角一斤的饼干，老人毫不吝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只海鸥吃，他知道那是海鸥最喜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食；他还经常买来鸡蛋为海鸥制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蛋饼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他自己，唯一的奢侈品是两毛钱一包的金沙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758000" y="601992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74E-1906-4798-8214-9D13DBC98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7:43:02Z</dcterms:created>
  <dc:creator/>
  <dc:description/>
  <cp:keywords>幻灯片之家 http:/www.eeppt.com</cp:keywords>
  <dc:language>en-US</dc:language>
  <cp:lastModifiedBy/>
  <dcterms:modified xsi:type="dcterms:W3CDTF">2015-07-12T09:42:16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