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E7B-E510-42C1-8356-E0726744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268-6CD2-4591-B7BF-67FE00C3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7A8-26E1-47B0-86D3-1CF73659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1DE-FD6A-4AA2-B9FD-4879B5D9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52A8-103D-457A-8895-A14FAFD0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9F96-1B22-4263-A5BA-B3B2B22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E24-BF25-4111-B1F9-0A0603B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F75E-C0AA-46E8-AE1D-3DE40927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28BB-37AD-4936-B212-4928568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FFAF-F24D-49D1-9B38-BB70B515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9A9A-6558-4100-8721-4D5C99C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569-C1DE-4617-A9A4-5DCDD3A7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6BE0-62B9-4DF7-8794-2FAE8DD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277F-C6FE-48AF-A5F0-906AC25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020B-9832-4F0D-B10A-16E6A598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B349-EB19-48BB-A70F-B7F86B7C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D56F-490C-436F-B34A-A6A1B8D0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3C8-D086-4EC0-B0E3-179D6D81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4784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5480" y="69192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56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4784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5480" y="3738240"/>
            <a:ext cx="275904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24B-41CB-4C59-8D1A-0819036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CB2-57B9-42F7-93D5-95B8B966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000" y="-360"/>
            <a:ext cx="403236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89A-C238-4C52-830E-2D85352B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075-B291-43C3-91D0-32D3A06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1480" y="373824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F3F-BE6C-4440-96EE-506C6A65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000" y="-14400"/>
            <a:ext cx="40323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480" y="691920"/>
            <a:ext cx="41814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560" y="3738240"/>
            <a:ext cx="8569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F84-15ED-4D24-988B-261F730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" name="矩形 2"/>
          <p:cNvSpPr/>
          <p:nvPr/>
        </p:nvSpPr>
        <p:spPr>
          <a:xfrm>
            <a:off x="4680" y="549360"/>
            <a:ext cx="9139320" cy="5975280"/>
          </a:xfrm>
          <a:custGeom>
            <a:avLst/>
            <a:gdLst/>
            <a:ahLst/>
            <a:rect l="l" t="t" r="r" b="b"/>
            <a:pathLst>
              <a:path w="9139816" h="5976664">
                <a:moveTo>
                  <a:pt x="0" y="0"/>
                </a:moveTo>
                <a:lnTo>
                  <a:pt x="9139816" y="0"/>
                </a:lnTo>
                <a:lnTo>
                  <a:pt x="9139816" y="5976664"/>
                </a:lnTo>
                <a:lnTo>
                  <a:pt x="0" y="5976664"/>
                </a:lnTo>
              </a:path>
            </a:pathLst>
          </a:custGeom>
          <a:solidFill>
            <a:srgbClr val="0082b3"/>
          </a:solidFill>
          <a:ln w="12600">
            <a:solidFill>
              <a:srgbClr val="e8f1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15F-C431-4858-8C77-86E98D77108E}" type="slidenum"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9E65-7651-4676-A454-24077351213B}" type="slidenum">
              <a:rPr b="0" lang="zh-CN" sz="1200" spc="-1" strike="noStrike">
                <a:solidFill>
                  <a:srgbClr val="89a4d2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8" descr=""/>
          <p:cNvPicPr/>
          <p:nvPr/>
        </p:nvPicPr>
        <p:blipFill>
          <a:blip r:embed="rId2"/>
          <a:stretch/>
        </p:blipFill>
        <p:spPr>
          <a:xfrm>
            <a:off x="0" y="-4428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85" name="矩形 9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000" y="-360"/>
            <a:ext cx="4032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50560" y="69192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640" y="4581000"/>
            <a:ext cx="7524720" cy="2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-468360" y="1125000"/>
            <a:ext cx="7523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蓝色简洁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56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5640" y="2420640"/>
            <a:ext cx="38163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您的章节标题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55640" y="3141720"/>
            <a:ext cx="38163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rmAutofit fontScale="84000"/>
          </a:bodyPr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"/>
              </a:rPr>
              <a:t>您的章节副标题章节副标题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544500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简洁ppt模板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0c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FA9-89E3-48A2-9339-8A680F2D05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-25560"/>
            <a:ext cx="53294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691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1979640" y="2852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pt.glzy8.com</a:t>
            </a: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海量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70c0"/>
                </a:solidFill>
                <a:latin typeface="Calibri"/>
              </a:rPr>
              <a:t>模板免费下载</a:t>
            </a:r>
            <a:endParaRPr b="0" lang="en-US" sz="1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/>
  <dc:description/>
  <cp:keywords>幻灯片之家 http:/www.eeppt.com</cp:keywords>
  <dc:language>en-US</dc:language>
  <cp:lastModifiedBy/>
  <dcterms:modified xsi:type="dcterms:W3CDTF">2015-07-06T04:04:11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8003000000000001024140</vt:lpwstr>
  </property>
</Properties>
</file>