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A75-6868-44B3-8214-0E02722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BC8-93B5-490A-898C-E1F848F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A60-2EA1-4318-A36A-21797F64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7E4-73E5-4DCE-BA5B-C56A9153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6DC-C612-47E9-986C-2C6ED49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BF7-C157-4EDF-B478-E569C564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A4A-CC72-4A09-8BA7-D6E86820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997-8CAE-4292-BB05-A4E4D41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324-53E1-40C1-9961-93A1951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67D-994C-4605-AA50-803C1BF1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FCD-320F-49A9-9417-5F1D831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31E-C3DD-4235-BDB0-C6C141A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E256-2F73-42E7-9C43-F3DA714695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94E7-FF2D-4578-B69F-4C5376EBB8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26360" y="-645120"/>
            <a:ext cx="12014280" cy="7040880"/>
            <a:chOff x="126360" y="-645120"/>
            <a:chExt cx="12014280" cy="7040880"/>
          </a:xfrm>
        </p:grpSpPr>
        <p:grpSp>
          <p:nvGrpSpPr>
            <p:cNvPr id="42" name="组合 4"/>
            <p:cNvGrpSpPr/>
            <p:nvPr/>
          </p:nvGrpSpPr>
          <p:grpSpPr>
            <a:xfrm>
              <a:off x="126360" y="-645120"/>
              <a:ext cx="12014280" cy="7040880"/>
              <a:chOff x="126360" y="-645120"/>
              <a:chExt cx="12014280" cy="7040880"/>
            </a:xfrm>
          </p:grpSpPr>
          <p:sp>
            <p:nvSpPr>
              <p:cNvPr id="43" name="流程图: 手动输入 5"/>
              <p:cNvSpPr/>
              <p:nvPr/>
            </p:nvSpPr>
            <p:spPr>
              <a:xfrm rot="10609200">
                <a:off x="191520" y="1108800"/>
                <a:ext cx="8669160" cy="259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流程图: 手动输入 5"/>
              <p:cNvSpPr/>
              <p:nvPr/>
            </p:nvSpPr>
            <p:spPr>
              <a:xfrm flipV="1" rot="9225600">
                <a:off x="3127320" y="1086840"/>
                <a:ext cx="8669160" cy="357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5"/>
            <p:cNvGrpSpPr/>
            <p:nvPr/>
          </p:nvGrpSpPr>
          <p:grpSpPr>
            <a:xfrm>
              <a:off x="723600" y="-22680"/>
              <a:ext cx="10898640" cy="5864400"/>
              <a:chOff x="723600" y="-22680"/>
              <a:chExt cx="10898640" cy="5864400"/>
            </a:xfrm>
          </p:grpSpPr>
          <p:sp>
            <p:nvSpPr>
              <p:cNvPr id="46" name="流程图: 手动输入 5"/>
              <p:cNvSpPr/>
              <p:nvPr/>
            </p:nvSpPr>
            <p:spPr>
              <a:xfrm rot="10612800">
                <a:off x="772920" y="1348560"/>
                <a:ext cx="7847640" cy="2030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流程图: 手动输入 5"/>
              <p:cNvSpPr/>
              <p:nvPr/>
            </p:nvSpPr>
            <p:spPr>
              <a:xfrm flipV="1" rot="9292800">
                <a:off x="3551760" y="1510560"/>
                <a:ext cx="7847640" cy="27975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文本框 10"/>
          <p:cNvSpPr/>
          <p:nvPr/>
        </p:nvSpPr>
        <p:spPr>
          <a:xfrm rot="20427000">
            <a:off x="4974120" y="2979360"/>
            <a:ext cx="53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1"/>
          <p:cNvSpPr/>
          <p:nvPr/>
        </p:nvSpPr>
        <p:spPr>
          <a:xfrm rot="21154800">
            <a:off x="1343880" y="178560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ffff00"/>
                </a:solidFill>
                <a:latin typeface="微软雅黑"/>
              </a:rPr>
              <a:t>CLICK TO 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"/>
          <p:cNvSpPr/>
          <p:nvPr/>
        </p:nvSpPr>
        <p:spPr>
          <a:xfrm rot="20143800">
            <a:off x="8287920" y="3451320"/>
            <a:ext cx="39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 </a:t>
            </a:r>
            <a:r>
              <a:rPr b="0" lang="en-US" sz="2000" spc="-1" strike="noStrike">
                <a:solidFill>
                  <a:srgbClr val="009900"/>
                </a:solidFill>
                <a:latin typeface="微软雅黑"/>
              </a:rPr>
              <a:t>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3320" y="6178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49276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绿色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5"/>
          <p:cNvGrpSpPr/>
          <p:nvPr/>
        </p:nvGrpSpPr>
        <p:grpSpPr>
          <a:xfrm>
            <a:off x="-96840" y="2200320"/>
            <a:ext cx="3921120" cy="2612880"/>
            <a:chOff x="-96840" y="2200320"/>
            <a:chExt cx="3921120" cy="2612880"/>
          </a:xfrm>
        </p:grpSpPr>
        <p:sp>
          <p:nvSpPr>
            <p:cNvPr id="195" name="同心圆 6"/>
            <p:cNvSpPr/>
            <p:nvPr/>
          </p:nvSpPr>
          <p:spPr>
            <a:xfrm>
              <a:off x="991800" y="2635200"/>
              <a:ext cx="174384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图表 7" descr=""/>
            <p:cNvPicPr/>
            <p:nvPr/>
          </p:nvPicPr>
          <p:blipFill>
            <a:blip r:embed="rId2"/>
            <a:stretch/>
          </p:blipFill>
          <p:spPr>
            <a:xfrm>
              <a:off x="-96840" y="2200320"/>
              <a:ext cx="3921120" cy="26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组合 8"/>
          <p:cNvGrpSpPr/>
          <p:nvPr/>
        </p:nvGrpSpPr>
        <p:grpSpPr>
          <a:xfrm>
            <a:off x="7961400" y="2200320"/>
            <a:ext cx="3922560" cy="2612880"/>
            <a:chOff x="7961400" y="2200320"/>
            <a:chExt cx="3922560" cy="2612880"/>
          </a:xfrm>
        </p:grpSpPr>
        <p:sp>
          <p:nvSpPr>
            <p:cNvPr id="198" name="同心圆 9"/>
            <p:cNvSpPr/>
            <p:nvPr/>
          </p:nvSpPr>
          <p:spPr>
            <a:xfrm>
              <a:off x="9050400" y="2635200"/>
              <a:ext cx="174420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图表 10" descr=""/>
            <p:cNvPicPr/>
            <p:nvPr/>
          </p:nvPicPr>
          <p:blipFill>
            <a:blip r:embed="rId3"/>
            <a:stretch/>
          </p:blipFill>
          <p:spPr>
            <a:xfrm>
              <a:off x="7961400" y="2200320"/>
              <a:ext cx="3922560" cy="26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组合 11"/>
          <p:cNvGrpSpPr/>
          <p:nvPr/>
        </p:nvGrpSpPr>
        <p:grpSpPr>
          <a:xfrm>
            <a:off x="3932280" y="2200320"/>
            <a:ext cx="3921120" cy="2612880"/>
            <a:chOff x="3932280" y="2200320"/>
            <a:chExt cx="3921120" cy="2612880"/>
          </a:xfrm>
        </p:grpSpPr>
        <p:sp>
          <p:nvSpPr>
            <p:cNvPr id="201" name="同心圆 12"/>
            <p:cNvSpPr/>
            <p:nvPr/>
          </p:nvSpPr>
          <p:spPr>
            <a:xfrm>
              <a:off x="5020920" y="2635200"/>
              <a:ext cx="1743840" cy="1743120"/>
            </a:xfrm>
            <a:prstGeom prst="donut">
              <a:avLst>
                <a:gd name="adj" fmla="val 2086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图表 13" descr=""/>
            <p:cNvPicPr/>
            <p:nvPr/>
          </p:nvPicPr>
          <p:blipFill>
            <a:blip r:embed="rId4"/>
            <a:stretch/>
          </p:blipFill>
          <p:spPr>
            <a:xfrm>
              <a:off x="3932280" y="2200320"/>
              <a:ext cx="3921120" cy="26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矩形 14"/>
          <p:cNvSpPr/>
          <p:nvPr/>
        </p:nvSpPr>
        <p:spPr>
          <a:xfrm>
            <a:off x="940680" y="488628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4969800" y="491976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9000360" y="491976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7"/>
          <p:cNvGrpSpPr/>
          <p:nvPr/>
        </p:nvGrpSpPr>
        <p:grpSpPr>
          <a:xfrm>
            <a:off x="1396080" y="3184560"/>
            <a:ext cx="934200" cy="642600"/>
            <a:chOff x="1396080" y="3184560"/>
            <a:chExt cx="934200" cy="642600"/>
          </a:xfrm>
        </p:grpSpPr>
        <p:sp>
          <p:nvSpPr>
            <p:cNvPr id="207" name="文本框 18"/>
            <p:cNvSpPr/>
            <p:nvPr/>
          </p:nvSpPr>
          <p:spPr>
            <a:xfrm>
              <a:off x="139608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9"/>
            <p:cNvSpPr/>
            <p:nvPr/>
          </p:nvSpPr>
          <p:spPr>
            <a:xfrm>
              <a:off x="194688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0"/>
          <p:cNvGrpSpPr/>
          <p:nvPr/>
        </p:nvGrpSpPr>
        <p:grpSpPr>
          <a:xfrm>
            <a:off x="5427000" y="3184560"/>
            <a:ext cx="934200" cy="642600"/>
            <a:chOff x="5427000" y="3184560"/>
            <a:chExt cx="934200" cy="642600"/>
          </a:xfrm>
        </p:grpSpPr>
        <p:sp>
          <p:nvSpPr>
            <p:cNvPr id="210" name="文本框 21"/>
            <p:cNvSpPr/>
            <p:nvPr/>
          </p:nvSpPr>
          <p:spPr>
            <a:xfrm>
              <a:off x="542700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5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597780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3"/>
          <p:cNvGrpSpPr/>
          <p:nvPr/>
        </p:nvGrpSpPr>
        <p:grpSpPr>
          <a:xfrm>
            <a:off x="9455760" y="3184560"/>
            <a:ext cx="934200" cy="642600"/>
            <a:chOff x="9455760" y="3184560"/>
            <a:chExt cx="934200" cy="642600"/>
          </a:xfrm>
        </p:grpSpPr>
        <p:sp>
          <p:nvSpPr>
            <p:cNvPr id="213" name="文本框 24"/>
            <p:cNvSpPr/>
            <p:nvPr/>
          </p:nvSpPr>
          <p:spPr>
            <a:xfrm>
              <a:off x="9455760" y="3184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5"/>
            <p:cNvSpPr/>
            <p:nvPr/>
          </p:nvSpPr>
          <p:spPr>
            <a:xfrm>
              <a:off x="10006560" y="32803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6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16" name="正五边形 27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正五边形 28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29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0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223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4"/>
          <p:cNvSpPr/>
          <p:nvPr/>
        </p:nvSpPr>
        <p:spPr>
          <a:xfrm>
            <a:off x="1812240" y="177948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"/>
          <p:cNvGrpSpPr/>
          <p:nvPr/>
        </p:nvGrpSpPr>
        <p:grpSpPr>
          <a:xfrm>
            <a:off x="1162080" y="2298600"/>
            <a:ext cx="4314960" cy="3740400"/>
            <a:chOff x="1162080" y="2298600"/>
            <a:chExt cx="4314960" cy="3740400"/>
          </a:xfrm>
        </p:grpSpPr>
        <p:sp>
          <p:nvSpPr>
            <p:cNvPr id="230" name="任意多边形 2"/>
            <p:cNvSpPr/>
            <p:nvPr/>
          </p:nvSpPr>
          <p:spPr>
            <a:xfrm>
              <a:off x="1162080" y="3180600"/>
              <a:ext cx="1624320" cy="162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"/>
            <p:cNvSpPr/>
            <p:nvPr/>
          </p:nvSpPr>
          <p:spPr>
            <a:xfrm>
              <a:off x="2534040" y="2298600"/>
              <a:ext cx="1764360" cy="17643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4"/>
            <p:cNvSpPr/>
            <p:nvPr/>
          </p:nvSpPr>
          <p:spPr>
            <a:xfrm>
              <a:off x="3224880" y="3787200"/>
              <a:ext cx="2252160" cy="22518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5"/>
            <p:cNvSpPr/>
            <p:nvPr/>
          </p:nvSpPr>
          <p:spPr>
            <a:xfrm>
              <a:off x="1303560" y="3567960"/>
              <a:ext cx="13406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"/>
            <p:cNvSpPr/>
            <p:nvPr/>
          </p:nvSpPr>
          <p:spPr>
            <a:xfrm>
              <a:off x="2745720" y="2703240"/>
              <a:ext cx="13406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7"/>
            <p:cNvSpPr/>
            <p:nvPr/>
          </p:nvSpPr>
          <p:spPr>
            <a:xfrm>
              <a:off x="3518280" y="4425840"/>
              <a:ext cx="16362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8"/>
          <p:cNvGrpSpPr/>
          <p:nvPr/>
        </p:nvGrpSpPr>
        <p:grpSpPr>
          <a:xfrm>
            <a:off x="5070600" y="4078440"/>
            <a:ext cx="2322360" cy="115560"/>
            <a:chOff x="5070600" y="4078440"/>
            <a:chExt cx="2322360" cy="115560"/>
          </a:xfrm>
        </p:grpSpPr>
        <p:sp>
          <p:nvSpPr>
            <p:cNvPr id="237" name="直接连接符 9"/>
            <p:cNvSpPr/>
            <p:nvPr/>
          </p:nvSpPr>
          <p:spPr>
            <a:xfrm>
              <a:off x="5070600" y="4136040"/>
              <a:ext cx="220644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0"/>
            <p:cNvSpPr/>
            <p:nvPr/>
          </p:nvSpPr>
          <p:spPr>
            <a:xfrm>
              <a:off x="7277040" y="4078440"/>
              <a:ext cx="115920" cy="11556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5477040" y="4815000"/>
            <a:ext cx="1915920" cy="115920"/>
            <a:chOff x="5477040" y="4815000"/>
            <a:chExt cx="1915920" cy="115920"/>
          </a:xfrm>
        </p:grpSpPr>
        <p:sp>
          <p:nvSpPr>
            <p:cNvPr id="240" name="直接连接符 12"/>
            <p:cNvSpPr/>
            <p:nvPr/>
          </p:nvSpPr>
          <p:spPr>
            <a:xfrm>
              <a:off x="5477040" y="4872960"/>
              <a:ext cx="183636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3"/>
            <p:cNvSpPr/>
            <p:nvPr/>
          </p:nvSpPr>
          <p:spPr>
            <a:xfrm>
              <a:off x="7277040" y="4815000"/>
              <a:ext cx="115920" cy="1159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4"/>
          <p:cNvGrpSpPr/>
          <p:nvPr/>
        </p:nvGrpSpPr>
        <p:grpSpPr>
          <a:xfrm>
            <a:off x="5070600" y="5621400"/>
            <a:ext cx="2322360" cy="115920"/>
            <a:chOff x="5070600" y="5621400"/>
            <a:chExt cx="2322360" cy="115920"/>
          </a:xfrm>
        </p:grpSpPr>
        <p:sp>
          <p:nvSpPr>
            <p:cNvPr id="243" name="直接连接符 15"/>
            <p:cNvSpPr/>
            <p:nvPr/>
          </p:nvSpPr>
          <p:spPr>
            <a:xfrm>
              <a:off x="5070600" y="5679360"/>
              <a:ext cx="220644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6"/>
            <p:cNvSpPr/>
            <p:nvPr/>
          </p:nvSpPr>
          <p:spPr>
            <a:xfrm>
              <a:off x="7277040" y="5621400"/>
              <a:ext cx="115920" cy="1159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17"/>
          <p:cNvSpPr/>
          <p:nvPr/>
        </p:nvSpPr>
        <p:spPr>
          <a:xfrm>
            <a:off x="7435800" y="398160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8"/>
          <p:cNvSpPr/>
          <p:nvPr/>
        </p:nvSpPr>
        <p:spPr>
          <a:xfrm>
            <a:off x="7435800" y="472140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9"/>
          <p:cNvSpPr/>
          <p:nvPr/>
        </p:nvSpPr>
        <p:spPr>
          <a:xfrm>
            <a:off x="7435800" y="5491080"/>
            <a:ext cx="333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6762960" y="104616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25"/>
          <p:cNvGrpSpPr/>
          <p:nvPr/>
        </p:nvGrpSpPr>
        <p:grpSpPr>
          <a:xfrm>
            <a:off x="9696600" y="-18000"/>
            <a:ext cx="1428480" cy="1405080"/>
            <a:chOff x="9696600" y="-18000"/>
            <a:chExt cx="1428480" cy="1405080"/>
          </a:xfrm>
        </p:grpSpPr>
        <p:sp>
          <p:nvSpPr>
            <p:cNvPr id="250" name="正五边形 26"/>
            <p:cNvSpPr/>
            <p:nvPr/>
          </p:nvSpPr>
          <p:spPr>
            <a:xfrm rot="10800000">
              <a:off x="9696600" y="-18000"/>
              <a:ext cx="1428480" cy="14050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正五边形 27"/>
            <p:cNvSpPr/>
            <p:nvPr/>
          </p:nvSpPr>
          <p:spPr>
            <a:xfrm rot="10800000">
              <a:off x="9794880" y="78480"/>
              <a:ext cx="1232280" cy="121212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28"/>
          <p:cNvSpPr/>
          <p:nvPr/>
        </p:nvSpPr>
        <p:spPr>
          <a:xfrm>
            <a:off x="9898920" y="-15084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9"/>
          <p:cNvSpPr/>
          <p:nvPr/>
        </p:nvSpPr>
        <p:spPr>
          <a:xfrm>
            <a:off x="6828480" y="1847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正五边形 2"/>
          <p:cNvSpPr/>
          <p:nvPr/>
        </p:nvSpPr>
        <p:spPr>
          <a:xfrm rot="19947000">
            <a:off x="-836280" y="-320760"/>
            <a:ext cx="5742000" cy="56484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92400" y="2019240"/>
            <a:ext cx="7794360" cy="3905280"/>
            <a:chOff x="2192400" y="2019240"/>
            <a:chExt cx="7794360" cy="3905280"/>
          </a:xfrm>
        </p:grpSpPr>
        <p:sp>
          <p:nvSpPr>
            <p:cNvPr id="256" name=""/>
            <p:cNvSpPr/>
            <p:nvPr/>
          </p:nvSpPr>
          <p:spPr>
            <a:xfrm rot="21300000">
              <a:off x="2215800" y="3530520"/>
              <a:ext cx="7746840" cy="881640"/>
            </a:xfrm>
            <a:custGeom>
              <a:avLst/>
              <a:gdLst>
                <a:gd name="textAreaLeft" fmla="*/ 0 w 7746840"/>
                <a:gd name="textAreaRight" fmla="*/ 7747200 w 774684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w="7699453" h="881703">
                  <a:moveTo>
                    <a:pt x="1020562" y="337163"/>
                  </a:moveTo>
                  <a:lnTo>
                    <a:pt x="6678890" y="337163"/>
                  </a:lnTo>
                  <a:lnTo>
                    <a:pt x="6678890" y="544539"/>
                  </a:lnTo>
                  <a:lnTo>
                    <a:pt x="1020562" y="544539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7320" y="2214360"/>
              <a:ext cx="2338200" cy="15620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3400" y="201924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3400" y="201924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Arial"/>
                  <a:ea typeface="黑体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13280" y="4167000"/>
              <a:ext cx="2338200" cy="15620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1320" y="428436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1320" y="4284360"/>
              <a:ext cx="249408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Arial"/>
                  <a:ea typeface="黑体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64" name="正五边形 4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正五边形 5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6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正五边形 15"/>
          <p:cNvSpPr/>
          <p:nvPr/>
        </p:nvSpPr>
        <p:spPr>
          <a:xfrm rot="1856400">
            <a:off x="6198840" y="213480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正五边形 16"/>
          <p:cNvSpPr/>
          <p:nvPr/>
        </p:nvSpPr>
        <p:spPr>
          <a:xfrm rot="20698200">
            <a:off x="1506600" y="157788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"/>
          <p:cNvGrpSpPr/>
          <p:nvPr/>
        </p:nvGrpSpPr>
        <p:grpSpPr>
          <a:xfrm>
            <a:off x="1344600" y="1363680"/>
            <a:ext cx="3481560" cy="3885840"/>
            <a:chOff x="1344600" y="1363680"/>
            <a:chExt cx="3481560" cy="3885840"/>
          </a:xfrm>
        </p:grpSpPr>
        <p:sp>
          <p:nvSpPr>
            <p:cNvPr id="271" name="任意多边形 2"/>
            <p:cNvSpPr/>
            <p:nvPr/>
          </p:nvSpPr>
          <p:spPr>
            <a:xfrm>
              <a:off x="1344600" y="1379880"/>
              <a:ext cx="1057680" cy="318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3"/>
            <p:cNvSpPr/>
            <p:nvPr/>
          </p:nvSpPr>
          <p:spPr>
            <a:xfrm>
              <a:off x="3570840" y="1363680"/>
              <a:ext cx="1255320" cy="320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4"/>
            <p:cNvSpPr/>
            <p:nvPr/>
          </p:nvSpPr>
          <p:spPr>
            <a:xfrm>
              <a:off x="3839040" y="46069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7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"/>
            <p:cNvSpPr/>
            <p:nvPr/>
          </p:nvSpPr>
          <p:spPr>
            <a:xfrm>
              <a:off x="4352040" y="4696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6"/>
            <p:cNvSpPr/>
            <p:nvPr/>
          </p:nvSpPr>
          <p:spPr>
            <a:xfrm>
              <a:off x="1467720" y="46069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7"/>
            <p:cNvSpPr/>
            <p:nvPr/>
          </p:nvSpPr>
          <p:spPr>
            <a:xfrm>
              <a:off x="1980720" y="4696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文本框 8"/>
          <p:cNvSpPr/>
          <p:nvPr/>
        </p:nvSpPr>
        <p:spPr>
          <a:xfrm>
            <a:off x="8508600" y="247644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1"/>
          <p:cNvGrpSpPr/>
          <p:nvPr/>
        </p:nvGrpSpPr>
        <p:grpSpPr>
          <a:xfrm>
            <a:off x="6359400" y="2209680"/>
            <a:ext cx="1995480" cy="1962360"/>
            <a:chOff x="6359400" y="2209680"/>
            <a:chExt cx="1995480" cy="1962360"/>
          </a:xfrm>
        </p:grpSpPr>
        <p:sp>
          <p:nvSpPr>
            <p:cNvPr id="279" name="正五边形 12"/>
            <p:cNvSpPr/>
            <p:nvPr/>
          </p:nvSpPr>
          <p:spPr>
            <a:xfrm>
              <a:off x="6359400" y="2209680"/>
              <a:ext cx="1995480" cy="196236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正五边形 13"/>
            <p:cNvSpPr/>
            <p:nvPr/>
          </p:nvSpPr>
          <p:spPr>
            <a:xfrm>
              <a:off x="6496200" y="2344320"/>
              <a:ext cx="1721520" cy="169272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14"/>
          <p:cNvSpPr/>
          <p:nvPr/>
        </p:nvSpPr>
        <p:spPr>
          <a:xfrm>
            <a:off x="6675840" y="2266920"/>
            <a:ext cx="1372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7"/>
          <p:cNvSpPr/>
          <p:nvPr/>
        </p:nvSpPr>
        <p:spPr>
          <a:xfrm>
            <a:off x="8560440" y="33130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286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矩形 4"/>
          <p:cNvSpPr/>
          <p:nvPr/>
        </p:nvSpPr>
        <p:spPr>
          <a:xfrm>
            <a:off x="1902600" y="182556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b9f2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682-99E4-4A53-83B9-D6FDAF5C69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正五边形 7"/>
          <p:cNvSpPr/>
          <p:nvPr/>
        </p:nvSpPr>
        <p:spPr>
          <a:xfrm rot="19947000">
            <a:off x="-836280" y="-320760"/>
            <a:ext cx="5742000" cy="56484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297" name="正五边形 2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正五边形 3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511280" y="2190240"/>
            <a:ext cx="9169560" cy="3071880"/>
            <a:chOff x="1511280" y="2190240"/>
            <a:chExt cx="9169560" cy="3071880"/>
          </a:xfrm>
        </p:grpSpPr>
        <p:sp>
          <p:nvSpPr>
            <p:cNvPr id="302" name=""/>
            <p:cNvSpPr/>
            <p:nvPr/>
          </p:nvSpPr>
          <p:spPr>
            <a:xfrm rot="16200000">
              <a:off x="106020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1128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39336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444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572652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760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8059680" y="2640960"/>
              <a:ext cx="3071880" cy="2170080"/>
            </a:xfrm>
            <a:prstGeom prst="flowChartManualOperation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10760" y="2804760"/>
              <a:ext cx="217008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TO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正五边形 8"/>
          <p:cNvSpPr/>
          <p:nvPr/>
        </p:nvSpPr>
        <p:spPr>
          <a:xfrm rot="19947000">
            <a:off x="-946080" y="1914120"/>
            <a:ext cx="5241960" cy="515448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33520" y="1446120"/>
            <a:ext cx="6997680" cy="4386240"/>
            <a:chOff x="533520" y="1446120"/>
            <a:chExt cx="6997680" cy="4386240"/>
          </a:xfrm>
        </p:grpSpPr>
        <p:sp>
          <p:nvSpPr>
            <p:cNvPr id="312" name=""/>
            <p:cNvSpPr/>
            <p:nvPr/>
          </p:nvSpPr>
          <p:spPr>
            <a:xfrm>
              <a:off x="533520" y="1446120"/>
              <a:ext cx="1943640" cy="159948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7920" y="1680120"/>
              <a:ext cx="13744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41400" y="3175200"/>
              <a:ext cx="1127160" cy="927720"/>
            </a:xfrm>
            <a:prstGeom prst="pie">
              <a:avLst/>
            </a:prstGeom>
            <a:solidFill>
              <a:srgbClr val="00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1160" y="3530160"/>
              <a:ext cx="82836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4232880"/>
              <a:ext cx="1943640" cy="159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7920" y="4467240"/>
              <a:ext cx="13744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8760" y="3341880"/>
              <a:ext cx="618120" cy="594720"/>
            </a:xfrm>
            <a:prstGeom prst="rightArrow">
              <a:avLst>
                <a:gd name="adj1" fmla="val 60000"/>
                <a:gd name="adj2" fmla="val 51967"/>
              </a:avLst>
            </a:prstGeom>
            <a:solidFill>
              <a:srgbClr val="00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3460680"/>
              <a:ext cx="4323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43560" y="2039760"/>
              <a:ext cx="3887640" cy="31989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3080" y="2508120"/>
              <a:ext cx="2748960" cy="22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ctr">
              <a:noAutofit/>
            </a:bodyPr>
            <a:p>
              <a:pPr algn="ctr">
                <a:lnSpc>
                  <a:spcPct val="90000"/>
                </a:lnSpc>
                <a:spcAft>
                  <a:spcPts val="28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2"/>
          <p:cNvSpPr/>
          <p:nvPr/>
        </p:nvSpPr>
        <p:spPr>
          <a:xfrm>
            <a:off x="8239680" y="279864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3"/>
          <p:cNvGrpSpPr/>
          <p:nvPr/>
        </p:nvGrpSpPr>
        <p:grpSpPr>
          <a:xfrm>
            <a:off x="8343720" y="-360"/>
            <a:ext cx="2479320" cy="2438280"/>
            <a:chOff x="8343720" y="-360"/>
            <a:chExt cx="2479320" cy="2438280"/>
          </a:xfrm>
        </p:grpSpPr>
        <p:sp>
          <p:nvSpPr>
            <p:cNvPr id="324" name="正五边形 4"/>
            <p:cNvSpPr/>
            <p:nvPr/>
          </p:nvSpPr>
          <p:spPr>
            <a:xfrm rot="10800000">
              <a:off x="8343720" y="-360"/>
              <a:ext cx="2479320" cy="243828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正五边形 5"/>
            <p:cNvSpPr/>
            <p:nvPr/>
          </p:nvSpPr>
          <p:spPr>
            <a:xfrm rot="10800000">
              <a:off x="8514000" y="167040"/>
              <a:ext cx="2138760" cy="210348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6"/>
          <p:cNvSpPr/>
          <p:nvPr/>
        </p:nvSpPr>
        <p:spPr>
          <a:xfrm>
            <a:off x="8907480" y="-114480"/>
            <a:ext cx="1445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7"/>
          <p:cNvSpPr/>
          <p:nvPr/>
        </p:nvSpPr>
        <p:spPr>
          <a:xfrm>
            <a:off x="8304840" y="3600360"/>
            <a:ext cx="26132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2"/>
          <p:cNvSpPr/>
          <p:nvPr/>
        </p:nvSpPr>
        <p:spPr>
          <a:xfrm>
            <a:off x="859680" y="2087640"/>
            <a:ext cx="17031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bfbfbf"/>
                </a:solidFill>
                <a:latin typeface="Arial"/>
                <a:ea typeface="Arial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正五边形 3"/>
          <p:cNvSpPr/>
          <p:nvPr/>
        </p:nvSpPr>
        <p:spPr>
          <a:xfrm rot="14496600">
            <a:off x="-873720" y="2054520"/>
            <a:ext cx="634068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表 1" descr=""/>
          <p:cNvPicPr/>
          <p:nvPr/>
        </p:nvPicPr>
        <p:blipFill>
          <a:blip r:embed="rId2"/>
          <a:stretch/>
        </p:blipFill>
        <p:spPr>
          <a:xfrm>
            <a:off x="5486400" y="1563840"/>
            <a:ext cx="5973840" cy="380340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4"/>
          <p:cNvSpPr/>
          <p:nvPr/>
        </p:nvSpPr>
        <p:spPr>
          <a:xfrm>
            <a:off x="2478600" y="255276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2524680" y="333864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"/>
          <p:cNvGrpSpPr/>
          <p:nvPr/>
        </p:nvGrpSpPr>
        <p:grpSpPr>
          <a:xfrm>
            <a:off x="-360" y="0"/>
            <a:ext cx="6095880" cy="6858000"/>
            <a:chOff x="-360" y="0"/>
            <a:chExt cx="6095880" cy="6858000"/>
          </a:xfrm>
        </p:grpSpPr>
        <p:sp>
          <p:nvSpPr>
            <p:cNvPr id="54" name="流程图: 手动输入 1"/>
            <p:cNvSpPr/>
            <p:nvPr/>
          </p:nvSpPr>
          <p:spPr>
            <a:xfrm flipV="1" rot="16200000">
              <a:off x="-381240" y="380880"/>
              <a:ext cx="6858000" cy="6095880"/>
            </a:xfrm>
            <a:prstGeom prst="flowChartManualInpu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12"/>
            <p:cNvGrpSpPr/>
            <p:nvPr/>
          </p:nvGrpSpPr>
          <p:grpSpPr>
            <a:xfrm>
              <a:off x="4097520" y="1117440"/>
              <a:ext cx="1777320" cy="4622760"/>
              <a:chOff x="4097520" y="1117440"/>
              <a:chExt cx="1777320" cy="4622760"/>
            </a:xfrm>
          </p:grpSpPr>
          <p:sp>
            <p:nvSpPr>
              <p:cNvPr id="56" name="矩形 8"/>
              <p:cNvSpPr/>
              <p:nvPr/>
            </p:nvSpPr>
            <p:spPr>
              <a:xfrm rot="744600">
                <a:off x="4956840" y="119340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A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9"/>
              <p:cNvSpPr/>
              <p:nvPr/>
            </p:nvSpPr>
            <p:spPr>
              <a:xfrm rot="744600">
                <a:off x="4703400" y="234360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B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10"/>
              <p:cNvSpPr/>
              <p:nvPr/>
            </p:nvSpPr>
            <p:spPr>
              <a:xfrm rot="744600">
                <a:off x="4197240" y="464508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11"/>
              <p:cNvSpPr/>
              <p:nvPr/>
            </p:nvSpPr>
            <p:spPr>
              <a:xfrm rot="744600">
                <a:off x="4450320" y="3494520"/>
                <a:ext cx="817920" cy="1019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文本框 5"/>
          <p:cNvSpPr/>
          <p:nvPr/>
        </p:nvSpPr>
        <p:spPr>
          <a:xfrm>
            <a:off x="1621800" y="657360"/>
            <a:ext cx="14457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5400"/>
                </a:solidFill>
                <a:latin typeface="黑体"/>
              </a:rPr>
              <a:t>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5400"/>
                </a:solidFill>
                <a:latin typeface="黑体"/>
              </a:rPr>
              <a:t>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-225000" y="118116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00"/>
                </a:solidFill>
                <a:latin typeface="Arial"/>
                <a:ea typeface="Arial"/>
              </a:rPr>
              <a:t>C O N T E 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6251760" y="16002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5"/>
          <p:cNvSpPr/>
          <p:nvPr/>
        </p:nvSpPr>
        <p:spPr>
          <a:xfrm>
            <a:off x="6069960" y="273384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5774760" y="386712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7"/>
          <p:cNvSpPr/>
          <p:nvPr/>
        </p:nvSpPr>
        <p:spPr>
          <a:xfrm>
            <a:off x="5521680" y="50022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1"/>
          <p:cNvGrpSpPr/>
          <p:nvPr/>
        </p:nvGrpSpPr>
        <p:grpSpPr>
          <a:xfrm>
            <a:off x="126360" y="-645120"/>
            <a:ext cx="12014280" cy="7040880"/>
            <a:chOff x="126360" y="-645120"/>
            <a:chExt cx="12014280" cy="7040880"/>
          </a:xfrm>
        </p:grpSpPr>
        <p:grpSp>
          <p:nvGrpSpPr>
            <p:cNvPr id="334" name="组合 2"/>
            <p:cNvGrpSpPr/>
            <p:nvPr/>
          </p:nvGrpSpPr>
          <p:grpSpPr>
            <a:xfrm>
              <a:off x="126360" y="-645120"/>
              <a:ext cx="12014280" cy="7040880"/>
              <a:chOff x="126360" y="-645120"/>
              <a:chExt cx="12014280" cy="7040880"/>
            </a:xfrm>
          </p:grpSpPr>
          <p:sp>
            <p:nvSpPr>
              <p:cNvPr id="335" name="流程图: 手动输入 5"/>
              <p:cNvSpPr/>
              <p:nvPr/>
            </p:nvSpPr>
            <p:spPr>
              <a:xfrm rot="10609200">
                <a:off x="191520" y="1108800"/>
                <a:ext cx="8669160" cy="259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流程图: 手动输入 5"/>
              <p:cNvSpPr/>
              <p:nvPr/>
            </p:nvSpPr>
            <p:spPr>
              <a:xfrm flipV="1" rot="9225600">
                <a:off x="3127320" y="1086840"/>
                <a:ext cx="8669160" cy="357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3"/>
            <p:cNvGrpSpPr/>
            <p:nvPr/>
          </p:nvGrpSpPr>
          <p:grpSpPr>
            <a:xfrm>
              <a:off x="723600" y="-22680"/>
              <a:ext cx="10898640" cy="5864400"/>
              <a:chOff x="723600" y="-22680"/>
              <a:chExt cx="10898640" cy="5864400"/>
            </a:xfrm>
          </p:grpSpPr>
          <p:sp>
            <p:nvSpPr>
              <p:cNvPr id="338" name="流程图: 手动输入 5"/>
              <p:cNvSpPr/>
              <p:nvPr/>
            </p:nvSpPr>
            <p:spPr>
              <a:xfrm rot="10612800">
                <a:off x="772920" y="1348560"/>
                <a:ext cx="7847640" cy="2030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流程图: 手动输入 5"/>
              <p:cNvSpPr/>
              <p:nvPr/>
            </p:nvSpPr>
            <p:spPr>
              <a:xfrm flipV="1" rot="9292800">
                <a:off x="3551760" y="1510560"/>
                <a:ext cx="7847640" cy="27975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文本框 8"/>
          <p:cNvSpPr/>
          <p:nvPr/>
        </p:nvSpPr>
        <p:spPr>
          <a:xfrm rot="20427000">
            <a:off x="4331520" y="2900520"/>
            <a:ext cx="702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</a:rPr>
              <a:t>YOUR 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9"/>
          <p:cNvSpPr/>
          <p:nvPr/>
        </p:nvSpPr>
        <p:spPr>
          <a:xfrm rot="21154800">
            <a:off x="2390400" y="1635120"/>
            <a:ext cx="358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0"/>
          <p:cNvSpPr/>
          <p:nvPr/>
        </p:nvSpPr>
        <p:spPr>
          <a:xfrm rot="20143800">
            <a:off x="8287920" y="3436920"/>
            <a:ext cx="39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 </a:t>
            </a:r>
            <a:r>
              <a:rPr b="0" lang="en-US" sz="2000" spc="-1" strike="noStrike">
                <a:solidFill>
                  <a:srgbClr val="009900"/>
                </a:solidFill>
                <a:latin typeface="微软雅黑"/>
              </a:rPr>
              <a:t>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69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"/>
          <p:cNvSpPr/>
          <p:nvPr/>
        </p:nvSpPr>
        <p:spPr>
          <a:xfrm>
            <a:off x="1812240" y="160020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6120" y="11239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通用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22"/>
          <p:cNvGrpSpPr/>
          <p:nvPr/>
        </p:nvGrpSpPr>
        <p:grpSpPr>
          <a:xfrm>
            <a:off x="1479600" y="1647720"/>
            <a:ext cx="3360600" cy="4289400"/>
            <a:chOff x="1479600" y="1647720"/>
            <a:chExt cx="3360600" cy="4289400"/>
          </a:xfrm>
        </p:grpSpPr>
        <p:sp>
          <p:nvSpPr>
            <p:cNvPr id="77" name="正五边形 23"/>
            <p:cNvSpPr/>
            <p:nvPr/>
          </p:nvSpPr>
          <p:spPr>
            <a:xfrm>
              <a:off x="1479600" y="1647720"/>
              <a:ext cx="3360600" cy="428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正五边形 24"/>
            <p:cNvSpPr/>
            <p:nvPr/>
          </p:nvSpPr>
          <p:spPr>
            <a:xfrm>
              <a:off x="1652400" y="1815840"/>
              <a:ext cx="3015000" cy="3952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80" name="正五边形 8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正五边形 9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0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03640" y="254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五边形 15"/>
          <p:cNvSpPr/>
          <p:nvPr/>
        </p:nvSpPr>
        <p:spPr>
          <a:xfrm rot="1856400">
            <a:off x="5951160" y="208548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1" descr=""/>
          <p:cNvPicPr/>
          <p:nvPr/>
        </p:nvPicPr>
        <p:blipFill>
          <a:blip r:embed="rId2"/>
          <a:srcRect l="5852" t="0" r="6822" b="0"/>
          <a:stretch/>
        </p:blipFill>
        <p:spPr>
          <a:xfrm rot="16200000">
            <a:off x="1278720" y="2372040"/>
            <a:ext cx="3762360" cy="2853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6877440" y="2068560"/>
            <a:ext cx="40363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16"/>
          <p:cNvGrpSpPr/>
          <p:nvPr/>
        </p:nvGrpSpPr>
        <p:grpSpPr>
          <a:xfrm>
            <a:off x="7667640" y="2009880"/>
            <a:ext cx="3360600" cy="3576600"/>
            <a:chOff x="7667640" y="2009880"/>
            <a:chExt cx="3360600" cy="3576600"/>
          </a:xfrm>
        </p:grpSpPr>
        <p:sp>
          <p:nvSpPr>
            <p:cNvPr id="88" name="正五边形 23"/>
            <p:cNvSpPr/>
            <p:nvPr/>
          </p:nvSpPr>
          <p:spPr>
            <a:xfrm>
              <a:off x="7667640" y="2009880"/>
              <a:ext cx="3360600" cy="357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正五边形 24"/>
            <p:cNvSpPr/>
            <p:nvPr/>
          </p:nvSpPr>
          <p:spPr>
            <a:xfrm>
              <a:off x="7840440" y="2149920"/>
              <a:ext cx="3015000" cy="32961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剪去对角的矩形 1"/>
          <p:cNvSpPr/>
          <p:nvPr/>
        </p:nvSpPr>
        <p:spPr>
          <a:xfrm>
            <a:off x="0" y="-33480"/>
            <a:ext cx="12222000" cy="689796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2265840" y="76212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1049400" y="441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2201400" y="12636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1154160" y="2081160"/>
            <a:ext cx="40366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2"/>
          <a:srcRect l="5858" t="0" r="6825" b="0"/>
          <a:stretch/>
        </p:blipFill>
        <p:spPr>
          <a:xfrm rot="16200000">
            <a:off x="7531560" y="2718360"/>
            <a:ext cx="3610080" cy="273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571680" y="760320"/>
            <a:ext cx="8191440" cy="5259600"/>
            <a:chOff x="571680" y="760320"/>
            <a:chExt cx="8191440" cy="5259600"/>
          </a:xfrm>
        </p:grpSpPr>
        <p:sp>
          <p:nvSpPr>
            <p:cNvPr id="97" name=""/>
            <p:cNvSpPr/>
            <p:nvPr/>
          </p:nvSpPr>
          <p:spPr>
            <a:xfrm>
              <a:off x="2149920" y="40287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7920" y="433692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8240" y="49086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680" y="294624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0600" y="466128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7080" y="29307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15080" y="323928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00760" y="46440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12160" y="40255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4640" y="49176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49920" y="185796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7920" y="216612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15680" y="18990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27080" y="7603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9560" y="164268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12160" y="185472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00160" y="2163240"/>
              <a:ext cx="12834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1280" y="273384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03720" y="2949480"/>
              <a:ext cx="1859400" cy="1991160"/>
            </a:xfrm>
            <a:prstGeom prst="hexagon">
              <a:avLst>
                <a:gd name="adj" fmla="val 21458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78840" y="2984400"/>
              <a:ext cx="217080" cy="233280"/>
            </a:xfrm>
            <a:prstGeom prst="hexagon">
              <a:avLst>
                <a:gd name="adj" fmla="val 2155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"/>
          <p:cNvGrpSpPr/>
          <p:nvPr/>
        </p:nvGrpSpPr>
        <p:grpSpPr>
          <a:xfrm>
            <a:off x="6248880" y="-1200960"/>
            <a:ext cx="6736320" cy="4475160"/>
            <a:chOff x="6248880" y="-1200960"/>
            <a:chExt cx="6736320" cy="4475160"/>
          </a:xfrm>
        </p:grpSpPr>
        <p:sp>
          <p:nvSpPr>
            <p:cNvPr id="118" name="正五边形 23"/>
            <p:cNvSpPr/>
            <p:nvPr/>
          </p:nvSpPr>
          <p:spPr>
            <a:xfrm rot="1719600">
              <a:off x="6130440" y="392040"/>
              <a:ext cx="6972480" cy="128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正五边形 24"/>
            <p:cNvSpPr/>
            <p:nvPr/>
          </p:nvSpPr>
          <p:spPr>
            <a:xfrm rot="1719600">
              <a:off x="6503760" y="551520"/>
              <a:ext cx="6255360" cy="916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 rot="1700400">
            <a:off x="7598160" y="97164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561160" y="1870200"/>
            <a:ext cx="33354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400" spc="-1" strike="noStrike">
                <a:solidFill>
                  <a:srgbClr val="d8d8d8"/>
                </a:solidFill>
                <a:latin typeface="Arial"/>
                <a:ea typeface="Arial"/>
              </a:rPr>
              <a:t>A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277"/>
          <p:cNvGrpSpPr/>
          <p:nvPr/>
        </p:nvGrpSpPr>
        <p:grpSpPr>
          <a:xfrm>
            <a:off x="771480" y="846000"/>
            <a:ext cx="6253200" cy="5166000"/>
            <a:chOff x="771480" y="846000"/>
            <a:chExt cx="6253200" cy="5166000"/>
          </a:xfrm>
        </p:grpSpPr>
        <p:sp>
          <p:nvSpPr>
            <p:cNvPr id="123" name="Freeform 9"/>
            <p:cNvSpPr/>
            <p:nvPr/>
          </p:nvSpPr>
          <p:spPr>
            <a:xfrm>
              <a:off x="771480" y="846000"/>
              <a:ext cx="6253200" cy="48722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5685480" y="2235240"/>
              <a:ext cx="731880" cy="689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4652280" y="5735880"/>
              <a:ext cx="330840" cy="2761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4665960" y="5759640"/>
              <a:ext cx="303480" cy="251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4786920" y="4956480"/>
              <a:ext cx="975600" cy="7491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3228480" y="4440960"/>
              <a:ext cx="1097640" cy="1159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4151880" y="4856760"/>
              <a:ext cx="930960" cy="6944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6136200" y="4859280"/>
              <a:ext cx="221400" cy="5126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6156000" y="4872960"/>
              <a:ext cx="194040" cy="48528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608440" y="4485960"/>
              <a:ext cx="515160" cy="66960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4025160" y="4421160"/>
              <a:ext cx="754200" cy="66204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4667400" y="4284360"/>
              <a:ext cx="669600" cy="794160"/>
            </a:xfrm>
            <a:prstGeom prst="pi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5277240" y="4239360"/>
              <a:ext cx="579960" cy="82908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3285720" y="3714120"/>
              <a:ext cx="1209600" cy="118980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1032840" y="3198600"/>
              <a:ext cx="2427120" cy="148608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5807520" y="4152240"/>
              <a:ext cx="452880" cy="44784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4249080" y="3985560"/>
              <a:ext cx="574920" cy="59724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4612680" y="3853440"/>
              <a:ext cx="938520" cy="579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5384160" y="3582000"/>
              <a:ext cx="579960" cy="71424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5538600" y="3485160"/>
              <a:ext cx="676800" cy="669600"/>
            </a:xfrm>
            <a:prstGeom prst="pi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4839120" y="3370320"/>
              <a:ext cx="696960" cy="67464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4289040" y="2934720"/>
              <a:ext cx="609840" cy="110520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2404440" y="2917440"/>
              <a:ext cx="1538280" cy="112032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4799160" y="2765520"/>
              <a:ext cx="423000" cy="85140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5354280" y="3066840"/>
              <a:ext cx="796320" cy="5328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4117320" y="2986920"/>
              <a:ext cx="343440" cy="53496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5137920" y="2434320"/>
              <a:ext cx="667080" cy="955800"/>
            </a:xfrm>
            <a:prstGeom prst="pi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3720" y="1445760"/>
              <a:ext cx="2464560" cy="1887120"/>
            </a:xfrm>
            <a:prstGeom prst="pi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3392640" y="918000"/>
              <a:ext cx="2715840" cy="232524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5324400" y="2673360"/>
              <a:ext cx="288720" cy="32832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5839920" y="1851840"/>
              <a:ext cx="1042920" cy="66204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5623200" y="858240"/>
              <a:ext cx="1386360" cy="123984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2842560" y="2439360"/>
              <a:ext cx="1755000" cy="1493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文本框 278"/>
          <p:cNvSpPr/>
          <p:nvPr/>
        </p:nvSpPr>
        <p:spPr>
          <a:xfrm>
            <a:off x="8548920" y="152100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79"/>
          <p:cNvGrpSpPr/>
          <p:nvPr/>
        </p:nvGrpSpPr>
        <p:grpSpPr>
          <a:xfrm>
            <a:off x="9138960" y="-360"/>
            <a:ext cx="1428840" cy="1406520"/>
            <a:chOff x="9138960" y="-360"/>
            <a:chExt cx="1428840" cy="1406520"/>
          </a:xfrm>
        </p:grpSpPr>
        <p:sp>
          <p:nvSpPr>
            <p:cNvPr id="158" name="正五边形 280"/>
            <p:cNvSpPr/>
            <p:nvPr/>
          </p:nvSpPr>
          <p:spPr>
            <a:xfrm rot="10800000">
              <a:off x="9138960" y="-360"/>
              <a:ext cx="1428840" cy="14065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正五边形 281"/>
            <p:cNvSpPr/>
            <p:nvPr/>
          </p:nvSpPr>
          <p:spPr>
            <a:xfrm rot="10800000">
              <a:off x="9237240" y="96120"/>
              <a:ext cx="1232640" cy="12135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282"/>
          <p:cNvSpPr/>
          <p:nvPr/>
        </p:nvSpPr>
        <p:spPr>
          <a:xfrm>
            <a:off x="9360720" y="-16200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83"/>
          <p:cNvSpPr/>
          <p:nvPr/>
        </p:nvSpPr>
        <p:spPr>
          <a:xfrm>
            <a:off x="8614440" y="232236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7594560" y="3859200"/>
            <a:ext cx="797040" cy="5335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7504200" y="5056200"/>
            <a:ext cx="976320" cy="74916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8"/>
          <p:cNvSpPr/>
          <p:nvPr/>
        </p:nvSpPr>
        <p:spPr>
          <a:xfrm>
            <a:off x="9662400" y="388620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89"/>
          <p:cNvGrpSpPr/>
          <p:nvPr/>
        </p:nvGrpSpPr>
        <p:grpSpPr>
          <a:xfrm>
            <a:off x="8550720" y="3753000"/>
            <a:ext cx="1074240" cy="764280"/>
            <a:chOff x="8550720" y="3753000"/>
            <a:chExt cx="1074240" cy="764280"/>
          </a:xfrm>
        </p:grpSpPr>
        <p:sp>
          <p:nvSpPr>
            <p:cNvPr id="166" name="文本框 290"/>
            <p:cNvSpPr/>
            <p:nvPr/>
          </p:nvSpPr>
          <p:spPr>
            <a:xfrm>
              <a:off x="8550720" y="375300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  <a:ea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91"/>
            <p:cNvSpPr/>
            <p:nvPr/>
          </p:nvSpPr>
          <p:spPr>
            <a:xfrm>
              <a:off x="9172800" y="3848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92"/>
          <p:cNvGrpSpPr/>
          <p:nvPr/>
        </p:nvGrpSpPr>
        <p:grpSpPr>
          <a:xfrm>
            <a:off x="8550720" y="5000760"/>
            <a:ext cx="1074240" cy="764280"/>
            <a:chOff x="8550720" y="5000760"/>
            <a:chExt cx="1074240" cy="764280"/>
          </a:xfrm>
        </p:grpSpPr>
        <p:sp>
          <p:nvSpPr>
            <p:cNvPr id="169" name="文本框 293"/>
            <p:cNvSpPr/>
            <p:nvPr/>
          </p:nvSpPr>
          <p:spPr>
            <a:xfrm>
              <a:off x="8550720" y="500076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  <a:ea typeface="Arial"/>
                </a:rPr>
                <a:t>5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94"/>
            <p:cNvSpPr/>
            <p:nvPr/>
          </p:nvSpPr>
          <p:spPr>
            <a:xfrm>
              <a:off x="9172800" y="5096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295"/>
          <p:cNvSpPr/>
          <p:nvPr/>
        </p:nvSpPr>
        <p:spPr>
          <a:xfrm>
            <a:off x="9638640" y="509580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正五边形 5"/>
          <p:cNvSpPr/>
          <p:nvPr/>
        </p:nvSpPr>
        <p:spPr>
          <a:xfrm>
            <a:off x="6192720" y="0"/>
            <a:ext cx="6983640" cy="686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4603320" y="3024360"/>
            <a:ext cx="59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7"/>
          <p:cNvGrpSpPr/>
          <p:nvPr/>
        </p:nvGrpSpPr>
        <p:grpSpPr>
          <a:xfrm>
            <a:off x="1204920" y="1600200"/>
            <a:ext cx="3220920" cy="3166920"/>
            <a:chOff x="1204920" y="1600200"/>
            <a:chExt cx="3220920" cy="3166920"/>
          </a:xfrm>
        </p:grpSpPr>
        <p:sp>
          <p:nvSpPr>
            <p:cNvPr id="175" name="正五边形 6"/>
            <p:cNvSpPr/>
            <p:nvPr/>
          </p:nvSpPr>
          <p:spPr>
            <a:xfrm>
              <a:off x="1204920" y="1600200"/>
              <a:ext cx="3220920" cy="316692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正五边形 1"/>
            <p:cNvSpPr/>
            <p:nvPr/>
          </p:nvSpPr>
          <p:spPr>
            <a:xfrm>
              <a:off x="1425960" y="1817640"/>
              <a:ext cx="2778480" cy="273204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4"/>
          <p:cNvSpPr/>
          <p:nvPr/>
        </p:nvSpPr>
        <p:spPr>
          <a:xfrm>
            <a:off x="1857600" y="1779480"/>
            <a:ext cx="20048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3960" y="3571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正五边形 9"/>
          <p:cNvSpPr/>
          <p:nvPr/>
        </p:nvSpPr>
        <p:spPr>
          <a:xfrm rot="20698200">
            <a:off x="120600" y="4071960"/>
            <a:ext cx="2666880" cy="270360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正五边形 10"/>
          <p:cNvSpPr/>
          <p:nvPr/>
        </p:nvSpPr>
        <p:spPr>
          <a:xfrm rot="309600">
            <a:off x="3944880" y="5553000"/>
            <a:ext cx="2106720" cy="21351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正五边形 7"/>
          <p:cNvSpPr/>
          <p:nvPr/>
        </p:nvSpPr>
        <p:spPr>
          <a:xfrm rot="1856400">
            <a:off x="5951160" y="2085480"/>
            <a:ext cx="6340320" cy="6237360"/>
          </a:xfrm>
          <a:prstGeom prst="pentagon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340080" y="2060280"/>
            <a:ext cx="5435280" cy="3105360"/>
            <a:chOff x="3340080" y="2060280"/>
            <a:chExt cx="5435280" cy="3105360"/>
          </a:xfrm>
        </p:grpSpPr>
        <p:sp>
          <p:nvSpPr>
            <p:cNvPr id="183" name=""/>
            <p:cNvSpPr/>
            <p:nvPr/>
          </p:nvSpPr>
          <p:spPr>
            <a:xfrm rot="16200000">
              <a:off x="3082320" y="2317680"/>
              <a:ext cx="3105000" cy="2589840"/>
            </a:xfrm>
            <a:prstGeom prst="upArrow">
              <a:avLst>
                <a:gd name="adj1" fmla="val 50000"/>
                <a:gd name="adj2" fmla="val 34968"/>
              </a:avLst>
            </a:prstGeom>
            <a:solidFill>
              <a:srgbClr val="00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92600" y="2836800"/>
              <a:ext cx="2136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0320" rIns="220320" tIns="220320" bIns="22032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929200" y="2319120"/>
              <a:ext cx="3105000" cy="2587320"/>
            </a:xfrm>
            <a:prstGeom prst="upArrow">
              <a:avLst>
                <a:gd name="adj1" fmla="val 50000"/>
                <a:gd name="adj2" fmla="val 3499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400" y="2836800"/>
              <a:ext cx="213444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0320" rIns="220320" tIns="220320" bIns="22032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"/>
          <p:cNvGrpSpPr/>
          <p:nvPr/>
        </p:nvGrpSpPr>
        <p:grpSpPr>
          <a:xfrm>
            <a:off x="398520" y="249120"/>
            <a:ext cx="795240" cy="782640"/>
            <a:chOff x="398520" y="249120"/>
            <a:chExt cx="795240" cy="782640"/>
          </a:xfrm>
        </p:grpSpPr>
        <p:sp>
          <p:nvSpPr>
            <p:cNvPr id="188" name="正五边形 3"/>
            <p:cNvSpPr/>
            <p:nvPr/>
          </p:nvSpPr>
          <p:spPr>
            <a:xfrm>
              <a:off x="398520" y="249120"/>
              <a:ext cx="795240" cy="782640"/>
            </a:xfrm>
            <a:prstGeom prst="pentag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正五边形 4"/>
            <p:cNvSpPr/>
            <p:nvPr/>
          </p:nvSpPr>
          <p:spPr>
            <a:xfrm>
              <a:off x="452880" y="302760"/>
              <a:ext cx="686160" cy="675360"/>
            </a:xfrm>
            <a:prstGeom prst="pentagon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5"/>
          <p:cNvSpPr/>
          <p:nvPr/>
        </p:nvSpPr>
        <p:spPr>
          <a:xfrm>
            <a:off x="1389240" y="378000"/>
            <a:ext cx="46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22720" y="272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"/>
          <p:cNvSpPr/>
          <p:nvPr/>
        </p:nvSpPr>
        <p:spPr>
          <a:xfrm>
            <a:off x="483120" y="3206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9152280" y="3206880"/>
            <a:ext cx="2613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YOUR TEX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11:01:00Z</dcterms:created>
  <dc:creator/>
  <dc:description/>
  <cp:keywords>幻灯片之家 http:/www.eeppt.com</cp:keywords>
  <dc:language>en-US</dc:language>
  <cp:lastModifiedBy/>
  <dcterms:modified xsi:type="dcterms:W3CDTF">2015-07-06T12:58:30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