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D9C-623F-425C-8E38-F402842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656-D22E-4FE4-A101-2DFAEB1D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A3F-9E28-459D-A82F-9D8BE824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771-F24E-4871-A6FC-54DB5178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DED-98CD-4181-B99B-6103E1DE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9D1-F29F-4509-B748-BB76D54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45B-C6BC-44E5-8DAB-78E9C95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3BD-5A74-4BAA-95A8-75740CD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D82-E07C-49A3-A556-0C0ED22F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77E-0046-4015-9089-152F932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6D4-5DBF-4CFF-B17C-074B27B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FD1-E77A-41F9-9AD2-AD44172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182-0246-46A6-B603-BC0CD6C3BA8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4" descr=""/>
          <p:cNvPicPr/>
          <p:nvPr/>
        </p:nvPicPr>
        <p:blipFill>
          <a:blip r:embed="rId1"/>
          <a:stretch/>
        </p:blipFill>
        <p:spPr>
          <a:xfrm>
            <a:off x="3780000" y="4194000"/>
            <a:ext cx="3382920" cy="8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2240" y="1052640"/>
            <a:ext cx="25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绿色蝈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课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蝈蝈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蝈蝈图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蝗虫8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蝗虫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19280" y="1916280"/>
            <a:ext cx="496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255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再见</a:t>
            </a:r>
            <a:endParaRPr b="0" lang="en-US" sz="4400" spc="1" strike="noStrike">
              <a:ln cap="rnd" w="255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304920"/>
            <a:ext cx="86868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一、法布尔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昆虫记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荒石园。年复一年，他守着心爱的荒园，开足生命的马力，不知疲倦地从事独具特色的昆虫学研究，把劳动成果写进一卷又一卷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他就是这样，孤独、欢欣、清苦、平静地度过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主体内容集中在昆虫学问题上，同时收入一些讲述经历、回忆往事的传记性文章，若干解决理论问题的议论，以及少量带科普知识性的文字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法布尔在全十卷精装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的一天，这位以昆虫为琴拨响人类命运颤音的巨人逝世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838080" y="134136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43000" y="2865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9"/>
          <p:cNvSpPr/>
          <p:nvPr/>
        </p:nvSpPr>
        <p:spPr>
          <a:xfrm>
            <a:off x="5219640" y="1844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7" name="Picture 4" descr="蝈蝈图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蝗虫2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蝗虫5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09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9B9-E997-4A66-B93B-568C4FBCF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/>
  <dc:description/>
  <cp:keywords>幻灯片之家 http:/www.eeppt.com</cp:keywords>
  <dc:language>en-US</dc:language>
  <cp:lastModifiedBy/>
  <cp:lastPrinted>1900-01-01T05:48:54Z</cp:lastPrinted>
  <dcterms:modified xsi:type="dcterms:W3CDTF">2015-07-11T02:39:01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