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FC3-26CF-4225-8092-CCF23A5B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66C-2688-4018-BCC7-626FCFEA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A62-741C-484F-A0B2-650EE046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746-8766-4498-8DE2-5F2FDC6F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5B6-90B2-490E-8BCC-09856C03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167-1033-40F9-A956-9E35070E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29C-C3F4-462E-B82C-6E123F9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211-DABF-406A-9322-4846E71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713-8517-45DC-900D-3A6E63D9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00B-AF67-49AA-8AE4-F1CCDF3B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5B5-B96D-4467-AA1F-ED21AAFF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BF4-7AF9-4EC8-9390-39E13D6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995C-595F-44D7-BE1E-0C33B0262F7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429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40280" y="299736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蓝天白云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399-5340-46B2-A6DC-27DDA8E70C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6:00:22Z</dcterms:created>
  <dc:creator/>
  <dc:description/>
  <cp:keywords>幻灯片之家 http:/www.eeppt.com</cp:keywords>
  <dc:language>en-US</dc:language>
  <cp:lastModifiedBy/>
  <dcterms:modified xsi:type="dcterms:W3CDTF">2015-07-12T09:48:0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