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05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672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044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05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672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4678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005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72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044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005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72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8080" y="990360"/>
            <a:ext cx="74678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572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440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572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0440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37960"/>
            <a:ext cx="9144000" cy="1175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0043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1ab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38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38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191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aba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438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438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43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43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43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9999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7304040" y="65404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4041720"/>
          </a:xfrm>
          <a:prstGeom prst="rect">
            <a:avLst/>
          </a:prstGeom>
          <a:gradFill rotWithShape="0">
            <a:gsLst>
              <a:gs pos="0">
                <a:srgbClr val="004386"/>
              </a:gs>
              <a:gs pos="100000">
                <a:srgbClr val="001e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4680" y="1936800"/>
            <a:ext cx="9148680" cy="2744640"/>
          </a:xfrm>
          <a:custGeom>
            <a:avLst/>
            <a:gdLst/>
            <a:ahLst/>
            <a:rect l="l" t="t" r="r" b="b"/>
            <a:pathLst>
              <a:path w="5763" h="1729">
                <a:moveTo>
                  <a:pt x="3" y="563"/>
                </a:moveTo>
                <a:cubicBezTo>
                  <a:pt x="725" y="326"/>
                  <a:pt x="1498" y="14"/>
                  <a:pt x="2890" y="7"/>
                </a:cubicBezTo>
                <a:cubicBezTo>
                  <a:pt x="4282" y="0"/>
                  <a:pt x="5342" y="355"/>
                  <a:pt x="5763" y="583"/>
                </a:cubicBezTo>
                <a:lnTo>
                  <a:pt x="5760" y="1729"/>
                </a:lnTo>
                <a:lnTo>
                  <a:pt x="0" y="1729"/>
                </a:lnTo>
                <a:lnTo>
                  <a:pt x="3" y="563"/>
                </a:lnTo>
                <a:close/>
              </a:path>
            </a:pathLst>
          </a:custGeom>
          <a:gradFill rotWithShape="0">
            <a:gsLst>
              <a:gs pos="0">
                <a:srgbClr val="3d70a2"/>
              </a:gs>
              <a:gs pos="50000">
                <a:srgbClr val="004386"/>
              </a:gs>
              <a:gs pos="100000">
                <a:srgbClr val="3d70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1aba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1aba81"/>
              </a:gs>
              <a:gs pos="100000">
                <a:srgbClr val="0b55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1160" y="2060640"/>
            <a:ext cx="9155160" cy="2765520"/>
          </a:xfrm>
          <a:custGeom>
            <a:avLst/>
            <a:gdLst/>
            <a:ahLst/>
            <a:rect l="l" t="t" r="r" b="b"/>
            <a:pathLst>
              <a:path w="5767" h="1644">
                <a:moveTo>
                  <a:pt x="0" y="569"/>
                </a:moveTo>
                <a:cubicBezTo>
                  <a:pt x="722" y="332"/>
                  <a:pt x="1460" y="42"/>
                  <a:pt x="2818" y="21"/>
                </a:cubicBezTo>
                <a:cubicBezTo>
                  <a:pt x="4176" y="0"/>
                  <a:pt x="5346" y="355"/>
                  <a:pt x="5767" y="583"/>
                </a:cubicBezTo>
                <a:lnTo>
                  <a:pt x="5764" y="1644"/>
                </a:lnTo>
                <a:lnTo>
                  <a:pt x="4" y="1644"/>
                </a:lnTo>
                <a:lnTo>
                  <a:pt x="0" y="56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38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438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38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38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438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438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43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438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38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免费下载国外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0440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 flipH="1" flipV="1" rot="621000">
            <a:off x="7234920" y="1197000"/>
            <a:ext cx="1017360" cy="12232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191f1"/>
              </a:gs>
              <a:gs pos="100000">
                <a:srgbClr val="1aba81"/>
              </a:gs>
            </a:gsLst>
            <a:lin ang="47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15168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5608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73440" y="32814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32814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127520" y="1711080"/>
            <a:ext cx="6215400" cy="1324080"/>
            <a:chOff x="1127520" y="1711080"/>
            <a:chExt cx="6215400" cy="1324080"/>
          </a:xfrm>
        </p:grpSpPr>
        <p:sp>
          <p:nvSpPr>
            <p:cNvPr id="336" name=""/>
            <p:cNvSpPr/>
            <p:nvPr/>
          </p:nvSpPr>
          <p:spPr>
            <a:xfrm rot="3418800">
              <a:off x="133560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3191f1"/>
                </a:gs>
                <a:gs pos="100000">
                  <a:srgbClr val="16426f"/>
                </a:gs>
              </a:gsLst>
              <a:lin ang="198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258280" y="2092320"/>
              <a:ext cx="901080" cy="124200"/>
              <a:chOff x="2258280" y="2092320"/>
              <a:chExt cx="901080" cy="124200"/>
            </a:xfrm>
          </p:grpSpPr>
          <p:sp>
            <p:nvSpPr>
              <p:cNvPr id="338" name=""/>
              <p:cNvSpPr/>
              <p:nvPr/>
            </p:nvSpPr>
            <p:spPr>
              <a:xfrm>
                <a:off x="225828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44680" y="20930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2292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9600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rot="3418800">
              <a:off x="3000240" y="1856160"/>
              <a:ext cx="873720" cy="970920"/>
            </a:xfrm>
            <a:prstGeom prst="rect">
              <a:avLst/>
            </a:prstGeom>
            <a:solidFill>
              <a:srgbClr val="004386"/>
            </a:soli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922920" y="2092320"/>
              <a:ext cx="901080" cy="124200"/>
              <a:chOff x="3922920" y="2092320"/>
              <a:chExt cx="901080" cy="124200"/>
            </a:xfrm>
          </p:grpSpPr>
          <p:sp>
            <p:nvSpPr>
              <p:cNvPr id="344" name=""/>
              <p:cNvSpPr/>
              <p:nvPr/>
            </p:nvSpPr>
            <p:spPr>
              <a:xfrm>
                <a:off x="39229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009320" y="20930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68756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76064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rot="3418800">
              <a:off x="4595760" y="1856160"/>
              <a:ext cx="873720" cy="971280"/>
            </a:xfrm>
            <a:prstGeom prst="rect">
              <a:avLst/>
            </a:prstGeom>
            <a:gradFill rotWithShape="0">
              <a:gsLst>
                <a:gs pos="0">
                  <a:srgbClr val="3191f1"/>
                </a:gs>
                <a:gs pos="100000">
                  <a:srgbClr val="16426f"/>
                </a:gs>
              </a:gsLst>
              <a:lin ang="1980000"/>
            </a:gra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587560" y="2092320"/>
              <a:ext cx="1178640" cy="124200"/>
              <a:chOff x="5587560" y="2092320"/>
              <a:chExt cx="1178640" cy="124200"/>
            </a:xfrm>
          </p:grpSpPr>
          <p:sp>
            <p:nvSpPr>
              <p:cNvPr id="350" name=""/>
              <p:cNvSpPr/>
              <p:nvPr/>
            </p:nvSpPr>
            <p:spPr>
              <a:xfrm>
                <a:off x="558756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00600" y="20930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764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68304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3418800">
              <a:off x="6260400" y="1856160"/>
              <a:ext cx="873720" cy="971280"/>
            </a:xfrm>
            <a:prstGeom prst="rect">
              <a:avLst/>
            </a:prstGeom>
            <a:solidFill>
              <a:srgbClr val="004386"/>
            </a:solidFill>
            <a:ln w="93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4425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381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432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7956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490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4280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380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3364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90720" y="2122560"/>
          <a:ext cx="7315200" cy="3200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515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3191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/>
                    </a:solidFill>
                  </a:tcPr>
                </a:tc>
              </a:tr>
              <a:tr h="33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Your Title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1aba81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 Text</a:t>
                      </a:r>
                      <a:endParaRPr b="0" lang="en-US" sz="1400" spc="-1" strike="noStrike">
                        <a:solidFill>
                          <a:srgbClr val="00438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4386"/>
                      </a:solidFill>
                    </a:lnL>
                    <a:lnR w="5760">
                      <a:solidFill>
                        <a:srgbClr val="004386"/>
                      </a:solidFill>
                    </a:lnR>
                    <a:lnT w="5760">
                      <a:solidFill>
                        <a:srgbClr val="004386"/>
                      </a:solidFill>
                    </a:lnT>
                    <a:lnB w="5760">
                      <a:solidFill>
                        <a:srgbClr val="004386"/>
                      </a:solidFill>
                    </a:lnB>
                    <a:solidFill>
                      <a:srgbClr val="004386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548720" y="1022760"/>
            <a:ext cx="5481000" cy="5149080"/>
            <a:chOff x="1548720" y="1022760"/>
            <a:chExt cx="5481000" cy="5149080"/>
          </a:xfrm>
        </p:grpSpPr>
        <p:sp>
          <p:nvSpPr>
            <p:cNvPr id="367" name=""/>
            <p:cNvSpPr/>
            <p:nvPr/>
          </p:nvSpPr>
          <p:spPr>
            <a:xfrm rot="20805000">
              <a:off x="4516200" y="275616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4386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61200">
              <a:off x="2722320" y="230652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bdeff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4128200">
              <a:off x="4570920" y="77832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548720" y="1527840"/>
              <a:ext cx="5481000" cy="4644000"/>
              <a:chOff x="1548720" y="1527840"/>
              <a:chExt cx="5481000" cy="4644000"/>
            </a:xfrm>
          </p:grpSpPr>
          <p:sp>
            <p:nvSpPr>
              <p:cNvPr id="371" name=""/>
              <p:cNvSpPr/>
              <p:nvPr/>
            </p:nvSpPr>
            <p:spPr>
              <a:xfrm>
                <a:off x="4318560" y="285588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6256200">
                <a:off x="2722320" y="215532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4922600">
                <a:off x="4700160" y="100728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8aeeca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3808440" y="2819520"/>
              <a:ext cx="1339560" cy="1338120"/>
              <a:chOff x="3808440" y="2819520"/>
              <a:chExt cx="1339560" cy="1338120"/>
            </a:xfrm>
          </p:grpSpPr>
          <p:sp>
            <p:nvSpPr>
              <p:cNvPr id="375" name=""/>
              <p:cNvSpPr/>
              <p:nvPr/>
            </p:nvSpPr>
            <p:spPr>
              <a:xfrm>
                <a:off x="3808440" y="281952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61440" y="284148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003920" y="331020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88920" y="3009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84640" y="218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419280" y="4732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386"/>
              </a:gs>
              <a:gs pos="50000">
                <a:srgbClr val="5a85b0"/>
              </a:gs>
              <a:gs pos="100000">
                <a:srgbClr val="00438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386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a800"/>
                    </a:gs>
                    <a:gs pos="100000">
                      <a:srgbClr val="906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a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393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394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3191f1"/>
                  </a:gs>
                  <a:gs pos="100000">
                    <a:srgbClr val="194a7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191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399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400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aba81"/>
                  </a:gs>
                  <a:gs pos="100000">
                    <a:srgbClr val="0d5f4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aba8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405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100000">
                      <a:srgbClr val="1f282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3a6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438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981080" y="3200400"/>
            <a:ext cx="53848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191f1"/>
                    </a:gs>
                    <a:gs pos="100000">
                      <a:srgbClr val="004386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191f1"/>
                  </a:gs>
                  <a:gs pos="100000">
                    <a:srgbClr val="004386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76440" y="487692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ba8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4114800"/>
            <a:ext cx="441972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1f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2920" y="335268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ba8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2920" y="259092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191f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2920" y="1820880"/>
            <a:ext cx="4419360" cy="5079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ba81"/>
              </a:gs>
              <a:gs pos="100000">
                <a:srgbClr val="fefefe"/>
              </a:gs>
            </a:gsLst>
            <a:lin ang="1080000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65400" y="1909800"/>
            <a:ext cx="380880" cy="380880"/>
            <a:chOff x="2165400" y="1909800"/>
            <a:chExt cx="380880" cy="380880"/>
          </a:xfrm>
        </p:grpSpPr>
        <p:sp>
          <p:nvSpPr>
            <p:cNvPr id="99" name=""/>
            <p:cNvSpPr/>
            <p:nvPr/>
          </p:nvSpPr>
          <p:spPr>
            <a:xfrm>
              <a:off x="216540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8700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680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680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2624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624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78000" y="2697120"/>
            <a:ext cx="380880" cy="380880"/>
            <a:chOff x="2178000" y="2697120"/>
            <a:chExt cx="380880" cy="380880"/>
          </a:xfrm>
        </p:grpSpPr>
        <p:sp>
          <p:nvSpPr>
            <p:cNvPr id="106" name=""/>
            <p:cNvSpPr/>
            <p:nvPr/>
          </p:nvSpPr>
          <p:spPr>
            <a:xfrm>
              <a:off x="2178000" y="26971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9600" y="27183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19400" y="27385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19400" y="273852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38840" y="27579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8840" y="275796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178000" y="3429000"/>
            <a:ext cx="380880" cy="380880"/>
            <a:chOff x="2178000" y="3429000"/>
            <a:chExt cx="380880" cy="380880"/>
          </a:xfrm>
        </p:grpSpPr>
        <p:sp>
          <p:nvSpPr>
            <p:cNvPr id="113" name=""/>
            <p:cNvSpPr/>
            <p:nvPr/>
          </p:nvSpPr>
          <p:spPr>
            <a:xfrm>
              <a:off x="2178000" y="3429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9600" y="3450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1940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19400" y="3470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884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8840" y="34898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178000" y="4216320"/>
            <a:ext cx="380880" cy="381240"/>
            <a:chOff x="2178000" y="4216320"/>
            <a:chExt cx="380880" cy="381240"/>
          </a:xfrm>
        </p:grpSpPr>
        <p:sp>
          <p:nvSpPr>
            <p:cNvPr id="120" name=""/>
            <p:cNvSpPr/>
            <p:nvPr/>
          </p:nvSpPr>
          <p:spPr>
            <a:xfrm>
              <a:off x="2178000" y="421632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9600" y="423756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9400" y="42577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19400" y="425772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38840" y="42771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38840" y="427716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78000" y="4925880"/>
            <a:ext cx="355680" cy="381240"/>
            <a:chOff x="2178000" y="4925880"/>
            <a:chExt cx="355680" cy="381240"/>
          </a:xfrm>
        </p:grpSpPr>
        <p:sp>
          <p:nvSpPr>
            <p:cNvPr id="127" name=""/>
            <p:cNvSpPr/>
            <p:nvPr/>
          </p:nvSpPr>
          <p:spPr>
            <a:xfrm>
              <a:off x="2178000" y="4925880"/>
              <a:ext cx="3556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8160" y="4947120"/>
              <a:ext cx="31500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16520" y="49672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191f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6520" y="4967280"/>
              <a:ext cx="277920" cy="2984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34880" y="498672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1a4e81"/>
                </a:gs>
                <a:gs pos="50000">
                  <a:srgbClr val="3191f1"/>
                </a:gs>
                <a:gs pos="100000">
                  <a:srgbClr val="1a4e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34880" y="4986720"/>
              <a:ext cx="241560" cy="25920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5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191f1"/>
                </a:gs>
                <a:gs pos="100000">
                  <a:srgbClr val="10315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aba81"/>
                </a:gs>
                <a:gs pos="100000">
                  <a:srgbClr val="083a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4a800"/>
                </a:gs>
                <a:gs pos="100000">
                  <a:srgbClr val="513b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100000">
                  <a:srgbClr val="2d39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438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43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4386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b553b"/>
                </a:gs>
                <a:gs pos="50000">
                  <a:srgbClr val="1aba81"/>
                </a:gs>
                <a:gs pos="100000">
                  <a:srgbClr val="0b55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8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191f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1a4e81"/>
                  </a:gs>
                  <a:gs pos="50000">
                    <a:srgbClr val="3191f1"/>
                  </a:gs>
                  <a:gs pos="100000">
                    <a:srgbClr val="1a4e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43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8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9948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9948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9948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974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43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438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94d00"/>
                </a:gs>
                <a:gs pos="50000">
                  <a:srgbClr val="e4a800"/>
                </a:gs>
                <a:gs pos="100000">
                  <a:srgbClr val="694d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4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6426f"/>
                </a:gs>
                <a:gs pos="50000">
                  <a:srgbClr val="3191f1"/>
                </a:gs>
                <a:gs pos="100000">
                  <a:srgbClr val="1642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c4c4c"/>
                </a:gs>
                <a:gs pos="50000">
                  <a:srgbClr val="83a6a7"/>
                </a:gs>
                <a:gs pos="100000">
                  <a:srgbClr val="3c4c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a47900"/>
                </a:gs>
                <a:gs pos="50000">
                  <a:srgbClr val="e4a800"/>
                </a:gs>
                <a:gs pos="100000">
                  <a:srgbClr val="a479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368ae"/>
                </a:gs>
                <a:gs pos="50000">
                  <a:srgbClr val="3191f1"/>
                </a:gs>
                <a:gs pos="100000">
                  <a:srgbClr val="2368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83a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5e7778"/>
                </a:gs>
                <a:gs pos="50000">
                  <a:srgbClr val="83a6a7"/>
                </a:gs>
                <a:gs pos="100000">
                  <a:srgbClr val="5e77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231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00264c"/>
                </a:gs>
                <a:gs pos="100000">
                  <a:srgbClr val="004386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004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386"/>
                </a:gs>
                <a:gs pos="100000">
                  <a:srgbClr val="b8ca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9bfd5"/>
                </a:gs>
                <a:gs pos="100000">
                  <a:srgbClr val="00438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4386"/>
                </a:gs>
                <a:gs pos="100000">
                  <a:srgbClr val="7397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239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c4c4c"/>
                </a:gs>
                <a:gs pos="100000">
                  <a:srgbClr val="83a6a7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242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83a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3a6a7"/>
                  </a:gs>
                  <a:gs pos="100000">
                    <a:srgbClr val="c9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d8d8"/>
                  </a:gs>
                  <a:gs pos="100000">
                    <a:srgbClr val="83a6a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3a6a7"/>
                </a:gs>
                <a:gs pos="100000">
                  <a:srgbClr val="bed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248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1d5791"/>
                </a:gs>
                <a:gs pos="100000">
                  <a:srgbClr val="3191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250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19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191f1"/>
                  </a:gs>
                  <a:gs pos="100000">
                    <a:srgbClr val="8ec2f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9d9f9"/>
                  </a:gs>
                  <a:gs pos="100000">
                    <a:srgbClr val="3191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438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91f1"/>
                </a:gs>
                <a:gs pos="100000">
                  <a:srgbClr val="a7cf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191f1"/>
              </a:gs>
              <a:gs pos="100000">
                <a:srgbClr val="00438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267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437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567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283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86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93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01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15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20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4386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438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191f1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4386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438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9:38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