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0FC6-6DFC-42EC-B063-462256C4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F8A8-FC05-4F18-9792-5DA1DF83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3A1-0C73-4542-B544-ADB385B4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5C1-BC28-4664-80A2-632BDB92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E40-0D34-4BB3-937A-8FA191CC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987-6AB8-42C1-8698-917A584C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450-EE4D-4DAF-8F9E-BA651DD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889-2DDB-414D-84A8-6E29E45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BEC-B25D-41E3-81BE-FBF9FC94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596-D9E0-4DFE-A0A2-899331B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4A0-9075-4EB1-B057-CDEFD3C3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ED1-7250-4F7F-87B0-E4F9500B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C585-CA58-4BBE-925D-6E5845349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jier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jieri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4" descr="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48360" y="6453360"/>
            <a:ext cx="21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451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280" y="1125360"/>
            <a:ext cx="18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【母亲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1.png"/>
          <p:cNvPicPr/>
          <p:nvPr/>
        </p:nvPicPr>
        <p:blipFill>
          <a:blip r:embed="rId2"/>
          <a:srcRect l="18705" t="7777" r="19908" b="12344"/>
          <a:stretch/>
        </p:blipFill>
        <p:spPr>
          <a:xfrm>
            <a:off x="1692360" y="614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2.png"/>
          <p:cNvPicPr/>
          <p:nvPr/>
        </p:nvPicPr>
        <p:blipFill>
          <a:blip r:embed="rId3"/>
          <a:srcRect l="26668" t="17035" r="27129" b="21110"/>
          <a:stretch/>
        </p:blipFill>
        <p:spPr>
          <a:xfrm>
            <a:off x="2411280" y="1197000"/>
            <a:ext cx="42246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ext"/>
          <p:cNvPicPr/>
          <p:nvPr/>
        </p:nvPicPr>
        <p:blipFill>
          <a:blip r:embed="rId4"/>
          <a:stretch/>
        </p:blipFill>
        <p:spPr>
          <a:xfrm>
            <a:off x="3397320" y="2284560"/>
            <a:ext cx="2325600" cy="22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699">
                                      <p:cBhvr>
                                        <p:cTn id="12" dur="2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C26-FDB8-41EA-AE9A-609B015A74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2998080" y="3259080"/>
            <a:ext cx="31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8:23Z</dcterms:created>
  <dc:creator/>
  <dc:description/>
  <cp:keywords>幻灯片之家 http:/www.eeppt.com</cp:keywords>
  <dc:language>en-US</dc:language>
  <cp:lastModifiedBy/>
  <dcterms:modified xsi:type="dcterms:W3CDTF">2015-07-09T03:22:1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