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330D6-9BAE-4B96-9BAB-5445DC6B3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1CEB-03E5-48DA-BD06-64DBB81E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4041-C903-4645-B143-1E294C84D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958-8BF3-46FA-8E91-0D187BEC6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6EF-F531-4D32-B1A1-362A5DA0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14EE-F08D-4314-A1DB-25AB3C2F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F1D6-61FE-429D-B0A0-D7F36E7F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C13-7E53-4A7E-B833-5FB746E94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ED46-AC92-4B72-B566-E501B98C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FC02-3406-449A-B790-61ACE233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88F-37F9-4DF1-BACA-7BB2DE2A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0AC-4CAB-45C1-B13F-E7D930F8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89641-21F1-4068-B624-E237AA155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4437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2720" y="3429000"/>
            <a:ext cx="3959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欧式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BD4-97C1-41BF-A1EA-0175A08853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4T04:36:58Z</dcterms:created>
  <dc:creator/>
  <dc:description/>
  <cp:keywords>幻灯片之家 http:/www.eeppt.com</cp:keywords>
  <dc:language>en-US</dc:language>
  <cp:lastModifiedBy/>
  <dcterms:modified xsi:type="dcterms:W3CDTF">2015-07-12T08:14:29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