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1038-54FB-49CB-8A5F-AA6637E7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6BC-32B3-49BF-8BE8-2BCF5D90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97E5-C4D8-41E5-A671-858EB084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252-1739-4C27-BDDF-26FF03C8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2C39-4F71-475A-9217-AB1FAB62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73C-9F4C-409C-9614-7AF6F243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590-5D12-45CE-9531-B1FD5B04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CE9-7C4C-42F9-A1EE-DDD9FFAB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627-A90E-4043-88F1-7725E35D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D45-D485-4F20-830C-64C99A9B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1C9-2AB3-494B-ACC8-157DA163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89D5-D6D3-4F8C-857B-21980D44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940B-5223-46FC-BDB9-507471C7D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5448240"/>
            <a:ext cx="2933640" cy="140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03280" y="1557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人教新课标 六年级 语文  上册  第七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05400" y="2781360"/>
            <a:ext cx="384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跑进家来的松鼠课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16000" y="836640"/>
            <a:ext cx="712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爸爸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哈哈大笑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说：“我怎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没想到这一点呢！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咱们家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的松鼠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在储备冬粮呢。森林里的松鼠到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秋天，就要开始储备冬粮。这是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鼠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天性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咱们的松鼠自然也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不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落后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28000" y="6165720"/>
            <a:ext cx="466560" cy="322560"/>
          </a:xfrm>
          <a:custGeom>
            <a:avLst/>
            <a:gdLst>
              <a:gd name="textAreaLeft" fmla="*/ 20160 w 466560"/>
              <a:gd name="textAreaRight" fmla="*/ 446400 w 466560"/>
              <a:gd name="textAreaTop" fmla="*/ 20160 h 322560"/>
              <a:gd name="textAreaBottom" fmla="*/ 302400 h 322560"/>
            </a:gdLst>
            <a:ahLst/>
            <a:rect l="textAreaLeft" t="textAreaTop" r="textAreaRight" b="textAreaBottom"/>
            <a:pathLst>
              <a:path w="31232" h="21600">
                <a:moveTo>
                  <a:pt x="0" y="0"/>
                </a:moveTo>
                <a:lnTo>
                  <a:pt x="31232" y="0"/>
                </a:lnTo>
                <a:lnTo>
                  <a:pt x="31232" y="21600"/>
                </a:lnTo>
                <a:lnTo>
                  <a:pt x="0" y="21600"/>
                </a:lnTo>
                <a:close/>
              </a:path>
              <a:path fill="lightenLess" w="31232" h="21600">
                <a:moveTo>
                  <a:pt x="0" y="0"/>
                </a:moveTo>
                <a:lnTo>
                  <a:pt x="31232" y="0"/>
                </a:lnTo>
                <a:lnTo>
                  <a:pt x="29882" y="1350"/>
                </a:lnTo>
                <a:lnTo>
                  <a:pt x="1350" y="1350"/>
                </a:lnTo>
                <a:close/>
              </a:path>
              <a:path fill="darken" w="31232" h="21600">
                <a:moveTo>
                  <a:pt x="31232" y="0"/>
                </a:moveTo>
                <a:lnTo>
                  <a:pt x="31232" y="21600"/>
                </a:lnTo>
                <a:lnTo>
                  <a:pt x="29882" y="20250"/>
                </a:lnTo>
                <a:lnTo>
                  <a:pt x="29882" y="1350"/>
                </a:lnTo>
                <a:close/>
              </a:path>
              <a:path fill="darkenLess" w="31232" h="21600">
                <a:moveTo>
                  <a:pt x="3123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882" y="20250"/>
                </a:lnTo>
                <a:close/>
              </a:path>
              <a:path fill="lighten" w="3123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232" h="21600">
                <a:moveTo>
                  <a:pt x="8572" y="10800"/>
                </a:moveTo>
                <a:lnTo>
                  <a:pt x="22660" y="3756"/>
                </a:lnTo>
                <a:lnTo>
                  <a:pt x="22660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1773360"/>
            <a:ext cx="7058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有一天，它干脆失踪了，哪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也找不到。也许它跑到花园或森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里去了吧？我们心里空落落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42920" y="1773360"/>
            <a:ext cx="7058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有一天，它干脆失踪了，哪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也找不到。也许它跑到花园或森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里去了吧？我们心里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空落落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44000" y="6308640"/>
            <a:ext cx="395280" cy="250920"/>
          </a:xfrm>
          <a:custGeom>
            <a:avLst/>
            <a:gdLst>
              <a:gd name="textAreaLeft" fmla="*/ 15480 w 395280"/>
              <a:gd name="textAreaRight" fmla="*/ 379800 w 395280"/>
              <a:gd name="textAreaTop" fmla="*/ 15480 h 250920"/>
              <a:gd name="textAreaBottom" fmla="*/ 235440 h 250920"/>
            </a:gdLst>
            <a:ahLst/>
            <a:rect l="textAreaLeft" t="textAreaTop" r="textAreaRight" b="textAreaBottom"/>
            <a:pathLst>
              <a:path w="34009" h="21600">
                <a:moveTo>
                  <a:pt x="0" y="0"/>
                </a:moveTo>
                <a:lnTo>
                  <a:pt x="34009" y="0"/>
                </a:lnTo>
                <a:lnTo>
                  <a:pt x="34009" y="21600"/>
                </a:lnTo>
                <a:lnTo>
                  <a:pt x="0" y="21600"/>
                </a:lnTo>
                <a:close/>
              </a:path>
              <a:path fill="lightenLess" w="34009" h="21600">
                <a:moveTo>
                  <a:pt x="0" y="0"/>
                </a:moveTo>
                <a:lnTo>
                  <a:pt x="34009" y="0"/>
                </a:lnTo>
                <a:lnTo>
                  <a:pt x="32659" y="1350"/>
                </a:lnTo>
                <a:lnTo>
                  <a:pt x="1350" y="1350"/>
                </a:lnTo>
                <a:close/>
              </a:path>
              <a:path fill="darken" w="34009" h="21600">
                <a:moveTo>
                  <a:pt x="34009" y="0"/>
                </a:moveTo>
                <a:lnTo>
                  <a:pt x="34009" y="21600"/>
                </a:lnTo>
                <a:lnTo>
                  <a:pt x="32659" y="20250"/>
                </a:lnTo>
                <a:lnTo>
                  <a:pt x="32659" y="1350"/>
                </a:lnTo>
                <a:close/>
              </a:path>
              <a:path fill="darkenLess" w="34009" h="21600">
                <a:moveTo>
                  <a:pt x="340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2659" y="20250"/>
                </a:lnTo>
                <a:close/>
              </a:path>
              <a:path fill="lighten" w="340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009" h="21600">
                <a:moveTo>
                  <a:pt x="9961" y="10800"/>
                </a:moveTo>
                <a:lnTo>
                  <a:pt x="24048" y="3756"/>
                </a:lnTo>
                <a:lnTo>
                  <a:pt x="24048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7F3-8849-40CB-A9CC-64FAF50FF0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26920" y="54936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907920"/>
            <a:ext cx="7704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它整天满屋乱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跑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在橱柜和架子上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跳来跳去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动作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灵活得惊人，从来没有碰掉过一样东西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有时，松鼠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跳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到我的肩上，用小嘴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蹭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我的脸，还轻轻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咬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我的耳朵，我想它是又想吃糖了。可我又上哪儿给它找去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爸爸哈哈大笑，说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我怎么没想到这一点呢！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咱们家的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松鼠是在储备冬粮呢。森林里的松鼠到了秋天，就要开始储备冬粮。这是松鼠的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天性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咱们的松鼠也自然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不甘落后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有一天，它干脆失踪了，哪儿也找不到。也许它跑到花园或森林里去了吧？我们心里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空落落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28000" y="6237360"/>
            <a:ext cx="395280" cy="322200"/>
          </a:xfrm>
          <a:custGeom>
            <a:avLst/>
            <a:gdLst>
              <a:gd name="textAreaLeft" fmla="*/ 20160 w 395280"/>
              <a:gd name="textAreaRight" fmla="*/ 375480 w 395280"/>
              <a:gd name="textAreaTop" fmla="*/ 20160 h 322200"/>
              <a:gd name="textAreaBottom" fmla="*/ 302400 h 322200"/>
            </a:gdLst>
            <a:ahLst/>
            <a:rect l="textAreaLeft" t="textAreaTop" r="textAreaRight" b="textAreaBottom"/>
            <a:pathLst>
              <a:path w="26494" h="21600">
                <a:moveTo>
                  <a:pt x="0" y="0"/>
                </a:moveTo>
                <a:lnTo>
                  <a:pt x="26494" y="0"/>
                </a:lnTo>
                <a:lnTo>
                  <a:pt x="26494" y="21600"/>
                </a:lnTo>
                <a:lnTo>
                  <a:pt x="0" y="21600"/>
                </a:lnTo>
                <a:close/>
              </a:path>
              <a:path fill="lightenLess" w="26494" h="21600">
                <a:moveTo>
                  <a:pt x="0" y="0"/>
                </a:moveTo>
                <a:lnTo>
                  <a:pt x="26494" y="0"/>
                </a:lnTo>
                <a:lnTo>
                  <a:pt x="25144" y="1350"/>
                </a:lnTo>
                <a:lnTo>
                  <a:pt x="1350" y="1350"/>
                </a:lnTo>
                <a:close/>
              </a:path>
              <a:path fill="darken" w="26494" h="21600">
                <a:moveTo>
                  <a:pt x="26494" y="0"/>
                </a:moveTo>
                <a:lnTo>
                  <a:pt x="26494" y="21600"/>
                </a:lnTo>
                <a:lnTo>
                  <a:pt x="25144" y="20250"/>
                </a:lnTo>
                <a:lnTo>
                  <a:pt x="25144" y="1350"/>
                </a:lnTo>
                <a:close/>
              </a:path>
              <a:path fill="darkenLess" w="26494" h="21600">
                <a:moveTo>
                  <a:pt x="264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144" y="20250"/>
                </a:lnTo>
                <a:close/>
              </a:path>
              <a:path fill="lighten" w="264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494" h="21600">
                <a:moveTo>
                  <a:pt x="6203" y="10800"/>
                </a:moveTo>
                <a:lnTo>
                  <a:pt x="20291" y="3756"/>
                </a:lnTo>
                <a:lnTo>
                  <a:pt x="2029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42920" y="2492280"/>
            <a:ext cx="662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学习本文的写法，写一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自己与动物或别人与动物的真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01080" y="6453360"/>
            <a:ext cx="393480" cy="250560"/>
          </a:xfrm>
          <a:custGeom>
            <a:avLst/>
            <a:gdLst>
              <a:gd name="textAreaLeft" fmla="*/ 15480 w 393480"/>
              <a:gd name="textAreaRight" fmla="*/ 378000 w 393480"/>
              <a:gd name="textAreaTop" fmla="*/ 15480 h 250560"/>
              <a:gd name="textAreaBottom" fmla="*/ 235080 h 250560"/>
            </a:gdLst>
            <a:ahLst/>
            <a:rect l="textAreaLeft" t="textAreaTop" r="textAreaRight" b="textAreaBottom"/>
            <a:pathLst>
              <a:path w="33903" h="21600">
                <a:moveTo>
                  <a:pt x="0" y="0"/>
                </a:moveTo>
                <a:lnTo>
                  <a:pt x="33903" y="0"/>
                </a:lnTo>
                <a:lnTo>
                  <a:pt x="33903" y="21600"/>
                </a:lnTo>
                <a:lnTo>
                  <a:pt x="0" y="21600"/>
                </a:lnTo>
                <a:close/>
              </a:path>
              <a:path fill="lightenLess" w="33903" h="21600">
                <a:moveTo>
                  <a:pt x="0" y="0"/>
                </a:moveTo>
                <a:lnTo>
                  <a:pt x="33903" y="0"/>
                </a:lnTo>
                <a:lnTo>
                  <a:pt x="32553" y="1350"/>
                </a:lnTo>
                <a:lnTo>
                  <a:pt x="1350" y="1350"/>
                </a:lnTo>
                <a:close/>
              </a:path>
              <a:path fill="darken" w="33903" h="21600">
                <a:moveTo>
                  <a:pt x="33903" y="0"/>
                </a:moveTo>
                <a:lnTo>
                  <a:pt x="33903" y="21600"/>
                </a:lnTo>
                <a:lnTo>
                  <a:pt x="32553" y="20250"/>
                </a:lnTo>
                <a:lnTo>
                  <a:pt x="32553" y="1350"/>
                </a:lnTo>
                <a:close/>
              </a:path>
              <a:path fill="darkenLess" w="33903" h="21600">
                <a:moveTo>
                  <a:pt x="339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2553" y="20250"/>
                </a:lnTo>
                <a:close/>
              </a:path>
              <a:path fill="lighten" w="339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3903" h="21600">
                <a:moveTo>
                  <a:pt x="9908" y="10800"/>
                </a:moveTo>
                <a:lnTo>
                  <a:pt x="23995" y="3756"/>
                </a:lnTo>
                <a:lnTo>
                  <a:pt x="23995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43280" y="620640"/>
            <a:ext cx="28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小练笔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1916280"/>
            <a:ext cx="756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ff66cc"/>
                </a:solidFill>
                <a:latin typeface="Comic Sans MS"/>
              </a:rPr>
              <a:t>读读课文，说说松鼠在“我”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Comic Sans MS"/>
              </a:rPr>
              <a:t>做了哪些事？你从中体会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2050920" y="6022800"/>
            <a:ext cx="576360" cy="360360"/>
          </a:xfrm>
          <a:custGeom>
            <a:avLst/>
            <a:gdLst>
              <a:gd name="textAreaLeft" fmla="*/ 22320 w 576360"/>
              <a:gd name="textAreaRight" fmla="*/ 554040 w 576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84" y="1350"/>
                </a:lnTo>
                <a:lnTo>
                  <a:pt x="1350" y="135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84" y="20250"/>
                </a:lnTo>
                <a:lnTo>
                  <a:pt x="33184" y="135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184" y="2025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5950080"/>
            <a:ext cx="432000" cy="287280"/>
          </a:xfrm>
          <a:custGeom>
            <a:avLst/>
            <a:gdLst>
              <a:gd name="textAreaLeft" fmla="*/ 17640 w 432000"/>
              <a:gd name="textAreaRight" fmla="*/ 414360 w 43200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118" y="1350"/>
                </a:lnTo>
                <a:lnTo>
                  <a:pt x="1350" y="135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118" y="20250"/>
                </a:lnTo>
                <a:lnTo>
                  <a:pt x="31118" y="135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118" y="2025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468" h="21600">
                <a:moveTo>
                  <a:pt x="9190" y="3756"/>
                </a:moveTo>
                <a:lnTo>
                  <a:pt x="23278" y="10800"/>
                </a:lnTo>
                <a:lnTo>
                  <a:pt x="9190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5950080"/>
            <a:ext cx="432000" cy="322200"/>
          </a:xfrm>
          <a:custGeom>
            <a:avLst/>
            <a:gdLst>
              <a:gd name="textAreaLeft" fmla="*/ 20160 w 432000"/>
              <a:gd name="textAreaRight" fmla="*/ 412200 w 432000"/>
              <a:gd name="textAreaTop" fmla="*/ 20160 h 322200"/>
              <a:gd name="textAreaBottom" fmla="*/ 302400 h 322200"/>
            </a:gdLst>
            <a:ahLst/>
            <a:rect l="textAreaLeft" t="textAreaTop" r="textAreaRight" b="textAreaBottom"/>
            <a:pathLst>
              <a:path w="28953" h="21600">
                <a:moveTo>
                  <a:pt x="0" y="0"/>
                </a:moveTo>
                <a:lnTo>
                  <a:pt x="28953" y="0"/>
                </a:lnTo>
                <a:lnTo>
                  <a:pt x="28953" y="21600"/>
                </a:lnTo>
                <a:lnTo>
                  <a:pt x="0" y="21600"/>
                </a:lnTo>
                <a:close/>
              </a:path>
              <a:path fill="lightenLess" w="28953" h="21600">
                <a:moveTo>
                  <a:pt x="0" y="0"/>
                </a:moveTo>
                <a:lnTo>
                  <a:pt x="28953" y="0"/>
                </a:lnTo>
                <a:lnTo>
                  <a:pt x="27603" y="1350"/>
                </a:lnTo>
                <a:lnTo>
                  <a:pt x="1350" y="1350"/>
                </a:lnTo>
                <a:close/>
              </a:path>
              <a:path fill="darken" w="28953" h="21600">
                <a:moveTo>
                  <a:pt x="28953" y="0"/>
                </a:moveTo>
                <a:lnTo>
                  <a:pt x="28953" y="21600"/>
                </a:lnTo>
                <a:lnTo>
                  <a:pt x="27603" y="20250"/>
                </a:lnTo>
                <a:lnTo>
                  <a:pt x="27603" y="1350"/>
                </a:lnTo>
                <a:close/>
              </a:path>
              <a:path fill="darkenLess" w="28953" h="21600">
                <a:moveTo>
                  <a:pt x="2895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603" y="20250"/>
                </a:lnTo>
                <a:close/>
              </a:path>
              <a:path fill="lighten" w="2895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953" h="21600">
                <a:moveTo>
                  <a:pt x="7433" y="3756"/>
                </a:moveTo>
                <a:lnTo>
                  <a:pt x="21520" y="10800"/>
                </a:lnTo>
                <a:lnTo>
                  <a:pt x="7433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76720" y="5950080"/>
            <a:ext cx="432000" cy="323640"/>
          </a:xfrm>
          <a:custGeom>
            <a:avLst/>
            <a:gdLst>
              <a:gd name="textAreaLeft" fmla="*/ 20160 w 432000"/>
              <a:gd name="textAreaRight" fmla="*/ 411840 w 432000"/>
              <a:gd name="textAreaTop" fmla="*/ 20160 h 323640"/>
              <a:gd name="textAreaBottom" fmla="*/ 303480 h 323640"/>
            </a:gdLst>
            <a:ahLst/>
            <a:rect l="textAreaLeft" t="textAreaTop" r="textAreaRight" b="textAreaBottom"/>
            <a:pathLst>
              <a:path w="28824" h="21600">
                <a:moveTo>
                  <a:pt x="0" y="0"/>
                </a:moveTo>
                <a:lnTo>
                  <a:pt x="28824" y="0"/>
                </a:lnTo>
                <a:lnTo>
                  <a:pt x="28824" y="21600"/>
                </a:lnTo>
                <a:lnTo>
                  <a:pt x="0" y="21600"/>
                </a:lnTo>
                <a:close/>
              </a:path>
              <a:path fill="lightenLess" w="28824" h="21600">
                <a:moveTo>
                  <a:pt x="0" y="0"/>
                </a:moveTo>
                <a:lnTo>
                  <a:pt x="28824" y="0"/>
                </a:lnTo>
                <a:lnTo>
                  <a:pt x="27474" y="1350"/>
                </a:lnTo>
                <a:lnTo>
                  <a:pt x="1350" y="1350"/>
                </a:lnTo>
                <a:close/>
              </a:path>
              <a:path fill="darken" w="28824" h="21600">
                <a:moveTo>
                  <a:pt x="28824" y="0"/>
                </a:moveTo>
                <a:lnTo>
                  <a:pt x="28824" y="21600"/>
                </a:lnTo>
                <a:lnTo>
                  <a:pt x="27474" y="20250"/>
                </a:lnTo>
                <a:lnTo>
                  <a:pt x="27474" y="1350"/>
                </a:lnTo>
                <a:close/>
              </a:path>
              <a:path fill="darkenLess" w="28824" h="21600">
                <a:moveTo>
                  <a:pt x="288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74" y="20250"/>
                </a:lnTo>
                <a:close/>
              </a:path>
              <a:path fill="lighten" w="288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24" h="21600">
                <a:moveTo>
                  <a:pt x="7368" y="3756"/>
                </a:moveTo>
                <a:lnTo>
                  <a:pt x="21456" y="10800"/>
                </a:lnTo>
                <a:lnTo>
                  <a:pt x="7368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5950080"/>
            <a:ext cx="432000" cy="323640"/>
          </a:xfrm>
          <a:custGeom>
            <a:avLst/>
            <a:gdLst>
              <a:gd name="textAreaLeft" fmla="*/ 20160 w 432000"/>
              <a:gd name="textAreaRight" fmla="*/ 411840 w 432000"/>
              <a:gd name="textAreaTop" fmla="*/ 20160 h 323640"/>
              <a:gd name="textAreaBottom" fmla="*/ 303480 h 323640"/>
            </a:gdLst>
            <a:ahLst/>
            <a:rect l="textAreaLeft" t="textAreaTop" r="textAreaRight" b="textAreaBottom"/>
            <a:pathLst>
              <a:path w="28824" h="21600">
                <a:moveTo>
                  <a:pt x="0" y="0"/>
                </a:moveTo>
                <a:lnTo>
                  <a:pt x="28824" y="0"/>
                </a:lnTo>
                <a:lnTo>
                  <a:pt x="28824" y="21600"/>
                </a:lnTo>
                <a:lnTo>
                  <a:pt x="0" y="21600"/>
                </a:lnTo>
                <a:close/>
              </a:path>
              <a:path fill="lightenLess" w="28824" h="21600">
                <a:moveTo>
                  <a:pt x="0" y="0"/>
                </a:moveTo>
                <a:lnTo>
                  <a:pt x="28824" y="0"/>
                </a:lnTo>
                <a:lnTo>
                  <a:pt x="27474" y="1350"/>
                </a:lnTo>
                <a:lnTo>
                  <a:pt x="1350" y="1350"/>
                </a:lnTo>
                <a:close/>
              </a:path>
              <a:path fill="darken" w="28824" h="21600">
                <a:moveTo>
                  <a:pt x="28824" y="0"/>
                </a:moveTo>
                <a:lnTo>
                  <a:pt x="28824" y="21600"/>
                </a:lnTo>
                <a:lnTo>
                  <a:pt x="27474" y="20250"/>
                </a:lnTo>
                <a:lnTo>
                  <a:pt x="27474" y="1350"/>
                </a:lnTo>
                <a:close/>
              </a:path>
              <a:path fill="darkenLess" w="28824" h="21600">
                <a:moveTo>
                  <a:pt x="288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74" y="20250"/>
                </a:lnTo>
                <a:close/>
              </a:path>
              <a:path fill="lighten" w="288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24" h="21600">
                <a:moveTo>
                  <a:pt x="7368" y="3756"/>
                </a:moveTo>
                <a:lnTo>
                  <a:pt x="21456" y="10800"/>
                </a:lnTo>
                <a:lnTo>
                  <a:pt x="7368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5950080"/>
            <a:ext cx="431640" cy="323640"/>
          </a:xfrm>
          <a:custGeom>
            <a:avLst/>
            <a:gdLst>
              <a:gd name="textAreaLeft" fmla="*/ 20160 w 431640"/>
              <a:gd name="textAreaRight" fmla="*/ 411480 w 431640"/>
              <a:gd name="textAreaTop" fmla="*/ 20160 h 323640"/>
              <a:gd name="textAreaBottom" fmla="*/ 303480 h 323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50" y="1350"/>
                </a:lnTo>
                <a:lnTo>
                  <a:pt x="1350" y="135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50" y="20250"/>
                </a:lnTo>
                <a:lnTo>
                  <a:pt x="27450" y="135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50" y="2025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00" h="21600">
                <a:moveTo>
                  <a:pt x="7356" y="3756"/>
                </a:moveTo>
                <a:lnTo>
                  <a:pt x="21444" y="10800"/>
                </a:lnTo>
                <a:lnTo>
                  <a:pt x="735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5950080"/>
            <a:ext cx="504720" cy="3952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95280"/>
              <a:gd name="textAreaBottom" fmla="*/ 370800 h 395280"/>
            </a:gdLst>
            <a:ahLst/>
            <a:rect l="textAreaLeft" t="textAreaTop" r="textAreaRight" b="textAreaBottom"/>
            <a:pathLst>
              <a:path w="27575" h="21600">
                <a:moveTo>
                  <a:pt x="0" y="0"/>
                </a:moveTo>
                <a:lnTo>
                  <a:pt x="27575" y="0"/>
                </a:lnTo>
                <a:lnTo>
                  <a:pt x="27575" y="21600"/>
                </a:lnTo>
                <a:lnTo>
                  <a:pt x="0" y="21600"/>
                </a:lnTo>
                <a:close/>
              </a:path>
              <a:path fill="lightenLess" w="27575" h="21600">
                <a:moveTo>
                  <a:pt x="0" y="0"/>
                </a:moveTo>
                <a:lnTo>
                  <a:pt x="27575" y="0"/>
                </a:lnTo>
                <a:lnTo>
                  <a:pt x="26225" y="1350"/>
                </a:lnTo>
                <a:lnTo>
                  <a:pt x="1350" y="1350"/>
                </a:lnTo>
                <a:close/>
              </a:path>
              <a:path fill="darken" w="27575" h="21600">
                <a:moveTo>
                  <a:pt x="27575" y="0"/>
                </a:moveTo>
                <a:lnTo>
                  <a:pt x="27575" y="21600"/>
                </a:lnTo>
                <a:lnTo>
                  <a:pt x="26225" y="20250"/>
                </a:lnTo>
                <a:lnTo>
                  <a:pt x="26225" y="1350"/>
                </a:lnTo>
                <a:close/>
              </a:path>
              <a:path fill="darkenLess" w="27575" h="21600">
                <a:moveTo>
                  <a:pt x="275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225" y="20250"/>
                </a:lnTo>
                <a:close/>
              </a:path>
              <a:path fill="lighten" w="275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43640" y="5878440"/>
            <a:ext cx="504720" cy="3952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95280"/>
              <a:gd name="textAreaBottom" fmla="*/ 370800 h 395280"/>
            </a:gdLst>
            <a:ahLst/>
            <a:rect l="textAreaLeft" t="textAreaTop" r="textAreaRight" b="textAreaBottom"/>
            <a:pathLst>
              <a:path w="27575" h="21600">
                <a:moveTo>
                  <a:pt x="0" y="0"/>
                </a:moveTo>
                <a:lnTo>
                  <a:pt x="27575" y="0"/>
                </a:lnTo>
                <a:lnTo>
                  <a:pt x="27575" y="21600"/>
                </a:lnTo>
                <a:lnTo>
                  <a:pt x="0" y="21600"/>
                </a:lnTo>
                <a:close/>
              </a:path>
              <a:path fill="lightenLess" w="27575" h="21600">
                <a:moveTo>
                  <a:pt x="0" y="0"/>
                </a:moveTo>
                <a:lnTo>
                  <a:pt x="27575" y="0"/>
                </a:lnTo>
                <a:lnTo>
                  <a:pt x="26225" y="1350"/>
                </a:lnTo>
                <a:lnTo>
                  <a:pt x="1350" y="1350"/>
                </a:lnTo>
                <a:close/>
              </a:path>
              <a:path fill="darken" w="27575" h="21600">
                <a:moveTo>
                  <a:pt x="27575" y="0"/>
                </a:moveTo>
                <a:lnTo>
                  <a:pt x="27575" y="21600"/>
                </a:lnTo>
                <a:lnTo>
                  <a:pt x="26225" y="20250"/>
                </a:lnTo>
                <a:lnTo>
                  <a:pt x="26225" y="1350"/>
                </a:lnTo>
                <a:close/>
              </a:path>
              <a:path fill="darkenLess" w="27575" h="21600">
                <a:moveTo>
                  <a:pt x="275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225" y="20250"/>
                </a:lnTo>
                <a:close/>
              </a:path>
              <a:path fill="lighten" w="275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35280" y="1125360"/>
            <a:ext cx="352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学习提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快速读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找出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思考体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交流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领悟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885080" y="6237360"/>
            <a:ext cx="466920" cy="3222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22200"/>
              <a:gd name="textAreaBottom" fmla="*/ 302400 h 322200"/>
            </a:gdLst>
            <a:ahLst/>
            <a:rect l="textAreaLeft" t="textAreaTop" r="textAreaRight" b="textAreaBottom"/>
            <a:pathLst>
              <a:path w="31291" h="21600">
                <a:moveTo>
                  <a:pt x="0" y="0"/>
                </a:moveTo>
                <a:lnTo>
                  <a:pt x="31291" y="0"/>
                </a:lnTo>
                <a:lnTo>
                  <a:pt x="31291" y="21600"/>
                </a:lnTo>
                <a:lnTo>
                  <a:pt x="0" y="21600"/>
                </a:lnTo>
                <a:close/>
              </a:path>
              <a:path fill="lightenLess" w="31291" h="21600">
                <a:moveTo>
                  <a:pt x="0" y="0"/>
                </a:moveTo>
                <a:lnTo>
                  <a:pt x="31291" y="0"/>
                </a:lnTo>
                <a:lnTo>
                  <a:pt x="29941" y="1350"/>
                </a:lnTo>
                <a:lnTo>
                  <a:pt x="1350" y="1350"/>
                </a:lnTo>
                <a:close/>
              </a:path>
              <a:path fill="darken" w="31291" h="21600">
                <a:moveTo>
                  <a:pt x="31291" y="0"/>
                </a:moveTo>
                <a:lnTo>
                  <a:pt x="31291" y="21600"/>
                </a:lnTo>
                <a:lnTo>
                  <a:pt x="29941" y="20250"/>
                </a:lnTo>
                <a:lnTo>
                  <a:pt x="29941" y="1350"/>
                </a:lnTo>
                <a:close/>
              </a:path>
              <a:path fill="darkenLess" w="31291" h="21600">
                <a:moveTo>
                  <a:pt x="3129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941" y="20250"/>
                </a:lnTo>
                <a:close/>
              </a:path>
              <a:path fill="lighten" w="3129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71640" y="2421000"/>
            <a:ext cx="7777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储备    干脆    失踪    空落落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甘落后   千方百计   哭笑不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80360" y="6021360"/>
            <a:ext cx="576360" cy="360360"/>
          </a:xfrm>
          <a:custGeom>
            <a:avLst/>
            <a:gdLst>
              <a:gd name="textAreaLeft" fmla="*/ 22320 w 576360"/>
              <a:gd name="textAreaRight" fmla="*/ 554040 w 576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84" y="1350"/>
                </a:lnTo>
                <a:lnTo>
                  <a:pt x="1350" y="135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84" y="20250"/>
                </a:lnTo>
                <a:lnTo>
                  <a:pt x="33184" y="135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184" y="2025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34" h="21600">
                <a:moveTo>
                  <a:pt x="10223" y="10800"/>
                </a:moveTo>
                <a:lnTo>
                  <a:pt x="24311" y="3756"/>
                </a:lnTo>
                <a:lnTo>
                  <a:pt x="2431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92360" y="1125360"/>
            <a:ext cx="30956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读读记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7280" y="1773360"/>
            <a:ext cx="698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它整天满屋乱跑，在橱柜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架子上跳来跳去，动作灵活得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人，从来没有碰掉过一样东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00" y="617364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87280" y="1773360"/>
            <a:ext cx="698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它整天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满屋乱跑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在橱柜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架子上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跳来跳去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动作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灵活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人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从来没有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碰掉过一样东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85080" y="6093000"/>
            <a:ext cx="466920" cy="323640"/>
          </a:xfrm>
          <a:custGeom>
            <a:avLst/>
            <a:gdLst>
              <a:gd name="textAreaLeft" fmla="*/ 20160 w 466920"/>
              <a:gd name="textAreaRight" fmla="*/ 446760 w 466920"/>
              <a:gd name="textAreaTop" fmla="*/ 20160 h 323640"/>
              <a:gd name="textAreaBottom" fmla="*/ 303480 h 323640"/>
            </a:gdLst>
            <a:ahLst/>
            <a:rect l="textAreaLeft" t="textAreaTop" r="textAreaRight" b="textAreaBottom"/>
            <a:pathLst>
              <a:path w="31152" h="21600">
                <a:moveTo>
                  <a:pt x="0" y="0"/>
                </a:moveTo>
                <a:lnTo>
                  <a:pt x="31152" y="0"/>
                </a:lnTo>
                <a:lnTo>
                  <a:pt x="31152" y="21600"/>
                </a:lnTo>
                <a:lnTo>
                  <a:pt x="0" y="21600"/>
                </a:lnTo>
                <a:close/>
              </a:path>
              <a:path fill="lightenLess" w="31152" h="21600">
                <a:moveTo>
                  <a:pt x="0" y="0"/>
                </a:moveTo>
                <a:lnTo>
                  <a:pt x="31152" y="0"/>
                </a:lnTo>
                <a:lnTo>
                  <a:pt x="29802" y="1350"/>
                </a:lnTo>
                <a:lnTo>
                  <a:pt x="1350" y="1350"/>
                </a:lnTo>
                <a:close/>
              </a:path>
              <a:path fill="darken" w="31152" h="21600">
                <a:moveTo>
                  <a:pt x="31152" y="0"/>
                </a:moveTo>
                <a:lnTo>
                  <a:pt x="31152" y="21600"/>
                </a:lnTo>
                <a:lnTo>
                  <a:pt x="29802" y="20250"/>
                </a:lnTo>
                <a:lnTo>
                  <a:pt x="29802" y="1350"/>
                </a:lnTo>
                <a:close/>
              </a:path>
              <a:path fill="darkenLess" w="31152" h="21600">
                <a:moveTo>
                  <a:pt x="3115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802" y="20250"/>
                </a:lnTo>
                <a:close/>
              </a:path>
              <a:path fill="lighten" w="3115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152" h="21600">
                <a:moveTo>
                  <a:pt x="8532" y="10800"/>
                </a:moveTo>
                <a:lnTo>
                  <a:pt x="22620" y="3756"/>
                </a:lnTo>
                <a:lnTo>
                  <a:pt x="22620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0000" y="1700280"/>
            <a:ext cx="7415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有时，松鼠跳到我的肩上，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小嘴蹭我的脸，还轻轻咬我的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朵，我想它是又想吃糖了。可我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上哪儿给它找去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1700280"/>
            <a:ext cx="7415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有时，松鼠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跳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到我的肩上，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小嘴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蹭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我的脸，还轻轻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咬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我的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朵，我想它是又想吃糖了。可我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上哪儿给它找去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85080" y="6237360"/>
            <a:ext cx="466920" cy="322200"/>
          </a:xfrm>
          <a:custGeom>
            <a:avLst/>
            <a:gdLst>
              <a:gd name="textAreaLeft" fmla="*/ 20160 w 466920"/>
              <a:gd name="textAreaRight" fmla="*/ 447120 w 466920"/>
              <a:gd name="textAreaTop" fmla="*/ 20160 h 322200"/>
              <a:gd name="textAreaBottom" fmla="*/ 302400 h 322200"/>
            </a:gdLst>
            <a:ahLst/>
            <a:rect l="textAreaLeft" t="textAreaTop" r="textAreaRight" b="textAreaBottom"/>
            <a:pathLst>
              <a:path w="31291" h="21600">
                <a:moveTo>
                  <a:pt x="0" y="0"/>
                </a:moveTo>
                <a:lnTo>
                  <a:pt x="31291" y="0"/>
                </a:lnTo>
                <a:lnTo>
                  <a:pt x="31291" y="21600"/>
                </a:lnTo>
                <a:lnTo>
                  <a:pt x="0" y="21600"/>
                </a:lnTo>
                <a:close/>
              </a:path>
              <a:path fill="lightenLess" w="31291" h="21600">
                <a:moveTo>
                  <a:pt x="0" y="0"/>
                </a:moveTo>
                <a:lnTo>
                  <a:pt x="31291" y="0"/>
                </a:lnTo>
                <a:lnTo>
                  <a:pt x="29941" y="1350"/>
                </a:lnTo>
                <a:lnTo>
                  <a:pt x="1350" y="1350"/>
                </a:lnTo>
                <a:close/>
              </a:path>
              <a:path fill="darken" w="31291" h="21600">
                <a:moveTo>
                  <a:pt x="31291" y="0"/>
                </a:moveTo>
                <a:lnTo>
                  <a:pt x="31291" y="21600"/>
                </a:lnTo>
                <a:lnTo>
                  <a:pt x="29941" y="20250"/>
                </a:lnTo>
                <a:lnTo>
                  <a:pt x="29941" y="1350"/>
                </a:lnTo>
                <a:close/>
              </a:path>
              <a:path fill="darkenLess" w="31291" h="21600">
                <a:moveTo>
                  <a:pt x="3129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941" y="20250"/>
                </a:lnTo>
                <a:close/>
              </a:path>
              <a:path fill="lighten" w="3129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291" h="21600">
                <a:moveTo>
                  <a:pt x="8602" y="10800"/>
                </a:moveTo>
                <a:lnTo>
                  <a:pt x="22689" y="3756"/>
                </a:lnTo>
                <a:lnTo>
                  <a:pt x="22689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16000" y="836640"/>
            <a:ext cx="712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爸爸哈哈大笑，说：“我怎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没想到这一点呢！咱们家的松鼠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在储备冬粮呢。森林里的松鼠到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秋天，就要开始储备冬粮。这是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鼠的天性，咱们的松鼠自然也不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落后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9:17:38Z</dcterms:created>
  <dc:creator/>
  <dc:description/>
  <cp:keywords>幻灯片之家 http:/www.eeppt.com</cp:keywords>
  <dc:language>en-US</dc:language>
  <cp:lastModifiedBy/>
  <dcterms:modified xsi:type="dcterms:W3CDTF">2015-07-12T09:29:14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