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28.jpeg" ContentType="image/jpeg"/>
  <Override PartName="/ppt/media/image11.jpeg" ContentType="image/jpeg"/>
  <Override PartName="/ppt/media/image107.jpeg" ContentType="image/jpeg"/>
  <Override PartName="/ppt/media/image51.jpeg" ContentType="image/jpeg"/>
  <Override PartName="/ppt/media/image13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55.jpeg" ContentType="image/jpeg"/>
  <Override PartName="/ppt/media/image134.jpeg" ContentType="image/jpeg"/>
  <Override PartName="/ppt/media/image132.jpeg" ContentType="image/jpeg"/>
  <Override PartName="/ppt/media/image53.jpeg" ContentType="image/jpeg"/>
  <Override PartName="/ppt/media/image57.jpeg" ContentType="image/jpeg"/>
  <Override PartName="/ppt/media/image136.jpeg" ContentType="image/jpeg"/>
  <Override PartName="/ppt/media/image58.jpeg" ContentType="image/jpeg"/>
  <Override PartName="/ppt/media/image137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50.jpeg" ContentType="image/jpeg"/>
  <Override PartName="/ppt/media/image139.jpeg" ContentType="image/jpeg"/>
  <Override PartName="/ppt/media/image4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197-5615-45FE-9460-782F69CE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CE4-83CF-4807-B62C-4C86AF6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04D-4231-4876-AD5F-E4B59367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BFB-1A3E-4F83-9856-F0FA2875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125-FEA5-4703-8896-E54AC4E8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309-5F25-40E9-9ED6-24F8A209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2ED-8A78-43DF-88BF-DB8A392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B7D-0A38-4537-8F8B-8B96999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969-E4DC-4BDD-9C99-A272DE62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4A2-0E1A-4518-938D-88E9A5E1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71C-F013-44BF-BEFD-D27A6C8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66F-9AFE-4831-B2F0-FCCBD847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0059-7044-407D-A1D6-CEFA85F2071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E3F5-CA4E-4FD0-AFA3-303549485C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10.jpeg"/><Relationship Id="rId5" Type="http://schemas.openxmlformats.org/officeDocument/2006/relationships/hyperlink" Target="http://www.eeppt.com/moban/yingxiao/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image" Target="../media/image65.jpeg"/><Relationship Id="rId10" Type="http://schemas.openxmlformats.org/officeDocument/2006/relationships/image" Target="../media/image66.jpeg"/><Relationship Id="rId11" Type="http://schemas.openxmlformats.org/officeDocument/2006/relationships/image" Target="../media/image67.jpeg"/><Relationship Id="rId12" Type="http://schemas.openxmlformats.org/officeDocument/2006/relationships/image" Target="../media/image68.jpeg"/><Relationship Id="rId13" Type="http://schemas.openxmlformats.org/officeDocument/2006/relationships/image" Target="../media/image69.jpeg"/><Relationship Id="rId14" Type="http://schemas.openxmlformats.org/officeDocument/2006/relationships/image" Target="../media/image70.jpeg"/><Relationship Id="rId15" Type="http://schemas.openxmlformats.org/officeDocument/2006/relationships/image" Target="../media/image71.jpeg"/><Relationship Id="rId16" Type="http://schemas.openxmlformats.org/officeDocument/2006/relationships/image" Target="../media/image72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image" Target="../media/image93.jpeg"/><Relationship Id="rId21" Type="http://schemas.openxmlformats.org/officeDocument/2006/relationships/image" Target="../media/image94.jpeg"/><Relationship Id="rId22" Type="http://schemas.openxmlformats.org/officeDocument/2006/relationships/image" Target="../media/image10.jpeg"/><Relationship Id="rId2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image" Target="../media/image100.jpeg"/><Relationship Id="rId7" Type="http://schemas.openxmlformats.org/officeDocument/2006/relationships/image" Target="../media/image101.jpeg"/><Relationship Id="rId8" Type="http://schemas.openxmlformats.org/officeDocument/2006/relationships/image" Target="../media/image102.jpeg"/><Relationship Id="rId9" Type="http://schemas.openxmlformats.org/officeDocument/2006/relationships/image" Target="../media/image103.jpeg"/><Relationship Id="rId10" Type="http://schemas.openxmlformats.org/officeDocument/2006/relationships/image" Target="../media/image104.jpeg"/><Relationship Id="rId11" Type="http://schemas.openxmlformats.org/officeDocument/2006/relationships/image" Target="../media/image105.jpeg"/><Relationship Id="rId12" Type="http://schemas.openxmlformats.org/officeDocument/2006/relationships/image" Target="../media/image106.jpeg"/><Relationship Id="rId13" Type="http://schemas.openxmlformats.org/officeDocument/2006/relationships/image" Target="../media/image107.jpeg"/><Relationship Id="rId14" Type="http://schemas.openxmlformats.org/officeDocument/2006/relationships/image" Target="../media/image108.jpeg"/><Relationship Id="rId15" Type="http://schemas.openxmlformats.org/officeDocument/2006/relationships/image" Target="../media/image109.jpeg"/><Relationship Id="rId16" Type="http://schemas.openxmlformats.org/officeDocument/2006/relationships/image" Target="../media/image110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image" Target="../media/image119.jpeg"/><Relationship Id="rId9" Type="http://schemas.openxmlformats.org/officeDocument/2006/relationships/image" Target="../media/image120.jpeg"/><Relationship Id="rId10" Type="http://schemas.openxmlformats.org/officeDocument/2006/relationships/image" Target="../media/image121.jpeg"/><Relationship Id="rId11" Type="http://schemas.openxmlformats.org/officeDocument/2006/relationships/image" Target="../media/image122.jpeg"/><Relationship Id="rId12" Type="http://schemas.openxmlformats.org/officeDocument/2006/relationships/image" Target="../media/image123.jpeg"/><Relationship Id="rId13" Type="http://schemas.openxmlformats.org/officeDocument/2006/relationships/image" Target="../media/image124.jpeg"/><Relationship Id="rId14" Type="http://schemas.openxmlformats.org/officeDocument/2006/relationships/image" Target="../media/image125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image" Target="../media/image129.jpeg"/><Relationship Id="rId5" Type="http://schemas.openxmlformats.org/officeDocument/2006/relationships/image" Target="../media/image130.jpeg"/><Relationship Id="rId6" Type="http://schemas.openxmlformats.org/officeDocument/2006/relationships/image" Target="../media/image131.jpeg"/><Relationship Id="rId7" Type="http://schemas.openxmlformats.org/officeDocument/2006/relationships/image" Target="../media/image132.jpeg"/><Relationship Id="rId8" Type="http://schemas.openxmlformats.org/officeDocument/2006/relationships/image" Target="../media/image133.jpeg"/><Relationship Id="rId9" Type="http://schemas.openxmlformats.org/officeDocument/2006/relationships/image" Target="../media/image134.jpeg"/><Relationship Id="rId10" Type="http://schemas.openxmlformats.org/officeDocument/2006/relationships/image" Target="../media/image135.jpeg"/><Relationship Id="rId11" Type="http://schemas.openxmlformats.org/officeDocument/2006/relationships/image" Target="../media/image136.jpeg"/><Relationship Id="rId12" Type="http://schemas.openxmlformats.org/officeDocument/2006/relationships/image" Target="../media/image137.jpeg"/><Relationship Id="rId13" Type="http://schemas.openxmlformats.org/officeDocument/2006/relationships/image" Target="../media/image138.jpeg"/><Relationship Id="rId14" Type="http://schemas.openxmlformats.org/officeDocument/2006/relationships/image" Target="../media/image139.jpeg"/><Relationship Id="rId15" Type="http://schemas.openxmlformats.org/officeDocument/2006/relationships/image" Target="../media/image140.jpeg"/><Relationship Id="rId16" Type="http://schemas.openxmlformats.org/officeDocument/2006/relationships/image" Target="../media/image141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84360" y="457200"/>
            <a:ext cx="3619440" cy="5778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216320" y="3530520"/>
            <a:ext cx="85104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5473800" y="3530520"/>
            <a:ext cx="83808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6769080" y="3530520"/>
            <a:ext cx="90180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8178840" y="3543480"/>
            <a:ext cx="571320" cy="291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6"/>
          <a:stretch/>
        </p:blipFill>
        <p:spPr>
          <a:xfrm>
            <a:off x="0" y="6464160"/>
            <a:ext cx="9144000" cy="39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0840" y="6478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60320" y="9907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品牌年轻化策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692440" cy="2400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965160" y="2476440"/>
            <a:ext cx="7442280" cy="375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587920" y="38160"/>
            <a:ext cx="3441960" cy="161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422360" y="2197080"/>
            <a:ext cx="6400800" cy="3720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261120" y="38160"/>
            <a:ext cx="2882880" cy="153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812880" y="2044800"/>
            <a:ext cx="7302600" cy="370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6095880" y="0"/>
            <a:ext cx="2806920" cy="204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" y="2260440"/>
            <a:ext cx="7365960" cy="384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156280" y="660240"/>
            <a:ext cx="2755800" cy="33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156280" y="1066680"/>
            <a:ext cx="2755800" cy="33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5156280" y="1486080"/>
            <a:ext cx="2971800" cy="33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4"/>
          <a:stretch/>
        </p:blipFill>
        <p:spPr>
          <a:xfrm>
            <a:off x="5156280" y="1892160"/>
            <a:ext cx="2882880" cy="33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5"/>
          <a:stretch/>
        </p:blipFill>
        <p:spPr>
          <a:xfrm>
            <a:off x="5156280" y="2298600"/>
            <a:ext cx="1790640" cy="254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6"/>
          <a:stretch/>
        </p:blipFill>
        <p:spPr>
          <a:xfrm>
            <a:off x="965160" y="4457880"/>
            <a:ext cx="2666880" cy="799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7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6515280" cy="55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226080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2806560" y="2044800"/>
            <a:ext cx="2934000" cy="1396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5854680" y="2044800"/>
            <a:ext cx="2120760" cy="1396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5"/>
          <a:stretch/>
        </p:blipFill>
        <p:spPr>
          <a:xfrm>
            <a:off x="6794640" y="4368960"/>
            <a:ext cx="1396800" cy="209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6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4077000" cy="55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520560" y="1333440"/>
            <a:ext cx="2159280" cy="139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3"/>
          <a:stretch/>
        </p:blipFill>
        <p:spPr>
          <a:xfrm>
            <a:off x="457200" y="2857680"/>
            <a:ext cx="2400480" cy="281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3517920" y="1231920"/>
            <a:ext cx="5207040" cy="3073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5"/>
          <a:stretch/>
        </p:blipFill>
        <p:spPr>
          <a:xfrm>
            <a:off x="3645000" y="4737240"/>
            <a:ext cx="5118120" cy="54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6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2857680" cy="55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619440" y="1739880"/>
            <a:ext cx="5448240" cy="207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2489040" y="4013280"/>
            <a:ext cx="4712040" cy="120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4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20" y="5792760"/>
            <a:ext cx="677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营销策划方案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yingx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43080" y="38160"/>
            <a:ext cx="6514920" cy="55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380880" y="660240"/>
            <a:ext cx="3200400" cy="2705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4521240" y="825480"/>
            <a:ext cx="4127400" cy="291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4292640" y="1257480"/>
            <a:ext cx="4483080" cy="26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5"/>
          <a:stretch/>
        </p:blipFill>
        <p:spPr>
          <a:xfrm>
            <a:off x="4292640" y="1574640"/>
            <a:ext cx="4457520" cy="266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6"/>
          <a:stretch/>
        </p:blipFill>
        <p:spPr>
          <a:xfrm>
            <a:off x="4292640" y="1905120"/>
            <a:ext cx="1257120" cy="25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7"/>
          <a:stretch/>
        </p:blipFill>
        <p:spPr>
          <a:xfrm>
            <a:off x="330120" y="3378240"/>
            <a:ext cx="3390840" cy="190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8"/>
          <a:stretch/>
        </p:blipFill>
        <p:spPr>
          <a:xfrm>
            <a:off x="7251840" y="3517920"/>
            <a:ext cx="1815840" cy="203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9"/>
          <a:stretch/>
        </p:blipFill>
        <p:spPr>
          <a:xfrm>
            <a:off x="977760" y="3873600"/>
            <a:ext cx="2273400" cy="29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10"/>
          <a:stretch/>
        </p:blipFill>
        <p:spPr>
          <a:xfrm>
            <a:off x="520560" y="4305240"/>
            <a:ext cx="3073680" cy="266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11"/>
          <a:stretch/>
        </p:blipFill>
        <p:spPr>
          <a:xfrm>
            <a:off x="520560" y="4635360"/>
            <a:ext cx="3035520" cy="254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2"/>
          <a:stretch/>
        </p:blipFill>
        <p:spPr>
          <a:xfrm>
            <a:off x="520560" y="4952880"/>
            <a:ext cx="303552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13"/>
          <a:stretch/>
        </p:blipFill>
        <p:spPr>
          <a:xfrm>
            <a:off x="520560" y="5270400"/>
            <a:ext cx="3035520" cy="266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14"/>
          <a:stretch/>
        </p:blipFill>
        <p:spPr>
          <a:xfrm>
            <a:off x="520560" y="5587920"/>
            <a:ext cx="250200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15"/>
          <a:stretch/>
        </p:blipFill>
        <p:spPr>
          <a:xfrm>
            <a:off x="3987720" y="3746520"/>
            <a:ext cx="4851360" cy="271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16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3670560" cy="55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333440" y="2260440"/>
            <a:ext cx="7810560" cy="77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333440" y="4216320"/>
            <a:ext cx="568980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4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400400" y="1473120"/>
            <a:ext cx="221508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99"/>
                </a:solidFill>
                <a:latin typeface="Arial Black"/>
              </a:rPr>
              <a:t>2.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511280" y="3429000"/>
            <a:ext cx="349236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99"/>
                </a:solidFill>
                <a:latin typeface="Arial Black"/>
              </a:rPr>
              <a:t>2731.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41200" y="2044800"/>
            <a:ext cx="8661600" cy="304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2857680" cy="55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301920" y="851040"/>
            <a:ext cx="1397160" cy="330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3"/>
          <a:stretch/>
        </p:blipFill>
        <p:spPr>
          <a:xfrm>
            <a:off x="6146640" y="851040"/>
            <a:ext cx="2540160" cy="330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4"/>
          <a:stretch/>
        </p:blipFill>
        <p:spPr>
          <a:xfrm>
            <a:off x="241200" y="1244520"/>
            <a:ext cx="1727280" cy="1028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5"/>
          <a:stretch/>
        </p:blipFill>
        <p:spPr>
          <a:xfrm>
            <a:off x="241200" y="2400480"/>
            <a:ext cx="1752840" cy="138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6"/>
          <a:stretch/>
        </p:blipFill>
        <p:spPr>
          <a:xfrm>
            <a:off x="330120" y="3936960"/>
            <a:ext cx="1790640" cy="254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7"/>
          <a:stretch/>
        </p:blipFill>
        <p:spPr>
          <a:xfrm>
            <a:off x="330120" y="4254480"/>
            <a:ext cx="1790640" cy="266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8"/>
          <a:stretch/>
        </p:blipFill>
        <p:spPr>
          <a:xfrm>
            <a:off x="330120" y="4572000"/>
            <a:ext cx="1790640" cy="266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9"/>
          <a:stretch/>
        </p:blipFill>
        <p:spPr>
          <a:xfrm>
            <a:off x="330120" y="4902120"/>
            <a:ext cx="1790640" cy="254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10"/>
          <a:stretch/>
        </p:blipFill>
        <p:spPr>
          <a:xfrm>
            <a:off x="330120" y="5219640"/>
            <a:ext cx="1790640" cy="254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11"/>
          <a:stretch/>
        </p:blipFill>
        <p:spPr>
          <a:xfrm>
            <a:off x="2324160" y="1333440"/>
            <a:ext cx="1663560" cy="1841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12"/>
          <a:stretch/>
        </p:blipFill>
        <p:spPr>
          <a:xfrm>
            <a:off x="4051440" y="1359000"/>
            <a:ext cx="1346040" cy="1815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13"/>
          <a:stretch/>
        </p:blipFill>
        <p:spPr>
          <a:xfrm>
            <a:off x="2324160" y="3213000"/>
            <a:ext cx="3073320" cy="2311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14"/>
          <a:stretch/>
        </p:blipFill>
        <p:spPr>
          <a:xfrm>
            <a:off x="5854680" y="1397160"/>
            <a:ext cx="1409760" cy="111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15"/>
          <a:stretch/>
        </p:blipFill>
        <p:spPr>
          <a:xfrm>
            <a:off x="5854680" y="2590920"/>
            <a:ext cx="1434960" cy="1752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16"/>
          <a:stretch/>
        </p:blipFill>
        <p:spPr>
          <a:xfrm>
            <a:off x="5854680" y="4457880"/>
            <a:ext cx="1434960" cy="1002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17"/>
          <a:stretch/>
        </p:blipFill>
        <p:spPr>
          <a:xfrm>
            <a:off x="7327800" y="1397160"/>
            <a:ext cx="1524240" cy="1130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18"/>
          <a:stretch/>
        </p:blipFill>
        <p:spPr>
          <a:xfrm>
            <a:off x="7327800" y="2590920"/>
            <a:ext cx="1549440" cy="1765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19"/>
          <a:stretch/>
        </p:blipFill>
        <p:spPr>
          <a:xfrm>
            <a:off x="7378560" y="4457880"/>
            <a:ext cx="1447920" cy="100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0"/>
          <a:stretch/>
        </p:blipFill>
        <p:spPr>
          <a:xfrm>
            <a:off x="330120" y="553716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1"/>
          <a:stretch/>
        </p:blipFill>
        <p:spPr>
          <a:xfrm>
            <a:off x="2349360" y="5740560"/>
            <a:ext cx="6591600" cy="46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2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3924360" cy="55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57200" y="965160"/>
            <a:ext cx="1143000" cy="1689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1650960" y="965160"/>
            <a:ext cx="1930320" cy="1689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4"/>
          <a:stretch/>
        </p:blipFill>
        <p:spPr>
          <a:xfrm>
            <a:off x="3619440" y="952560"/>
            <a:ext cx="1854360" cy="170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5"/>
          <a:stretch/>
        </p:blipFill>
        <p:spPr>
          <a:xfrm>
            <a:off x="5524560" y="965160"/>
            <a:ext cx="1181160" cy="1689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6"/>
          <a:stretch/>
        </p:blipFill>
        <p:spPr>
          <a:xfrm>
            <a:off x="6743880" y="914400"/>
            <a:ext cx="2019240" cy="173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7"/>
          <a:stretch/>
        </p:blipFill>
        <p:spPr>
          <a:xfrm>
            <a:off x="622440" y="2705040"/>
            <a:ext cx="8102520" cy="26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8"/>
          <a:stretch/>
        </p:blipFill>
        <p:spPr>
          <a:xfrm>
            <a:off x="622440" y="3022560"/>
            <a:ext cx="4622760" cy="266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9"/>
          <a:stretch/>
        </p:blipFill>
        <p:spPr>
          <a:xfrm>
            <a:off x="3454560" y="3797280"/>
            <a:ext cx="2603520" cy="330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10"/>
          <a:stretch/>
        </p:blipFill>
        <p:spPr>
          <a:xfrm>
            <a:off x="520560" y="428004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11"/>
          <a:stretch/>
        </p:blipFill>
        <p:spPr>
          <a:xfrm>
            <a:off x="1765440" y="4280040"/>
            <a:ext cx="2743200" cy="1765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12"/>
          <a:stretch/>
        </p:blipFill>
        <p:spPr>
          <a:xfrm>
            <a:off x="4724280" y="4381560"/>
            <a:ext cx="3924360" cy="266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13"/>
          <a:stretch/>
        </p:blipFill>
        <p:spPr>
          <a:xfrm>
            <a:off x="4724280" y="4699080"/>
            <a:ext cx="4178520" cy="266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14"/>
          <a:stretch/>
        </p:blipFill>
        <p:spPr>
          <a:xfrm>
            <a:off x="4724280" y="5029200"/>
            <a:ext cx="4178520" cy="25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15"/>
          <a:stretch/>
        </p:blipFill>
        <p:spPr>
          <a:xfrm>
            <a:off x="4724280" y="5346720"/>
            <a:ext cx="4102200" cy="254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16"/>
          <a:stretch/>
        </p:blipFill>
        <p:spPr>
          <a:xfrm>
            <a:off x="4724280" y="5664240"/>
            <a:ext cx="3924360" cy="253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17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E44-E10D-4D2B-8BC7-175BDAC05D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3264120" cy="558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520560" y="104148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2603520" y="1041480"/>
            <a:ext cx="2057400" cy="1396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4"/>
          <a:stretch/>
        </p:blipFill>
        <p:spPr>
          <a:xfrm>
            <a:off x="4686480" y="1041480"/>
            <a:ext cx="1942920" cy="1396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5"/>
          <a:stretch/>
        </p:blipFill>
        <p:spPr>
          <a:xfrm>
            <a:off x="6654960" y="1041480"/>
            <a:ext cx="2108160" cy="1396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6"/>
          <a:stretch/>
        </p:blipFill>
        <p:spPr>
          <a:xfrm>
            <a:off x="622440" y="2514600"/>
            <a:ext cx="8038800" cy="254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7"/>
          <a:stretch/>
        </p:blipFill>
        <p:spPr>
          <a:xfrm>
            <a:off x="622440" y="2832120"/>
            <a:ext cx="1612800" cy="254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8"/>
          <a:stretch/>
        </p:blipFill>
        <p:spPr>
          <a:xfrm>
            <a:off x="3606840" y="3797280"/>
            <a:ext cx="2311200" cy="33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9"/>
          <a:stretch/>
        </p:blipFill>
        <p:spPr>
          <a:xfrm>
            <a:off x="520560" y="4280040"/>
            <a:ext cx="3416400" cy="1650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10"/>
          <a:stretch/>
        </p:blipFill>
        <p:spPr>
          <a:xfrm>
            <a:off x="4152960" y="4381560"/>
            <a:ext cx="4673520" cy="266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1"/>
          <a:stretch/>
        </p:blipFill>
        <p:spPr>
          <a:xfrm>
            <a:off x="4152960" y="4699080"/>
            <a:ext cx="4622760" cy="266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12"/>
          <a:stretch/>
        </p:blipFill>
        <p:spPr>
          <a:xfrm>
            <a:off x="4152960" y="5029200"/>
            <a:ext cx="4622760" cy="25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13"/>
          <a:stretch/>
        </p:blipFill>
        <p:spPr>
          <a:xfrm>
            <a:off x="4152960" y="5346720"/>
            <a:ext cx="4736880" cy="254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14"/>
          <a:stretch/>
        </p:blipFill>
        <p:spPr>
          <a:xfrm>
            <a:off x="4152960" y="5664240"/>
            <a:ext cx="1790640" cy="253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15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2882880" cy="558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20560" y="1092240"/>
            <a:ext cx="2756160" cy="1663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3340080" y="1041480"/>
            <a:ext cx="1028880" cy="1714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4"/>
          <a:stretch/>
        </p:blipFill>
        <p:spPr>
          <a:xfrm>
            <a:off x="4546440" y="1092240"/>
            <a:ext cx="1409760" cy="166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5"/>
          <a:stretch/>
        </p:blipFill>
        <p:spPr>
          <a:xfrm>
            <a:off x="6159600" y="1143000"/>
            <a:ext cx="2539800" cy="254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6"/>
          <a:stretch/>
        </p:blipFill>
        <p:spPr>
          <a:xfrm>
            <a:off x="6159600" y="1460520"/>
            <a:ext cx="2501640" cy="266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7"/>
          <a:stretch/>
        </p:blipFill>
        <p:spPr>
          <a:xfrm>
            <a:off x="6159600" y="1778040"/>
            <a:ext cx="2489040" cy="266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8"/>
          <a:stretch/>
        </p:blipFill>
        <p:spPr>
          <a:xfrm>
            <a:off x="6159600" y="2095560"/>
            <a:ext cx="2501640" cy="266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9"/>
          <a:stretch/>
        </p:blipFill>
        <p:spPr>
          <a:xfrm>
            <a:off x="6159600" y="2425680"/>
            <a:ext cx="1270080" cy="254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10"/>
          <a:stretch/>
        </p:blipFill>
        <p:spPr>
          <a:xfrm>
            <a:off x="3137040" y="3517920"/>
            <a:ext cx="3238200" cy="317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11"/>
          <a:stretch/>
        </p:blipFill>
        <p:spPr>
          <a:xfrm>
            <a:off x="457200" y="393696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12"/>
          <a:stretch/>
        </p:blipFill>
        <p:spPr>
          <a:xfrm>
            <a:off x="2527200" y="3936960"/>
            <a:ext cx="1892520" cy="135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13"/>
          <a:stretch/>
        </p:blipFill>
        <p:spPr>
          <a:xfrm>
            <a:off x="4737240" y="3949560"/>
            <a:ext cx="1815840" cy="1346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14"/>
          <a:stretch/>
        </p:blipFill>
        <p:spPr>
          <a:xfrm>
            <a:off x="6858000" y="39369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15"/>
          <a:stretch/>
        </p:blipFill>
        <p:spPr>
          <a:xfrm>
            <a:off x="469800" y="5397480"/>
            <a:ext cx="8420040" cy="254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16"/>
          <a:stretch/>
        </p:blipFill>
        <p:spPr>
          <a:xfrm>
            <a:off x="469800" y="5715000"/>
            <a:ext cx="4102200" cy="254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17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01320" y="3606840"/>
            <a:ext cx="425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6.2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682200" y="3898800"/>
            <a:ext cx="8323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0.7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8.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520640" y="3314880"/>
            <a:ext cx="425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32.5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2028600" y="3467160"/>
            <a:ext cx="425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8.9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561760" y="3606840"/>
            <a:ext cx="425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6.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400200" y="3822840"/>
            <a:ext cx="425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15.9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4047840" y="3467160"/>
            <a:ext cx="425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1.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835160" y="3390840"/>
            <a:ext cx="425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2.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5419440" y="4038480"/>
            <a:ext cx="4258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12.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765440" y="1447920"/>
            <a:ext cx="674352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295280" y="3390840"/>
            <a:ext cx="3073680" cy="10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880240" y="3390840"/>
            <a:ext cx="231120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91960" y="38160"/>
            <a:ext cx="3403800" cy="55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238560" y="1193760"/>
            <a:ext cx="876240" cy="939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4280040" y="2095560"/>
            <a:ext cx="1295280" cy="36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571680" y="3124080"/>
            <a:ext cx="1612800" cy="149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5"/>
          <a:stretch/>
        </p:blipFill>
        <p:spPr>
          <a:xfrm>
            <a:off x="4280040" y="3975120"/>
            <a:ext cx="1295280" cy="355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6"/>
          <a:stretch/>
        </p:blipFill>
        <p:spPr>
          <a:xfrm>
            <a:off x="4280040" y="5842080"/>
            <a:ext cx="1295280" cy="3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7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4587480" y="1663560"/>
            <a:ext cx="36648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Black"/>
              </a:rPr>
              <a:t>ccunm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99"/>
                </a:solidFill>
                <a:latin typeface="Arial Black"/>
              </a:rPr>
              <a:t>sh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4571280" y="3556080"/>
            <a:ext cx="3849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Black"/>
              </a:rPr>
              <a:t>ing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99"/>
                </a:solidFill>
                <a:latin typeface="Arial Black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99"/>
                </a:solidFill>
                <a:latin typeface="Arial Black"/>
              </a:rPr>
              <a:t>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4465080" y="5423040"/>
            <a:ext cx="225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Black"/>
              </a:rPr>
              <a:t>a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99"/>
                </a:solidFill>
                <a:latin typeface="Arial Black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99"/>
                </a:solidFill>
                <a:latin typeface="Arial Black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14480" y="38160"/>
            <a:ext cx="3327120" cy="2514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930320" y="2819520"/>
            <a:ext cx="6642360" cy="3340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26360" y="6566040"/>
            <a:ext cx="102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536840" y="2413080"/>
            <a:ext cx="7111800" cy="3835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380880" y="6464160"/>
            <a:ext cx="876312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126360" y="6566040"/>
            <a:ext cx="204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8:00:47Z</dcterms:created>
  <dc:creator/>
  <dc:description/>
  <cp:keywords>幻灯片之家 http:/www.eeppt.com</cp:keywords>
  <dc:language>en-US</dc:language>
  <cp:lastModifiedBy/>
  <dcterms:modified xsi:type="dcterms:W3CDTF">2015-07-12T08:57:0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