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371C-F2D5-4B38-A12D-BE02B54B0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B94C-24C3-403E-BE52-D95CE813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81A8-B69E-44EF-B495-7486160A9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4C88-60BD-4CD1-8BAB-2C1AC171F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A9A2-ED34-48F2-AE5E-0A4B31E4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4F2A-5C3E-419D-BCEC-873E1E3E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1F8B-147D-4BA5-B613-5D6044A7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F034-3140-4385-88C9-87374F21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FBBF-7D30-4F8C-B83E-25B7B700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FF07-B92A-486B-991C-54385C85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9CED-041F-4256-AD5F-1D56A57A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FFA1-DDDD-490C-B7E5-6EE2DE68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CEBB-4A29-4B75-9801-D9997E3E60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57168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8"/>
          <p:cNvSpPr/>
          <p:nvPr/>
        </p:nvSpPr>
        <p:spPr>
          <a:xfrm>
            <a:off x="62125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37836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12117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5302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63560" y="4221000"/>
            <a:ext cx="22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素材包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9"/>
          <p:cNvSpPr/>
          <p:nvPr/>
        </p:nvSpPr>
        <p:spPr>
          <a:xfrm>
            <a:off x="57121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33548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414072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84528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43549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606960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24260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1857240" y="40719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44978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68551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84528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2500200" y="31431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57837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456912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41407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9486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292608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54979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31406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57837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52837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26406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55695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292608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42836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71409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18547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4720" y="162864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9BF2-032D-4515-B1C4-CF11870311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614088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9"/>
          <p:cNvSpPr/>
          <p:nvPr/>
        </p:nvSpPr>
        <p:spPr>
          <a:xfrm>
            <a:off x="41407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/>
          <p:cNvSpPr/>
          <p:nvPr/>
        </p:nvSpPr>
        <p:spPr>
          <a:xfrm>
            <a:off x="30690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/>
  <dc:description/>
  <cp:keywords>幻灯片之家 http:/www.eeppt.com</cp:keywords>
  <dc:language>en-US</dc:language>
  <cp:lastModifiedBy/>
  <dcterms:modified xsi:type="dcterms:W3CDTF">2015-07-10T01:16:46Z</dcterms:modified>
  <cp:revision>4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