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4BB6-22E8-4378-8D81-969B4A89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0DA1-F240-4CC8-93CE-97C0F26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E82-A4F9-4029-ACA1-CA94601C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241-2629-442C-8437-E724DBB8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1D6-E03D-4F50-8EAD-189D8267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78B-7EB8-4791-B559-C59AB5CF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386-849B-4337-9350-A02936D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2296-C51A-4C51-ADF8-28C76B5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1D7-3C15-4B93-8DB5-73B6ACD3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8F7-8984-4908-A1FC-0BFAC23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8A6-EC22-4DB5-B746-04D418B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77B-20B7-480B-BA3C-251ED4F4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 indent="39996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371600" indent="-457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28800" indent="-9144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BF22-CC8A-465D-B000-B0EEE7EF093A}" type="datetime">
              <a:rPr b="0" lang="en-US" sz="1100" spc="-1" strike="noStrike">
                <a:solidFill>
                  <a:srgbClr val="c5bb9b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5bb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87D3-46F4-4CBD-B7A3-68B0676C281D}" type="slidenum">
              <a:rPr b="1" lang="en-US" sz="1200" spc="-1" strike="noStrike">
                <a:solidFill>
                  <a:srgbClr val="c5bb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flourish2.png"/>
          <p:cNvPicPr/>
          <p:nvPr/>
        </p:nvPicPr>
        <p:blipFill>
          <a:blip r:embed="rId1">
            <a:lum bright="-14000"/>
          </a:blip>
          <a:stretch/>
        </p:blipFill>
        <p:spPr>
          <a:xfrm>
            <a:off x="36360" y="278136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汉仪大宋简"/>
                <a:ea typeface="汉仪大宋简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0" y="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302080"/>
            <a:ext cx="80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50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86960" y="2349360"/>
            <a:ext cx="269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 花边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aramond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aramond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aramond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6a27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670-75EC-455A-BD4B-A4165EBE6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3:58:00Z</dcterms:created>
  <dc:creator/>
  <dc:description/>
  <cp:keywords>幻灯片之家 http:/www.eeppt.com</cp:keywords>
  <dc:language>en-US</dc:language>
  <cp:lastModifiedBy/>
  <dcterms:modified xsi:type="dcterms:W3CDTF">2015-07-10T01:04:04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