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2961-238A-4224-91BF-A10A3097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939-FD68-4199-8402-D641596A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4C5-7085-4506-B906-AF2E7A1D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20A0-F3CB-4C17-86E1-2053B39D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A464-AE67-4C59-A1FC-641A8185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2F64-4662-4B59-8362-20E4963E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3C0F-FEDC-4783-ABA4-26938636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9E7-52E4-485C-BC19-553276F7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95EF-04D3-43B0-AFAD-778DFBAC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0C31-0B08-4249-AD0C-E90B8FEC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102-F3F4-4D29-9A27-025EACBE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6EE-E1C2-4064-859B-F59C08E2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D7C1-FCA1-41A7-B47C-2E36B5B0AD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357720" y="521496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364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89920" y="263700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合集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686-4DFA-4F40-B2E9-9C427EAF11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cp:keywords>幻灯片之家 http:/www.eeppt.com</cp:keywords>
  <dc:language>en-US</dc:language>
  <cp:lastModifiedBy/>
  <dcterms:modified xsi:type="dcterms:W3CDTF">2015-07-10T01:46:40Z</dcterms:modified>
  <cp:revision>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