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521-4A6E-4F59-9709-5A2B0D81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415-B2C2-4117-B5FD-F1535BFA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1A1-6669-4428-B3C3-745B3046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7AD-B243-4A93-BF53-BB90ADCE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FC7-1CA6-4AE5-80E5-835DD3A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248-F3FF-433D-812D-2A20F17C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F55-445C-4F73-89CF-F560099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7C3-BEEF-47CB-B798-69353C3B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DB6-ED7C-4C5B-A3E8-756784B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87A-4D05-4F5A-BEF7-E26DFA56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39F-9BC2-446A-B8BE-4676CF1A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BB4-9575-4776-955F-27A65DB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609C-E2DE-4DD4-90C7-6B15F1875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6,1,&#24187;&#28783;&#29255; 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qiye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-458640"/>
            <a:ext cx="7812000" cy="695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67000" y="119700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简历通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F1BCA-8816-4A1F-9A8C-96F26BFFFA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5000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个人简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性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李历显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人才类型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普通求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性别：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男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年龄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民族：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汉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文化程度：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大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身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体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178cm 62kg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户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东省佛山市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业学校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州大学继续教育学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家庭住址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东省佛山市大沥镇黄歧街道教表东风新一村二巷横一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邮编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52824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爱好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打篮球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个人手机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0757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13925421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婚姻状况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未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求职类型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均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工作年限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修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各种办公室软件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三联素材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网页设计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JSP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C+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人从大专开始已经有做兼职，各方面发展得比较平均，有一定的工作能力跟应变能力，刻苦耐劳善于跟别人沟通，还有相当的销售能力能适应各个职位。更在工作的同时热爱学习跟运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自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人在学习阶段，一直有去做一些兼职，如必胜客，各名牌专卖店担任销售员，有一定的销售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能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语语种：英语                国语水平：良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英语水平：一般                    粤语水平：精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8720" y="62064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B06-5104-4E32-8343-333800E962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5:37:54Z</dcterms:created>
  <dc:creator/>
  <dc:description/>
  <cp:keywords>幻灯片之家 http:/www.eeppt.com</cp:keywords>
  <dc:language>en-US</dc:language>
  <cp:lastModifiedBy/>
  <dcterms:modified xsi:type="dcterms:W3CDTF">2015-07-06T12:44:3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