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E4F-02A7-4469-8581-19A4B972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854-3B4B-41C7-96E4-9A348FF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C47-BF5A-412F-9341-6BCEAABE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695-2D6C-4E30-8367-416D1FFA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B40-BCD9-43AF-80B6-83ADB392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E75-B403-46CC-9226-58FBF32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6F7-FA63-4E30-99DA-4E834AB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E36-85DE-4FD4-981A-AB61BD8E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5C4-4F7A-470C-95AD-2A240EE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6FF-28A1-4E3B-8AB3-AE04FD8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EF3-8A67-4513-BFA2-88D2FC0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7AD-25F1-44EE-AA98-E07E353F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3D3-4309-4EBA-82AB-68E9BE2174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C945-F721-40D3-9FF2-862988F294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素材图片1\适合工作业绩汇报的3D小人素材图片\适合工作业绩汇报的3D小人素材图片-www.51pptmoban.com (2).jpg"/>
          <p:cNvPicPr/>
          <p:nvPr/>
        </p:nvPicPr>
        <p:blipFill>
          <a:blip r:embed="rId1"/>
          <a:stretch/>
        </p:blipFill>
        <p:spPr>
          <a:xfrm>
            <a:off x="-190440" y="-133344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4720" y="285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66080" y="90972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卡通小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图片1\适合工作业绩汇报的3D小人素材图片\适合工作业绩汇报的3D小人素材图片-www.51pptmoban.com (3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12A-D85C-4F3C-8EF9-AA6FCC855F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Users\Administrator\Desktop\素材图片1\适合工作业绩汇报的3D小人素材图片\适合工作业绩汇报的3D小人素材图片-www.51pptmoban.com (42).jpg"/>
          <p:cNvPicPr/>
          <p:nvPr/>
        </p:nvPicPr>
        <p:blipFill>
          <a:blip r:embed="rId1"/>
          <a:stretch/>
        </p:blipFill>
        <p:spPr>
          <a:xfrm>
            <a:off x="0" y="-276120"/>
            <a:ext cx="9501120" cy="77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06:44:00Z</dcterms:created>
  <dc:creator/>
  <dc:description/>
  <cp:keywords>幻灯片之家 http:/www.eeppt.com</cp:keywords>
  <dc:language>en-US</dc:language>
  <cp:lastModifiedBy/>
  <dcterms:modified xsi:type="dcterms:W3CDTF">2015-07-10T01:51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