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EEB-9ABA-4EEA-88D1-D85413D4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1C0-69FA-489B-8869-F1A2A8C0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61B-8784-43F8-A907-3AA777E4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13D-5AFC-4185-82A8-466165B1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A97-9847-42B2-A2FE-18044686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282-E58B-40A7-9F45-2D959FA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906-0EF0-474D-9F88-9E7659CC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553-5F68-45D9-B0F7-0EC70578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C84-E74F-438D-A47A-010FF72F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C5D-7BD5-4EDC-B40C-75D24622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F02-2C5E-4D33-BDA3-54AC2D8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7F1-28FB-4F3A-877F-E14F7080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8B05-FD3F-4BB6-A783-85BD70DEE6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09FD-2386-4E4B-8500-53A0892854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大宝库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【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.glzy8.com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】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3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32000" y="22827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4480" y="134604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免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7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193680" y="1557360"/>
            <a:ext cx="2747880" cy="3355920"/>
            <a:chOff x="193680" y="1557360"/>
            <a:chExt cx="2747880" cy="3355920"/>
          </a:xfrm>
        </p:grpSpPr>
        <p:sp>
          <p:nvSpPr>
            <p:cNvPr id="72" name="圆角矩形 53"/>
            <p:cNvSpPr/>
            <p:nvPr/>
          </p:nvSpPr>
          <p:spPr>
            <a:xfrm>
              <a:off x="193680" y="1557360"/>
              <a:ext cx="2747880" cy="3355920"/>
            </a:xfrm>
            <a:custGeom>
              <a:avLst/>
              <a:gdLst>
                <a:gd name="textAreaLeft" fmla="*/ 47520 w 2747880"/>
                <a:gd name="textAreaRight" fmla="*/ 2700360 w 27478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79">
                  <a:moveTo>
                    <a:pt x="1278" y="0"/>
                  </a:moveTo>
                  <a:arcTo wR="1278" hR="1278" stAng="16200000" swAng="-5400000"/>
                  <a:lnTo>
                    <a:pt x="0" y="25101"/>
                  </a:lnTo>
                  <a:arcTo wR="1278" hR="1278" stAng="10800000" swAng="-5400000"/>
                  <a:lnTo>
                    <a:pt x="20322" y="26379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1"/>
          <p:cNvGrpSpPr/>
          <p:nvPr/>
        </p:nvGrpSpPr>
        <p:grpSpPr>
          <a:xfrm>
            <a:off x="3133800" y="1557360"/>
            <a:ext cx="2747880" cy="3355920"/>
            <a:chOff x="3133800" y="1557360"/>
            <a:chExt cx="2747880" cy="3355920"/>
          </a:xfrm>
        </p:grpSpPr>
        <p:sp>
          <p:nvSpPr>
            <p:cNvPr id="74" name="圆角矩形 65"/>
            <p:cNvSpPr/>
            <p:nvPr/>
          </p:nvSpPr>
          <p:spPr>
            <a:xfrm>
              <a:off x="3133800" y="1557360"/>
              <a:ext cx="2747880" cy="3355920"/>
            </a:xfrm>
            <a:custGeom>
              <a:avLst/>
              <a:gdLst>
                <a:gd name="textAreaLeft" fmla="*/ 47520 w 2747880"/>
                <a:gd name="textAreaRight" fmla="*/ 2700360 w 27478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79">
                  <a:moveTo>
                    <a:pt x="1278" y="0"/>
                  </a:moveTo>
                  <a:arcTo wR="1278" hR="1278" stAng="16200000" swAng="-5400000"/>
                  <a:lnTo>
                    <a:pt x="0" y="25101"/>
                  </a:lnTo>
                  <a:arcTo wR="1278" hR="1278" stAng="10800000" swAng="-5400000"/>
                  <a:lnTo>
                    <a:pt x="20322" y="26379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6073920" y="1557360"/>
            <a:ext cx="2746080" cy="3355920"/>
            <a:chOff x="6073920" y="1557360"/>
            <a:chExt cx="2746080" cy="3355920"/>
          </a:xfrm>
        </p:grpSpPr>
        <p:sp>
          <p:nvSpPr>
            <p:cNvPr id="76" name="圆角矩形 71"/>
            <p:cNvSpPr/>
            <p:nvPr/>
          </p:nvSpPr>
          <p:spPr>
            <a:xfrm>
              <a:off x="6073920" y="1557360"/>
              <a:ext cx="2746080" cy="3355920"/>
            </a:xfrm>
            <a:custGeom>
              <a:avLst/>
              <a:gdLst>
                <a:gd name="textAreaLeft" fmla="*/ 47520 w 2746080"/>
                <a:gd name="textAreaRight" fmla="*/ 2698560 w 27460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96">
                  <a:moveTo>
                    <a:pt x="1278" y="0"/>
                  </a:moveTo>
                  <a:arcTo wR="1278" hR="1278" stAng="16200000" swAng="-5400000"/>
                  <a:lnTo>
                    <a:pt x="0" y="25118"/>
                  </a:lnTo>
                  <a:arcTo wR="1278" hR="1278" stAng="10800000" swAng="-5400000"/>
                  <a:lnTo>
                    <a:pt x="20322" y="26396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B1E-A2B5-44DE-B975-AECE853D2C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/>
  <dc:description/>
  <cp:keywords>幻灯片之家 http:/www.eeppt.com</cp:keywords>
  <dc:language>en-US</dc:language>
  <cp:lastModifiedBy/>
  <dcterms:modified xsi:type="dcterms:W3CDTF">2015-07-12T10:25:44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