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0DE-0233-4A3D-A442-0A517F3E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370-DEED-4E8A-9236-4DFB9CEE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8460-179C-4665-B41E-5461914E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072-A16D-4189-A5A1-A7E1BF993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C06-4EDF-440C-96EE-ED4D12B9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F61-16DB-4740-9A7B-16A59A77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CC4E-A479-4ED7-A665-A20D045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F2E-0A8D-4ADD-B377-BF29A1D2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978-244D-423B-8685-63FCB8DE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7F75-B157-4776-9A1E-9E948548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E28-F7E3-40DA-B7E7-2846D2B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A3F-E7B2-42FD-A0AA-0D42FD82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4269-FB50-4ED7-8532-94F397D41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泉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762120" y="74772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07680" y="1143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泉水教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4"/>
          <p:cNvSpPr/>
          <p:nvPr/>
        </p:nvSpPr>
        <p:spPr>
          <a:xfrm>
            <a:off x="2209680" y="541008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647712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510552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3657600" y="54100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8"/>
          <p:cNvSpPr/>
          <p:nvPr/>
        </p:nvSpPr>
        <p:spPr>
          <a:xfrm>
            <a:off x="8610480" y="6400800"/>
            <a:ext cx="304920" cy="304920"/>
          </a:xfrm>
          <a:custGeom>
            <a:avLst/>
            <a:gdLst/>
            <a:ahLst/>
            <a:rect l="l" t="t" r="r" b="b"/>
            <a:pathLst>
              <a:path w="304800" h="304800">
                <a:moveTo>
                  <a:pt x="0" y="116423"/>
                </a:moveTo>
                <a:lnTo>
                  <a:pt x="116424" y="116424"/>
                </a:lnTo>
                <a:lnTo>
                  <a:pt x="152400" y="0"/>
                </a:lnTo>
                <a:lnTo>
                  <a:pt x="188376" y="116424"/>
                </a:lnTo>
                <a:lnTo>
                  <a:pt x="304800" y="116423"/>
                </a:lnTo>
                <a:lnTo>
                  <a:pt x="210611" y="188376"/>
                </a:lnTo>
                <a:lnTo>
                  <a:pt x="246588" y="304799"/>
                </a:lnTo>
                <a:lnTo>
                  <a:pt x="152400" y="232845"/>
                </a:lnTo>
                <a:lnTo>
                  <a:pt x="58212" y="304799"/>
                </a:lnTo>
                <a:lnTo>
                  <a:pt x="94189" y="188376"/>
                </a:lnTo>
                <a:lnTo>
                  <a:pt x="0" y="11642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1905120" y="1676520"/>
            <a:ext cx="72388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自己喜欢的段落，读一读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泉水流到了哪里？看见了什么？说         了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你知道了泉水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录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685800" y="914400"/>
            <a:ext cx="8229600" cy="1191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水流进山腰的水池，山里的姐姐提着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瓦罐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打水。泉水说：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吧，来吧！我的水很多很多，山上有一座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然水塔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7"/>
          <p:cNvSpPr/>
          <p:nvPr/>
        </p:nvSpPr>
        <p:spPr>
          <a:xfrm>
            <a:off x="5867280" y="3352680"/>
            <a:ext cx="160020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172200" y="37339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7010280" y="5715000"/>
            <a:ext cx="914400" cy="533520"/>
          </a:xfrm>
          <a:custGeom>
            <a:avLst/>
            <a:gdLst>
              <a:gd name="textAreaLeft" fmla="*/ 33120 w 914400"/>
              <a:gd name="textAreaRight" fmla="*/ 881280 w 91440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60" y="1350"/>
                </a:lnTo>
                <a:lnTo>
                  <a:pt x="1350" y="135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60" y="20250"/>
                </a:lnTo>
                <a:lnTo>
                  <a:pt x="35660" y="135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5660" y="2025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010" h="21600">
                <a:moveTo>
                  <a:pt x="14987" y="10800"/>
                </a:moveTo>
                <a:lnTo>
                  <a:pt x="25549" y="3756"/>
                </a:lnTo>
                <a:lnTo>
                  <a:pt x="25549" y="17844"/>
                </a:lnTo>
                <a:close/>
              </a:path>
              <a:path fill="darken" w="37010" h="21600">
                <a:moveTo>
                  <a:pt x="11461" y="3756"/>
                </a:moveTo>
                <a:lnTo>
                  <a:pt x="13132" y="3756"/>
                </a:lnTo>
                <a:lnTo>
                  <a:pt x="13132" y="17844"/>
                </a:lnTo>
                <a:lnTo>
                  <a:pt x="11461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00ADA884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152280" y="4452840"/>
            <a:ext cx="8839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流过山间的平地，火红的杜鹃花照见了自己的美丽的身影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照吧，照吧！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的水很清很清，像一面明亮的大镜子。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6248520" y="1752480"/>
            <a:ext cx="190476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629400" y="2057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380880" y="228600"/>
            <a:ext cx="609840" cy="380880"/>
          </a:xfrm>
          <a:custGeom>
            <a:avLst/>
            <a:gdLst>
              <a:gd name="textAreaLeft" fmla="*/ 23760 w 609840"/>
              <a:gd name="textAreaRight" fmla="*/ 586080 w 60984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72" h="21600">
                <a:moveTo>
                  <a:pt x="0" y="0"/>
                </a:moveTo>
                <a:lnTo>
                  <a:pt x="34572" y="0"/>
                </a:lnTo>
                <a:lnTo>
                  <a:pt x="34572" y="21600"/>
                </a:lnTo>
                <a:lnTo>
                  <a:pt x="0" y="21600"/>
                </a:lnTo>
                <a:close/>
              </a:path>
              <a:path fill="lightenLess" w="34572" h="21600">
                <a:moveTo>
                  <a:pt x="0" y="0"/>
                </a:moveTo>
                <a:lnTo>
                  <a:pt x="34572" y="0"/>
                </a:lnTo>
                <a:lnTo>
                  <a:pt x="33222" y="1350"/>
                </a:lnTo>
                <a:lnTo>
                  <a:pt x="1350" y="1350"/>
                </a:lnTo>
                <a:close/>
              </a:path>
              <a:path fill="darken" w="34572" h="21600">
                <a:moveTo>
                  <a:pt x="34572" y="0"/>
                </a:moveTo>
                <a:lnTo>
                  <a:pt x="34572" y="21600"/>
                </a:lnTo>
                <a:lnTo>
                  <a:pt x="33222" y="20250"/>
                </a:lnTo>
                <a:lnTo>
                  <a:pt x="33222" y="1350"/>
                </a:lnTo>
                <a:close/>
              </a:path>
              <a:path fill="darkenLess" w="34572" h="21600">
                <a:moveTo>
                  <a:pt x="345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22" y="20250"/>
                </a:lnTo>
                <a:close/>
              </a:path>
              <a:path fill="lighten" w="345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72" h="21600">
                <a:moveTo>
                  <a:pt x="13769" y="10800"/>
                </a:moveTo>
                <a:lnTo>
                  <a:pt x="24330" y="3756"/>
                </a:lnTo>
                <a:lnTo>
                  <a:pt x="24330" y="17844"/>
                </a:lnTo>
                <a:close/>
              </a:path>
              <a:path fill="darken" w="34572" h="21600">
                <a:moveTo>
                  <a:pt x="10242" y="3756"/>
                </a:moveTo>
                <a:lnTo>
                  <a:pt x="11914" y="3756"/>
                </a:lnTo>
                <a:lnTo>
                  <a:pt x="11914" y="17844"/>
                </a:lnTo>
                <a:lnTo>
                  <a:pt x="1024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三学苑"/>
          <p:cNvPicPr/>
          <p:nvPr/>
        </p:nvPicPr>
        <p:blipFill>
          <a:blip r:embed="rId1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3" descr="00B319DB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0" y="4524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来到山坡的果园里，果树大口大口地喝水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喝吧，喝吧！我的水很甜很甜，喝饱了，你们能结出更大更甜的果子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5334120" y="1371600"/>
            <a:ext cx="2361960" cy="175248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943600" y="175248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/>
          <p:cNvSpPr/>
          <p:nvPr/>
        </p:nvSpPr>
        <p:spPr>
          <a:xfrm>
            <a:off x="533520" y="304920"/>
            <a:ext cx="609480" cy="380880"/>
          </a:xfrm>
          <a:custGeom>
            <a:avLst/>
            <a:gdLst>
              <a:gd name="textAreaLeft" fmla="*/ 23760 w 609480"/>
              <a:gd name="textAreaRight" fmla="*/ 585720 w 60948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202" y="1350"/>
                </a:lnTo>
                <a:lnTo>
                  <a:pt x="1350" y="135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202" y="20250"/>
                </a:lnTo>
                <a:lnTo>
                  <a:pt x="33202" y="135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202" y="2025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552" h="21600">
                <a:moveTo>
                  <a:pt x="13758" y="10800"/>
                </a:moveTo>
                <a:lnTo>
                  <a:pt x="24320" y="3756"/>
                </a:lnTo>
                <a:lnTo>
                  <a:pt x="24320" y="17844"/>
                </a:lnTo>
                <a:close/>
              </a:path>
              <a:path fill="darken" w="34552" h="21600">
                <a:moveTo>
                  <a:pt x="10232" y="3756"/>
                </a:moveTo>
                <a:lnTo>
                  <a:pt x="11903" y="3756"/>
                </a:lnTo>
                <a:lnTo>
                  <a:pt x="11903" y="17844"/>
                </a:lnTo>
                <a:lnTo>
                  <a:pt x="1023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三学苑"/>
          <p:cNvPicPr/>
          <p:nvPr/>
        </p:nvPicPr>
        <p:blipFill>
          <a:blip r:embed="rId1"/>
          <a:stretch/>
        </p:blipFill>
        <p:spPr>
          <a:xfrm>
            <a:off x="0" y="0"/>
            <a:ext cx="9144000" cy="14778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00E86929"/>
          <p:cNvPicPr/>
          <p:nvPr/>
        </p:nvPicPr>
        <p:blipFill>
          <a:blip r:embed="rId2"/>
          <a:srcRect l="5122" t="7424" r="5122" b="91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304920" y="4800600"/>
            <a:ext cx="8458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泉水穿过静静的山谷，画眉鸟在尽情地歌唱。泉水说：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唱吧，唱吧！我的琴声很美很美，正好为你清脆的歌声伴奏。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>
            <a:off x="6248520" y="1752480"/>
            <a:ext cx="1904760" cy="16765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629400" y="20574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609480" y="304920"/>
            <a:ext cx="533520" cy="304560"/>
          </a:xfrm>
          <a:custGeom>
            <a:avLst/>
            <a:gdLst>
              <a:gd name="textAreaLeft" fmla="*/ 18720 w 533520"/>
              <a:gd name="textAreaRight" fmla="*/ 514800 w 533520"/>
              <a:gd name="textAreaTop" fmla="*/ 18720 h 304560"/>
              <a:gd name="textAreaBottom" fmla="*/ 285840 h 304560"/>
            </a:gdLst>
            <a:ahLst/>
            <a:rect l="textAreaLeft" t="textAreaTop" r="textAreaRight" b="textAreaBottom"/>
            <a:pathLst>
              <a:path w="37819" h="21600">
                <a:moveTo>
                  <a:pt x="0" y="0"/>
                </a:moveTo>
                <a:lnTo>
                  <a:pt x="37819" y="0"/>
                </a:lnTo>
                <a:lnTo>
                  <a:pt x="37819" y="21600"/>
                </a:lnTo>
                <a:lnTo>
                  <a:pt x="0" y="21600"/>
                </a:lnTo>
                <a:close/>
              </a:path>
              <a:path fill="lightenLess" w="37819" h="21600">
                <a:moveTo>
                  <a:pt x="0" y="0"/>
                </a:moveTo>
                <a:lnTo>
                  <a:pt x="37819" y="0"/>
                </a:lnTo>
                <a:lnTo>
                  <a:pt x="36469" y="1350"/>
                </a:lnTo>
                <a:lnTo>
                  <a:pt x="1350" y="1350"/>
                </a:lnTo>
                <a:close/>
              </a:path>
              <a:path fill="darken" w="37819" h="21600">
                <a:moveTo>
                  <a:pt x="37819" y="0"/>
                </a:moveTo>
                <a:lnTo>
                  <a:pt x="37819" y="21600"/>
                </a:lnTo>
                <a:lnTo>
                  <a:pt x="36469" y="20250"/>
                </a:lnTo>
                <a:lnTo>
                  <a:pt x="36469" y="1350"/>
                </a:lnTo>
                <a:close/>
              </a:path>
              <a:path fill="darkenLess" w="37819" h="21600">
                <a:moveTo>
                  <a:pt x="3781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69" y="20250"/>
                </a:lnTo>
                <a:close/>
              </a:path>
              <a:path fill="lighten" w="3781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819" h="21600">
                <a:moveTo>
                  <a:pt x="15392" y="10800"/>
                </a:moveTo>
                <a:lnTo>
                  <a:pt x="25953" y="3756"/>
                </a:lnTo>
                <a:lnTo>
                  <a:pt x="25953" y="17844"/>
                </a:lnTo>
                <a:close/>
              </a:path>
              <a:path fill="darken" w="37819" h="21600">
                <a:moveTo>
                  <a:pt x="11866" y="3756"/>
                </a:moveTo>
                <a:lnTo>
                  <a:pt x="13537" y="3756"/>
                </a:lnTo>
                <a:lnTo>
                  <a:pt x="13537" y="17844"/>
                </a:lnTo>
                <a:lnTo>
                  <a:pt x="11866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1933200" y="1816200"/>
            <a:ext cx="5831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66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丁冬，丁冬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欢快的泉水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弹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琴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跑下山去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跑呀，跑呀，一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遇到了好多同伴。他们互相问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好！你好！他们互相约定：大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里见！大海里见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2819520" y="3276720"/>
            <a:ext cx="60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泉水流过（     ），他看见（      ），泉水说：“（             ）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523880" y="138600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丁冬，丁冬</a:t>
            </a:r>
            <a:r>
              <a:rPr b="1" lang="en-US" sz="3200" spc="-1" strike="noStrike">
                <a:solidFill>
                  <a:srgbClr val="06521e"/>
                </a:solidFill>
                <a:latin typeface="Arial"/>
                <a:ea typeface="楷体_GB2312"/>
              </a:rPr>
              <a:t>………</a:t>
            </a: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一路上还会看见什么？它会做些什么？又会说些什么？</a:t>
            </a:r>
            <a:r>
              <a:rPr b="0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613080" y="2438280"/>
            <a:ext cx="8506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底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0" y="232560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流进小溪里，溪边的柳树大口大口地喝着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我的水很甜，很甜，喝饱了，你的长辫子会长得更长，更绿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过一片片森林，森林里的小动物们都来喝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我的水很甜，很甜，喝饱了，你们会长的更强壮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过小鹿的家门口，小鹿用泉水浇它种的玫瑰花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浇吧，浇吧，你的玫瑰花浇了我甜甜的泉水，会开出美丽的花朵的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泉水流过小笋芽的家门口，小笋芽大口大口地喝着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喝饱了，你会很快长成健壮的大竹子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泉水流过田野里，田野里的喇叭花使劲地喝着泉水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喝吧，喝吧，喝饱了，你的喇叭会吹得更响亮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   泉水流进大河里，河里的小鱼在欢快地跳跃，泉水说：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跳吧，跳吧，我的胸怀很大很大，正好给你做跳舞的舞台。</a:t>
            </a:r>
            <a:r>
              <a:rPr b="0" lang="zh-CN" sz="2400" spc="-1" strike="noStrike">
                <a:solidFill>
                  <a:srgbClr val="06521e"/>
                </a:solidFill>
                <a:latin typeface="Arial"/>
                <a:ea typeface="楷体_GB2312"/>
              </a:rPr>
              <a:t>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3376800" y="1989000"/>
            <a:ext cx="3472560" cy="4042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泉水泉水你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要流进小溪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溪水溪水你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要流进江河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江水河水你们要到哪里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Times New Roman"/>
                <a:ea typeface="楷体_GB2312"/>
              </a:rPr>
              <a:t>我们都要流进海洋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3"/>
          <p:cNvSpPr txBox="1"/>
          <p:nvPr/>
        </p:nvSpPr>
        <p:spPr>
          <a:xfrm>
            <a:off x="3780000" y="692280"/>
            <a:ext cx="194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8C0-5EA4-431C-B5EA-1981831002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1447920" y="1066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600200" y="2286000"/>
            <a:ext cx="75438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自读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读准字音，读通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、找出生字，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7"/>
          <p:cNvSpPr/>
          <p:nvPr/>
        </p:nvSpPr>
        <p:spPr>
          <a:xfrm>
            <a:off x="990720" y="26668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完了课文，你喜欢泉水吗？为什么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5"/>
          <p:cNvSpPr/>
          <p:nvPr/>
        </p:nvSpPr>
        <p:spPr>
          <a:xfrm>
            <a:off x="990720" y="2743200"/>
            <a:ext cx="79246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个乐于奉献的人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1905120" y="1642320"/>
            <a:ext cx="6629400" cy="492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ò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ǔ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f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è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0" lang="en-US" sz="3600" spc="-1" strike="noStrike">
                <a:solidFill>
                  <a:srgbClr val="06521e"/>
                </a:solidFill>
                <a:latin typeface="Shruti"/>
                <a:ea typeface="楷体_GB2312"/>
              </a:rPr>
              <a:t>ɡ 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r>
              <a:rPr b="0" lang="en-US" sz="3600" spc="-1" strike="noStrike">
                <a:solidFill>
                  <a:srgbClr val="06521e"/>
                </a:solidFill>
                <a:latin typeface="Shruti"/>
                <a:ea typeface="楷体_GB2312"/>
              </a:rPr>
              <a:t>ɡ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哦　 股　 缝　 罐</a:t>
            </a:r>
            <a:r>
              <a:rPr b="1" lang="zh-CN" sz="5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t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ǎ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d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ù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 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ju</a:t>
            </a:r>
            <a:r>
              <a:rPr b="1" lang="en-US" sz="3600" spc="-1" strike="noStrike">
                <a:solidFill>
                  <a:srgbClr val="06521e"/>
                </a:solidFill>
                <a:latin typeface="宋体"/>
              </a:rPr>
              <a:t>ā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　 </a:t>
            </a:r>
            <a:r>
              <a:rPr b="1" lang="en-US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cu</a:t>
            </a:r>
            <a:r>
              <a:rPr b="1" lang="en-US" sz="3600" spc="-1" strike="noStrike">
                <a:solidFill>
                  <a:srgbClr val="06521e"/>
                </a:solidFill>
                <a:latin typeface="Arial"/>
                <a:ea typeface="楷体_GB2312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塔　 杜　 鹃　 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3635280" y="1125360"/>
            <a:ext cx="24465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楷体_GB2312"/>
              </a:rPr>
              <a:t>会读的字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28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030"/>
          <p:cNvSpPr/>
          <p:nvPr/>
        </p:nvSpPr>
        <p:spPr>
          <a:xfrm>
            <a:off x="1219320" y="1828800"/>
            <a:ext cx="774036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脆  哦  然   缝</a:t>
            </a:r>
            <a:br>
              <a:rPr sz="6600"/>
            </a:br>
            <a:br>
              <a:rPr sz="6600"/>
            </a:br>
            <a:r>
              <a:rPr b="0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罐  股  塔   杜鹃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背景图片1"/>
          <p:cNvPicPr/>
          <p:nvPr/>
        </p:nvPicPr>
        <p:blipFill>
          <a:blip r:embed="rId1"/>
          <a:stretch/>
        </p:blipFill>
        <p:spPr>
          <a:xfrm>
            <a:off x="-304920" y="-1522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WordArt 15"/>
          <p:cNvSpPr txBox="1"/>
          <p:nvPr/>
        </p:nvSpPr>
        <p:spPr>
          <a:xfrm>
            <a:off x="3635280" y="1125360"/>
            <a:ext cx="2613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6000"/>
                    </a:srgbClr>
                  </a:outerShdw>
                </a:effectLst>
                <a:latin typeface="楷体_GB2312"/>
              </a:rPr>
              <a:t>我会读词语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6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838080" y="251460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一股   石缝   瓦罐   水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杜鹃   身影   泉水   清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1295280" y="5105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1981080" y="50292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1981080" y="56386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2514600" y="46483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2438280" y="5562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ē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子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5029200" y="49672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91320" y="495252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5791320" y="5562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6553080" y="47242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è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缝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6705720" y="55627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é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g(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缝衣服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4088160" y="765000"/>
            <a:ext cx="16437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6521e"/>
                </a:solidFill>
                <a:latin typeface="Arial"/>
              </a:rPr>
              <a:t>会写的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3"/>
          <p:cNvGrpSpPr/>
          <p:nvPr/>
        </p:nvGrpSpPr>
        <p:grpSpPr>
          <a:xfrm>
            <a:off x="1835280" y="4255920"/>
            <a:ext cx="6311880" cy="1189080"/>
            <a:chOff x="1835280" y="4255920"/>
            <a:chExt cx="6311880" cy="1189080"/>
          </a:xfrm>
        </p:grpSpPr>
        <p:grpSp>
          <p:nvGrpSpPr>
            <p:cNvPr id="76" name="Group 4"/>
            <p:cNvGrpSpPr/>
            <p:nvPr/>
          </p:nvGrpSpPr>
          <p:grpSpPr>
            <a:xfrm>
              <a:off x="6877080" y="4255920"/>
              <a:ext cx="1270080" cy="1187280"/>
              <a:chOff x="6877080" y="4255920"/>
              <a:chExt cx="1270080" cy="1187280"/>
            </a:xfrm>
          </p:grpSpPr>
          <p:sp>
            <p:nvSpPr>
              <p:cNvPr id="77" name="Rectangle 5"/>
              <p:cNvSpPr/>
              <p:nvPr/>
            </p:nvSpPr>
            <p:spPr>
              <a:xfrm>
                <a:off x="6877080" y="4255920"/>
                <a:ext cx="1270080" cy="1187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6"/>
              <p:cNvSpPr/>
              <p:nvPr/>
            </p:nvSpPr>
            <p:spPr>
              <a:xfrm flipH="1">
                <a:off x="6877080" y="4849560"/>
                <a:ext cx="127008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7"/>
              <p:cNvSpPr/>
              <p:nvPr/>
            </p:nvSpPr>
            <p:spPr>
              <a:xfrm>
                <a:off x="7512480" y="4285080"/>
                <a:ext cx="0" cy="1157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Group 8"/>
            <p:cNvGrpSpPr/>
            <p:nvPr/>
          </p:nvGrpSpPr>
          <p:grpSpPr>
            <a:xfrm>
              <a:off x="5651640" y="4255920"/>
              <a:ext cx="1271520" cy="1189080"/>
              <a:chOff x="5651640" y="4255920"/>
              <a:chExt cx="1271520" cy="1189080"/>
            </a:xfrm>
          </p:grpSpPr>
          <p:sp>
            <p:nvSpPr>
              <p:cNvPr id="81" name="Rectangle 9"/>
              <p:cNvSpPr/>
              <p:nvPr/>
            </p:nvSpPr>
            <p:spPr>
              <a:xfrm>
                <a:off x="565164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 flipH="1">
                <a:off x="565164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1"/>
              <p:cNvSpPr/>
              <p:nvPr/>
            </p:nvSpPr>
            <p:spPr>
              <a:xfrm>
                <a:off x="628776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2"/>
            <p:cNvGrpSpPr/>
            <p:nvPr/>
          </p:nvGrpSpPr>
          <p:grpSpPr>
            <a:xfrm>
              <a:off x="4380120" y="4255920"/>
              <a:ext cx="1271520" cy="1189080"/>
              <a:chOff x="4380120" y="4255920"/>
              <a:chExt cx="1271520" cy="1189080"/>
            </a:xfrm>
          </p:grpSpPr>
          <p:sp>
            <p:nvSpPr>
              <p:cNvPr id="85" name="Rectangle 13"/>
              <p:cNvSpPr/>
              <p:nvPr/>
            </p:nvSpPr>
            <p:spPr>
              <a:xfrm>
                <a:off x="438012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4"/>
              <p:cNvSpPr/>
              <p:nvPr/>
            </p:nvSpPr>
            <p:spPr>
              <a:xfrm flipH="1">
                <a:off x="438012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5"/>
              <p:cNvSpPr/>
              <p:nvPr/>
            </p:nvSpPr>
            <p:spPr>
              <a:xfrm>
                <a:off x="50162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6"/>
            <p:cNvGrpSpPr/>
            <p:nvPr/>
          </p:nvGrpSpPr>
          <p:grpSpPr>
            <a:xfrm>
              <a:off x="3106440" y="4255920"/>
              <a:ext cx="1273680" cy="1189080"/>
              <a:chOff x="3106440" y="4255920"/>
              <a:chExt cx="1273680" cy="1189080"/>
            </a:xfrm>
          </p:grpSpPr>
          <p:sp>
            <p:nvSpPr>
              <p:cNvPr id="89" name="Rectangle 17"/>
              <p:cNvSpPr/>
              <p:nvPr/>
            </p:nvSpPr>
            <p:spPr>
              <a:xfrm>
                <a:off x="3106800" y="4255920"/>
                <a:ext cx="12733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8"/>
              <p:cNvSpPr/>
              <p:nvPr/>
            </p:nvSpPr>
            <p:spPr>
              <a:xfrm flipH="1">
                <a:off x="3106440" y="485064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9"/>
              <p:cNvSpPr/>
              <p:nvPr/>
            </p:nvSpPr>
            <p:spPr>
              <a:xfrm>
                <a:off x="374364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20"/>
            <p:cNvGrpSpPr/>
            <p:nvPr/>
          </p:nvGrpSpPr>
          <p:grpSpPr>
            <a:xfrm>
              <a:off x="1835280" y="4255920"/>
              <a:ext cx="1271520" cy="1189080"/>
              <a:chOff x="1835280" y="4255920"/>
              <a:chExt cx="1271520" cy="1189080"/>
            </a:xfrm>
          </p:grpSpPr>
          <p:sp>
            <p:nvSpPr>
              <p:cNvPr id="93" name="Rectangle 21"/>
              <p:cNvSpPr/>
              <p:nvPr/>
            </p:nvSpPr>
            <p:spPr>
              <a:xfrm>
                <a:off x="1835280" y="4255920"/>
                <a:ext cx="1271520" cy="11890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22"/>
              <p:cNvSpPr/>
              <p:nvPr/>
            </p:nvSpPr>
            <p:spPr>
              <a:xfrm flipH="1">
                <a:off x="1835280" y="4850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23"/>
              <p:cNvSpPr/>
              <p:nvPr/>
            </p:nvSpPr>
            <p:spPr>
              <a:xfrm>
                <a:off x="2471400" y="4285080"/>
                <a:ext cx="0" cy="115956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 Box 24"/>
            <p:cNvSpPr/>
            <p:nvPr/>
          </p:nvSpPr>
          <p:spPr>
            <a:xfrm>
              <a:off x="1835280" y="4275000"/>
              <a:ext cx="6264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股脆塔杜鹃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5"/>
          <p:cNvGrpSpPr/>
          <p:nvPr/>
        </p:nvGrpSpPr>
        <p:grpSpPr>
          <a:xfrm>
            <a:off x="2436840" y="2690640"/>
            <a:ext cx="5087880" cy="1206360"/>
            <a:chOff x="2436840" y="2690640"/>
            <a:chExt cx="5087880" cy="1206360"/>
          </a:xfrm>
        </p:grpSpPr>
        <p:grpSp>
          <p:nvGrpSpPr>
            <p:cNvPr id="98" name="Group 26"/>
            <p:cNvGrpSpPr/>
            <p:nvPr/>
          </p:nvGrpSpPr>
          <p:grpSpPr>
            <a:xfrm>
              <a:off x="6253200" y="2708280"/>
              <a:ext cx="1271520" cy="1188720"/>
              <a:chOff x="6253200" y="2708280"/>
              <a:chExt cx="1271520" cy="1188720"/>
            </a:xfrm>
          </p:grpSpPr>
          <p:sp>
            <p:nvSpPr>
              <p:cNvPr id="99" name="Rectangle 27"/>
              <p:cNvSpPr/>
              <p:nvPr/>
            </p:nvSpPr>
            <p:spPr>
              <a:xfrm>
                <a:off x="625320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8"/>
              <p:cNvSpPr/>
              <p:nvPr/>
            </p:nvSpPr>
            <p:spPr>
              <a:xfrm flipH="1">
                <a:off x="625320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9"/>
              <p:cNvSpPr/>
              <p:nvPr/>
            </p:nvSpPr>
            <p:spPr>
              <a:xfrm>
                <a:off x="688932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0"/>
            <p:cNvGrpSpPr/>
            <p:nvPr/>
          </p:nvGrpSpPr>
          <p:grpSpPr>
            <a:xfrm>
              <a:off x="4981680" y="2708280"/>
              <a:ext cx="1271520" cy="1188720"/>
              <a:chOff x="4981680" y="2708280"/>
              <a:chExt cx="1271520" cy="1188720"/>
            </a:xfrm>
          </p:grpSpPr>
          <p:sp>
            <p:nvSpPr>
              <p:cNvPr id="103" name="Rectangle 31"/>
              <p:cNvSpPr/>
              <p:nvPr/>
            </p:nvSpPr>
            <p:spPr>
              <a:xfrm>
                <a:off x="498168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Line 32"/>
              <p:cNvSpPr/>
              <p:nvPr/>
            </p:nvSpPr>
            <p:spPr>
              <a:xfrm flipH="1">
                <a:off x="498168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3"/>
              <p:cNvSpPr/>
              <p:nvPr/>
            </p:nvSpPr>
            <p:spPr>
              <a:xfrm>
                <a:off x="561780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4"/>
            <p:cNvGrpSpPr/>
            <p:nvPr/>
          </p:nvGrpSpPr>
          <p:grpSpPr>
            <a:xfrm>
              <a:off x="3708000" y="2708280"/>
              <a:ext cx="1273680" cy="1188720"/>
              <a:chOff x="3708000" y="2708280"/>
              <a:chExt cx="1273680" cy="1188720"/>
            </a:xfrm>
          </p:grpSpPr>
          <p:sp>
            <p:nvSpPr>
              <p:cNvPr id="107" name="Rectangle 35"/>
              <p:cNvSpPr/>
              <p:nvPr/>
            </p:nvSpPr>
            <p:spPr>
              <a:xfrm>
                <a:off x="3708360" y="2708280"/>
                <a:ext cx="12733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6"/>
              <p:cNvSpPr/>
              <p:nvPr/>
            </p:nvSpPr>
            <p:spPr>
              <a:xfrm flipH="1">
                <a:off x="3708000" y="3302640"/>
                <a:ext cx="12733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37"/>
              <p:cNvSpPr/>
              <p:nvPr/>
            </p:nvSpPr>
            <p:spPr>
              <a:xfrm>
                <a:off x="434520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38"/>
            <p:cNvGrpSpPr/>
            <p:nvPr/>
          </p:nvGrpSpPr>
          <p:grpSpPr>
            <a:xfrm>
              <a:off x="2436840" y="2708280"/>
              <a:ext cx="1271520" cy="1188720"/>
              <a:chOff x="2436840" y="2708280"/>
              <a:chExt cx="1271520" cy="1188720"/>
            </a:xfrm>
          </p:grpSpPr>
          <p:sp>
            <p:nvSpPr>
              <p:cNvPr id="111" name="Rectangle 39"/>
              <p:cNvSpPr/>
              <p:nvPr/>
            </p:nvSpPr>
            <p:spPr>
              <a:xfrm>
                <a:off x="2436840" y="2708280"/>
                <a:ext cx="1271520" cy="1188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40"/>
              <p:cNvSpPr/>
              <p:nvPr/>
            </p:nvSpPr>
            <p:spPr>
              <a:xfrm flipH="1">
                <a:off x="2436840" y="3302640"/>
                <a:ext cx="1271520" cy="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41"/>
              <p:cNvSpPr/>
              <p:nvPr/>
            </p:nvSpPr>
            <p:spPr>
              <a:xfrm>
                <a:off x="3072960" y="2737440"/>
                <a:ext cx="0" cy="1159200"/>
              </a:xfrm>
              <a:prstGeom prst="line">
                <a:avLst/>
              </a:prstGeom>
              <a:ln w="28440">
                <a:solidFill>
                  <a:srgbClr val="008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Text Box 42"/>
            <p:cNvSpPr/>
            <p:nvPr/>
          </p:nvSpPr>
          <p:spPr>
            <a:xfrm>
              <a:off x="2557440" y="2690640"/>
              <a:ext cx="489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瓦泉然结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Rectangle 43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2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2"/>
          <p:cNvSpPr/>
          <p:nvPr/>
        </p:nvSpPr>
        <p:spPr>
          <a:xfrm>
            <a:off x="1979640" y="3213000"/>
            <a:ext cx="180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WordArt 3"/>
          <p:cNvSpPr txBox="1"/>
          <p:nvPr/>
        </p:nvSpPr>
        <p:spPr>
          <a:xfrm>
            <a:off x="3492360" y="981000"/>
            <a:ext cx="2808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99cc00">
                    <a:alpha val="50000"/>
                  </a:srgbClr>
                </a:solidFill>
                <a:effectLst>
                  <a:outerShdw dist="40186" dir="1096358" blurRad="0" rotWithShape="0">
                    <a:srgbClr val="ffffff"/>
                  </a:outerShdw>
                </a:effectLst>
                <a:latin typeface="楷体_GB2312"/>
              </a:rPr>
              <a:t>读词语</a:t>
            </a:r>
            <a:endParaRPr b="1" lang="en-US" sz="1800" spc="1" strike="noStrike">
              <a:ln w="12600">
                <a:solidFill>
                  <a:srgbClr val="008000"/>
                </a:solidFill>
                <a:miter/>
              </a:ln>
              <a:solidFill>
                <a:srgbClr val="99cc00">
                  <a:alpha val="50000"/>
                </a:srgbClr>
              </a:solidFill>
              <a:effectLst>
                <a:outerShdw dist="40186" dir="1096358" blurRad="0" rotWithShape="0">
                  <a:srgbClr val="ffffff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266680" y="66600"/>
            <a:ext cx="66852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泉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611280" y="1197000"/>
            <a:ext cx="216036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瓦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2484360" y="234936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一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4643280" y="234936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403280" y="4437000"/>
            <a:ext cx="2160720" cy="194328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结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6372360" y="3789360"/>
            <a:ext cx="2771640" cy="266400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天然水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6516720" y="1413000"/>
            <a:ext cx="216072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清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3780000" y="4292640"/>
            <a:ext cx="2160360" cy="1942920"/>
          </a:xfrm>
          <a:prstGeom prst="su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6521e"/>
                </a:solidFill>
                <a:latin typeface="楷体_GB2312"/>
                <a:ea typeface="楷体_GB2312"/>
              </a:rPr>
              <a:t>杜鹃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00D51D5F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5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4800600"/>
            <a:ext cx="9144000" cy="703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丁冬，丁冬，是谁在山上弹琴？哦，原来是一股清泉从石缝里冲出来，来到这阳光灿烂的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背景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2590920" y="1812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腰的水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90920" y="2819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间的平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2666880" y="3886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山坡的果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2666880" y="4952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静的山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5943600" y="181296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姐姐打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791320" y="28195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杜鹃花照身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5867280" y="3886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果树喝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5867280" y="4952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画眉鸟歌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-300600" y="2666880"/>
            <a:ext cx="2618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  <a:ea typeface="楷体_GB2312"/>
              </a:rPr>
              <a:t>泉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15:57Z</dcterms:created>
  <dc:creator/>
  <dc:description/>
  <cp:keywords>幻灯片之家 http:/www.eeppt.com</cp:keywords>
  <dc:language>en-US</dc:language>
  <cp:lastModifiedBy/>
  <dcterms:modified xsi:type="dcterms:W3CDTF">2015-07-12T09:54:0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