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8DF3-C825-4AE3-B5D6-BF4D96B4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1A34-C473-4DFE-85E1-B306439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B641-0DA3-40D5-899C-5CC36B65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066D-AE85-4D72-A53B-5469A9B9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7DAD-8152-438C-BB2C-EF61825C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276D-E7A8-4033-AE87-6F82FD3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5CEB-8A75-474E-8555-D8EAA8E8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F17D-E1E4-4075-9162-A6927A0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8301-6924-456F-81D8-1FB9E0F8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9341-7589-4843-97A8-49514159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EC9-7D34-43D9-877C-85A4A9C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8907-0D89-4E3F-B129-7984EDE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92A-CDF1-4237-BCBF-0AA7784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B4A-55D4-406C-95C9-08A79C9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9B3-AED5-4AA2-8932-067A0F82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FDCB-89BE-4507-94AB-716B968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6AB-7214-4735-881F-81F56CB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A6FD-E2A5-4D09-BBBD-BEC645E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B144-DB41-4A17-A60C-0F9B373D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0C86-F1DA-483D-9061-EE6E53B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08C5-EA40-48CC-A707-72C3D01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D028-D4B7-453D-9317-7EC5B82D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E34D-0107-4EB8-8802-0C678DD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D96D-3B9E-4876-897C-E1FC70A7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F88-DF62-4305-99AA-1D2197649C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4E8-3177-4B5D-A57D-E1B77886A40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Garamond"/>
              </a:rPr>
              <a:t>《企业会计制度》讲座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主讲：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XX</a:t>
            </a:r>
            <a:r>
              <a:rPr b="0" lang="zh-CN" sz="4800" spc="-1" strike="noStrike">
                <a:solidFill>
                  <a:srgbClr val="ffffff"/>
                </a:solidFill>
                <a:latin typeface="Garamond"/>
                <a:ea typeface="楷体_GB2312"/>
              </a:rPr>
              <a:t>教授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《企业会计制度》讲座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部分 ：实施新《企业会计制度》的必要性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及新、旧会计制度的差异比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部分 ：施工企业实施新《企业会计制度》的基本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步骤、方法及有关问题的介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部分：实施新《企业会计制度》的必要性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及新、旧会计制度的差异比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一、旧的行业会计制度不能适应市场经济发展的需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一）缺乏客观真实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二）缺乏可比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三）缺乏可操作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二、实施新的《企业会计制度》是完善国家统一会计核算制度和与国际接轨的迫切需要和必然趋势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一）国家统一会计核算制度是规范会计行为的基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（二）实施统一会计核算…………………………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使用规范说明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2260-28D0-4B40-9A26-F3F7FA18A46D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13842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部分 ：施工企业实施新《企业会计制度》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基本步骤、方法及有关问题介绍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一、实施新《企业会计制度》的基本步骤和基本程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一）基本步骤：先试点后推广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二）基本程序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清查财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审计验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提出申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审核批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（三）企业集团公司…………………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3Z</dcterms:created>
  <dc:creator/>
  <dc:description/>
  <cp:keywords>幻灯片之家 http:/www.eeppt.com</cp:keywords>
  <dc:language>en-US</dc:language>
  <cp:lastModifiedBy/>
  <dcterms:modified xsi:type="dcterms:W3CDTF">2015-07-12T09:20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