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4F1-BA3D-42CD-84CF-12F10351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6DD-07FD-462D-9F14-52FE3EA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DCC-D46E-416E-A5C9-74496CDF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D99-7D04-430E-ADBE-0FAA227B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EC7-ADE9-43A3-9499-BE4C7DEA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3B1-5438-40BF-87FB-2D2DFC5E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E0A-576E-4F30-8EE1-E86D2537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312-54DE-4EAA-85AC-B2D1A3CC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367-9917-492B-A40C-04FAA740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699-3589-4AC8-A3E9-D99B4444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139-C640-4EA2-A214-C0914D4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49F-5B13-42E0-B219-FE68A746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85E3-93FA-4848-BBD3-FB7ECB77B52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E38E-6863-4AF5-B3DE-94E51B9270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hyperlink" Target="http://www.eeppt.com/moban/qiye/" TargetMode="External"/><Relationship Id="rId2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企业历程的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:\work\公司宣传\未标题-1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0" y="803160"/>
            <a:ext cx="9144000" cy="546732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33"/>
          <p:cNvGrpSpPr/>
          <p:nvPr/>
        </p:nvGrpSpPr>
        <p:grpSpPr>
          <a:xfrm>
            <a:off x="177840" y="1479600"/>
            <a:ext cx="8787960" cy="4582800"/>
            <a:chOff x="177840" y="1479600"/>
            <a:chExt cx="8787960" cy="4582800"/>
          </a:xfrm>
        </p:grpSpPr>
        <p:sp>
          <p:nvSpPr>
            <p:cNvPr id="46" name="矩形 25"/>
            <p:cNvSpPr/>
            <p:nvPr/>
          </p:nvSpPr>
          <p:spPr>
            <a:xfrm>
              <a:off x="214200" y="1515960"/>
              <a:ext cx="8715600" cy="4510440"/>
            </a:xfrm>
            <a:prstGeom prst="rect">
              <a:avLst/>
            </a:prstGeom>
            <a:solidFill>
              <a:srgbClr val="000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半闭框 26"/>
            <p:cNvSpPr/>
            <p:nvPr/>
          </p:nvSpPr>
          <p:spPr>
            <a:xfrm>
              <a:off x="177840" y="1479600"/>
              <a:ext cx="23004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半闭框 27"/>
            <p:cNvSpPr/>
            <p:nvPr/>
          </p:nvSpPr>
          <p:spPr>
            <a:xfrm flipV="1">
              <a:off x="177840" y="5842080"/>
              <a:ext cx="23004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半闭框 28"/>
            <p:cNvSpPr/>
            <p:nvPr/>
          </p:nvSpPr>
          <p:spPr>
            <a:xfrm flipH="1">
              <a:off x="8735400" y="1479600"/>
              <a:ext cx="23004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半闭框 29"/>
            <p:cNvSpPr/>
            <p:nvPr/>
          </p:nvSpPr>
          <p:spPr>
            <a:xfrm flipH="1" flipV="1">
              <a:off x="8735400" y="5842080"/>
              <a:ext cx="23004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TextBox 9" descr=""/>
          <p:cNvPicPr/>
          <p:nvPr/>
        </p:nvPicPr>
        <p:blipFill>
          <a:blip r:embed="rId4"/>
          <a:stretch/>
        </p:blipFill>
        <p:spPr>
          <a:xfrm>
            <a:off x="6997680" y="912960"/>
            <a:ext cx="2292480" cy="66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ufo\桌面\Jadason背景2副本.png"/>
          <p:cNvPicPr/>
          <p:nvPr/>
        </p:nvPicPr>
        <p:blipFill>
          <a:blip r:embed="rId5"/>
          <a:stretch/>
        </p:blipFill>
        <p:spPr>
          <a:xfrm>
            <a:off x="133200" y="812880"/>
            <a:ext cx="1924200" cy="59688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34"/>
          <p:cNvGrpSpPr/>
          <p:nvPr/>
        </p:nvGrpSpPr>
        <p:grpSpPr>
          <a:xfrm>
            <a:off x="2593800" y="5781600"/>
            <a:ext cx="6072480" cy="343080"/>
            <a:chOff x="2593800" y="5781600"/>
            <a:chExt cx="6072480" cy="343080"/>
          </a:xfrm>
        </p:grpSpPr>
        <p:grpSp>
          <p:nvGrpSpPr>
            <p:cNvPr id="54" name="圆角矩形 11"/>
            <p:cNvGrpSpPr/>
            <p:nvPr/>
          </p:nvGrpSpPr>
          <p:grpSpPr>
            <a:xfrm>
              <a:off x="2593800" y="5781600"/>
              <a:ext cx="6072480" cy="343080"/>
              <a:chOff x="2593800" y="5781600"/>
              <a:chExt cx="6072480" cy="343080"/>
            </a:xfrm>
          </p:grpSpPr>
          <p:pic>
            <p:nvPicPr>
              <p:cNvPr id="55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593800" y="5781600"/>
                <a:ext cx="6072480" cy="3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8"/>
              <p:cNvSpPr/>
              <p:nvPr/>
            </p:nvSpPr>
            <p:spPr>
              <a:xfrm>
                <a:off x="2597040" y="5785200"/>
                <a:ext cx="60606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矩形 34"/>
            <p:cNvSpPr/>
            <p:nvPr/>
          </p:nvSpPr>
          <p:spPr>
            <a:xfrm>
              <a:off x="2596680" y="5810040"/>
              <a:ext cx="29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企业成立，总部设在香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35"/>
          <p:cNvGrpSpPr/>
          <p:nvPr/>
        </p:nvGrpSpPr>
        <p:grpSpPr>
          <a:xfrm>
            <a:off x="2463840" y="5337000"/>
            <a:ext cx="6286320" cy="344520"/>
            <a:chOff x="2463840" y="5337000"/>
            <a:chExt cx="6286320" cy="344520"/>
          </a:xfrm>
        </p:grpSpPr>
        <p:grpSp>
          <p:nvGrpSpPr>
            <p:cNvPr id="59" name="圆角矩形 13"/>
            <p:cNvGrpSpPr/>
            <p:nvPr/>
          </p:nvGrpSpPr>
          <p:grpSpPr>
            <a:xfrm>
              <a:off x="2463840" y="5337000"/>
              <a:ext cx="6286320" cy="344520"/>
              <a:chOff x="2463840" y="5337000"/>
              <a:chExt cx="6286320" cy="344520"/>
            </a:xfrm>
          </p:grpSpPr>
          <p:pic>
            <p:nvPicPr>
              <p:cNvPr id="60" name="圆角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840" y="5337000"/>
                <a:ext cx="628632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44"/>
              <p:cNvSpPr/>
              <p:nvPr/>
            </p:nvSpPr>
            <p:spPr>
              <a:xfrm>
                <a:off x="2470680" y="5340960"/>
                <a:ext cx="627588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矩形 55"/>
            <p:cNvSpPr/>
            <p:nvPr/>
          </p:nvSpPr>
          <p:spPr>
            <a:xfrm>
              <a:off x="2470680" y="5364720"/>
              <a:ext cx="276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企业图形图像部门成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6"/>
          <p:cNvGrpSpPr/>
          <p:nvPr/>
        </p:nvGrpSpPr>
        <p:grpSpPr>
          <a:xfrm>
            <a:off x="2122560" y="3546360"/>
            <a:ext cx="6735600" cy="1641240"/>
            <a:chOff x="2122560" y="3546360"/>
            <a:chExt cx="6735600" cy="1641240"/>
          </a:xfrm>
        </p:grpSpPr>
        <p:grpSp>
          <p:nvGrpSpPr>
            <p:cNvPr id="64" name="圆角矩形 14"/>
            <p:cNvGrpSpPr/>
            <p:nvPr/>
          </p:nvGrpSpPr>
          <p:grpSpPr>
            <a:xfrm>
              <a:off x="2122560" y="3546360"/>
              <a:ext cx="6735600" cy="1632240"/>
              <a:chOff x="2122560" y="3546360"/>
              <a:chExt cx="6735600" cy="1632240"/>
            </a:xfrm>
          </p:grpSpPr>
          <p:pic>
            <p:nvPicPr>
              <p:cNvPr id="65" name="圆角矩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2122560" y="3546360"/>
                <a:ext cx="6735600" cy="16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40"/>
              <p:cNvSpPr/>
              <p:nvPr/>
            </p:nvSpPr>
            <p:spPr>
              <a:xfrm>
                <a:off x="2129400" y="3552120"/>
                <a:ext cx="6723360" cy="16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矩形 60"/>
            <p:cNvSpPr/>
            <p:nvPr/>
          </p:nvSpPr>
          <p:spPr>
            <a:xfrm>
              <a:off x="2129400" y="3601800"/>
              <a:ext cx="65808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企业在新加坡首次筹股上市，股票代码为：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JADASON 2000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年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月特新科技有限公司在香港成立，专门从事数字图像合成的软件硬件的代理销售及服务支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有限公司马来西亚分公司成立，负责开拓东南亚地区市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有限公司获得加拿大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Alias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公司的授权，成为公司旗下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Maya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和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StudioTools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产品的大中国地区总代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北京代表处成立，主要负责北部地区的技术支持及销售业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广州代表处成立，主要负责华南地区的技术支持及销售业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37"/>
          <p:cNvGrpSpPr/>
          <p:nvPr/>
        </p:nvGrpSpPr>
        <p:grpSpPr>
          <a:xfrm>
            <a:off x="1665360" y="3102120"/>
            <a:ext cx="7143840" cy="344520"/>
            <a:chOff x="1665360" y="3102120"/>
            <a:chExt cx="7143840" cy="344520"/>
          </a:xfrm>
        </p:grpSpPr>
        <p:grpSp>
          <p:nvGrpSpPr>
            <p:cNvPr id="69" name="圆角矩形 15"/>
            <p:cNvGrpSpPr/>
            <p:nvPr/>
          </p:nvGrpSpPr>
          <p:grpSpPr>
            <a:xfrm>
              <a:off x="1665360" y="3102120"/>
              <a:ext cx="7143840" cy="344520"/>
              <a:chOff x="1665360" y="3102120"/>
              <a:chExt cx="7143840" cy="344520"/>
            </a:xfrm>
          </p:grpSpPr>
          <p:pic>
            <p:nvPicPr>
              <p:cNvPr id="70" name="圆角矩形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1665360" y="3102120"/>
                <a:ext cx="714384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 Box 36"/>
              <p:cNvSpPr/>
              <p:nvPr/>
            </p:nvSpPr>
            <p:spPr>
              <a:xfrm>
                <a:off x="1672920" y="3108240"/>
                <a:ext cx="713052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矩形 71"/>
            <p:cNvSpPr/>
            <p:nvPr/>
          </p:nvSpPr>
          <p:spPr>
            <a:xfrm>
              <a:off x="1672200" y="3131640"/>
              <a:ext cx="58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上海代表处成立，主要负责华东地区的技术支持及销售业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38"/>
          <p:cNvGrpSpPr/>
          <p:nvPr/>
        </p:nvGrpSpPr>
        <p:grpSpPr>
          <a:xfrm>
            <a:off x="1535040" y="2658960"/>
            <a:ext cx="7394760" cy="343080"/>
            <a:chOff x="1535040" y="2658960"/>
            <a:chExt cx="7394760" cy="343080"/>
          </a:xfrm>
        </p:grpSpPr>
        <p:grpSp>
          <p:nvGrpSpPr>
            <p:cNvPr id="74" name="圆角矩形 16"/>
            <p:cNvGrpSpPr/>
            <p:nvPr/>
          </p:nvGrpSpPr>
          <p:grpSpPr>
            <a:xfrm>
              <a:off x="1535040" y="2658960"/>
              <a:ext cx="7394760" cy="343080"/>
              <a:chOff x="1535040" y="2658960"/>
              <a:chExt cx="7394760" cy="343080"/>
            </a:xfrm>
          </p:grpSpPr>
          <p:pic>
            <p:nvPicPr>
              <p:cNvPr id="75" name="圆角矩形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35040" y="2658960"/>
                <a:ext cx="7394760" cy="3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32"/>
              <p:cNvSpPr/>
              <p:nvPr/>
            </p:nvSpPr>
            <p:spPr>
              <a:xfrm>
                <a:off x="1539720" y="2666880"/>
                <a:ext cx="738288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矩形 76"/>
            <p:cNvSpPr/>
            <p:nvPr/>
          </p:nvSpPr>
          <p:spPr>
            <a:xfrm>
              <a:off x="1539720" y="2690280"/>
              <a:ext cx="638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有限公司开拓了广阔的三维动画制作培训市场，并成为经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Alias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授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9"/>
          <p:cNvGrpSpPr/>
          <p:nvPr/>
        </p:nvGrpSpPr>
        <p:grpSpPr>
          <a:xfrm>
            <a:off x="1374840" y="2033640"/>
            <a:ext cx="7520040" cy="520200"/>
            <a:chOff x="1374840" y="2033640"/>
            <a:chExt cx="7520040" cy="520200"/>
          </a:xfrm>
        </p:grpSpPr>
        <p:grpSp>
          <p:nvGrpSpPr>
            <p:cNvPr id="79" name="圆角矩形 17"/>
            <p:cNvGrpSpPr/>
            <p:nvPr/>
          </p:nvGrpSpPr>
          <p:grpSpPr>
            <a:xfrm>
              <a:off x="1374840" y="2057400"/>
              <a:ext cx="7520040" cy="493560"/>
              <a:chOff x="1374840" y="2057400"/>
              <a:chExt cx="7520040" cy="493560"/>
            </a:xfrm>
          </p:grpSpPr>
          <p:pic>
            <p:nvPicPr>
              <p:cNvPr id="80" name="圆角矩形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74840" y="2057400"/>
                <a:ext cx="752004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28"/>
              <p:cNvSpPr/>
              <p:nvPr/>
            </p:nvSpPr>
            <p:spPr>
              <a:xfrm>
                <a:off x="1377720" y="2063880"/>
                <a:ext cx="7511760" cy="4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矩形 81"/>
            <p:cNvSpPr/>
            <p:nvPr/>
          </p:nvSpPr>
          <p:spPr>
            <a:xfrm>
              <a:off x="1377720" y="2033640"/>
              <a:ext cx="751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有限公司成为合并后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Autodesk M&amp;E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部门软件及高端系统总商业及教育总代理，涉及产品包括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Maya, Motionbuilder, 3DSMax, Flint, Flame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及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Smoke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Freeform 6"/>
          <p:cNvGrpSpPr/>
          <p:nvPr/>
        </p:nvGrpSpPr>
        <p:grpSpPr>
          <a:xfrm>
            <a:off x="560520" y="1419120"/>
            <a:ext cx="1749240" cy="4600800"/>
            <a:chOff x="560520" y="1419120"/>
            <a:chExt cx="1749240" cy="4600800"/>
          </a:xfrm>
        </p:grpSpPr>
        <p:pic>
          <p:nvPicPr>
            <p:cNvPr id="84" name="Freeform 6" descr=""/>
            <p:cNvPicPr/>
            <p:nvPr/>
          </p:nvPicPr>
          <p:blipFill>
            <a:blip r:embed="rId12"/>
            <a:stretch/>
          </p:blipFill>
          <p:spPr>
            <a:xfrm>
              <a:off x="560520" y="1419120"/>
              <a:ext cx="1749240" cy="46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3"/>
            <p:cNvSpPr/>
            <p:nvPr/>
          </p:nvSpPr>
          <p:spPr>
            <a:xfrm>
              <a:off x="658440" y="1513080"/>
              <a:ext cx="1626840" cy="44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40"/>
          <p:cNvGrpSpPr/>
          <p:nvPr/>
        </p:nvGrpSpPr>
        <p:grpSpPr>
          <a:xfrm>
            <a:off x="1214280" y="1622520"/>
            <a:ext cx="7715520" cy="344520"/>
            <a:chOff x="1214280" y="1622520"/>
            <a:chExt cx="7715520" cy="344520"/>
          </a:xfrm>
        </p:grpSpPr>
        <p:grpSp>
          <p:nvGrpSpPr>
            <p:cNvPr id="87" name="圆角矩形 30"/>
            <p:cNvGrpSpPr/>
            <p:nvPr/>
          </p:nvGrpSpPr>
          <p:grpSpPr>
            <a:xfrm>
              <a:off x="1214280" y="1622520"/>
              <a:ext cx="7715520" cy="344520"/>
              <a:chOff x="1214280" y="1622520"/>
              <a:chExt cx="7715520" cy="344520"/>
            </a:xfrm>
          </p:grpSpPr>
          <p:pic>
            <p:nvPicPr>
              <p:cNvPr id="88" name="圆角矩形 3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4280" y="1622520"/>
                <a:ext cx="771552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 Box 24"/>
              <p:cNvSpPr/>
              <p:nvPr/>
            </p:nvSpPr>
            <p:spPr>
              <a:xfrm>
                <a:off x="1221480" y="1630080"/>
                <a:ext cx="770112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矩形 89"/>
            <p:cNvSpPr/>
            <p:nvPr/>
          </p:nvSpPr>
          <p:spPr>
            <a:xfrm>
              <a:off x="1221480" y="1649160"/>
              <a:ext cx="37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Autodesk Maya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指导教师培训认证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TextBox 23" descr=""/>
          <p:cNvPicPr/>
          <p:nvPr/>
        </p:nvPicPr>
        <p:blipFill>
          <a:blip r:embed="rId14"/>
          <a:stretch/>
        </p:blipFill>
        <p:spPr>
          <a:xfrm>
            <a:off x="1773360" y="5716440"/>
            <a:ext cx="896760" cy="6750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24" descr=""/>
          <p:cNvPicPr/>
          <p:nvPr/>
        </p:nvPicPr>
        <p:blipFill>
          <a:blip r:embed="rId15"/>
          <a:stretch/>
        </p:blipFill>
        <p:spPr>
          <a:xfrm>
            <a:off x="1627200" y="5278320"/>
            <a:ext cx="896760" cy="67464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25" descr=""/>
          <p:cNvPicPr/>
          <p:nvPr/>
        </p:nvPicPr>
        <p:blipFill>
          <a:blip r:embed="rId16"/>
          <a:stretch/>
        </p:blipFill>
        <p:spPr>
          <a:xfrm>
            <a:off x="1200240" y="4156200"/>
            <a:ext cx="952560" cy="67464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26" descr=""/>
          <p:cNvPicPr/>
          <p:nvPr/>
        </p:nvPicPr>
        <p:blipFill>
          <a:blip r:embed="rId17"/>
          <a:stretch/>
        </p:blipFill>
        <p:spPr>
          <a:xfrm>
            <a:off x="841320" y="3033720"/>
            <a:ext cx="890640" cy="6778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27" descr=""/>
          <p:cNvPicPr/>
          <p:nvPr/>
        </p:nvPicPr>
        <p:blipFill>
          <a:blip r:embed="rId18"/>
          <a:stretch/>
        </p:blipFill>
        <p:spPr>
          <a:xfrm>
            <a:off x="665280" y="2576520"/>
            <a:ext cx="944280" cy="6778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28" descr=""/>
          <p:cNvPicPr/>
          <p:nvPr/>
        </p:nvPicPr>
        <p:blipFill>
          <a:blip r:embed="rId19"/>
          <a:stretch/>
        </p:blipFill>
        <p:spPr>
          <a:xfrm>
            <a:off x="341280" y="1558800"/>
            <a:ext cx="951120" cy="67644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29" descr=""/>
          <p:cNvPicPr/>
          <p:nvPr/>
        </p:nvPicPr>
        <p:blipFill>
          <a:blip r:embed="rId20"/>
          <a:stretch/>
        </p:blipFill>
        <p:spPr>
          <a:xfrm>
            <a:off x="487440" y="2071800"/>
            <a:ext cx="950760" cy="67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623736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1054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00"/>
                            </p:stCondLst>
                            <p:childTnLst>
                              <p:par>
                                <p:cTn id="2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300"/>
                            </p:stCondLst>
                            <p:childTnLst>
                              <p:par>
                                <p:cTn id="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700"/>
                            </p:stCondLst>
                            <p:childTnLst>
                              <p:par>
                                <p:cTn id="3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100"/>
                            </p:stCondLst>
                            <p:childTnLst>
                              <p:par>
                                <p:cTn id="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900"/>
                            </p:stCondLst>
                            <p:childTnLst>
                              <p:par>
                                <p:cTn id="5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dur="indefinite" nodeType="after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600"/>
                            </p:stCondLst>
                            <p:childTnLst>
                              <p:par>
                                <p:cTn id="61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400"/>
                            </p:stCondLst>
                            <p:childTnLst>
                              <p:par>
                                <p:cTn id="69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800"/>
                            </p:stCondLst>
                            <p:childTnLst>
                              <p:par>
                                <p:cTn id="73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200"/>
                            </p:stCondLst>
                            <p:childTnLst>
                              <p:par>
                                <p:cTn id="77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600"/>
                            </p:stCondLst>
                            <p:childTnLst>
                              <p:par>
                                <p:cTn id="81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46C-7A54-4953-A2B0-A07E90B804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6T12:24:49Z</dcterms:modified>
  <cp:revision>7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