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CFD-CF0B-45DD-8505-0EF88793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23F-9E20-410B-B1D0-A90AEC5A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9F1-8191-4405-8983-1256204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FBC-FFBD-4A6B-BE16-01CADE2A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71A-A298-4A0E-A1DD-91FBC2B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766-3B2E-443D-9090-D2B2D24C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38A-CE86-4D67-B0CE-DA34ECD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576-B80C-4D3D-B157-7F15FB3C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250-EAFE-4778-96E7-37A5CFB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858-121C-45D5-BF31-CA6201C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CBE-ECD0-46DA-A1D2-F8874B4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BBA-3D37-4041-BA0C-23D813D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1B4-3C8D-4F9D-A6A0-0158649F2B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lunwe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Calibri"/>
              </a:rPr>
              <a:t>如何做毕业论文</a:t>
            </a: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0F9-BACF-4ABD-9FFF-18DA6A921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85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8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91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94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580080" y="2852640"/>
            <a:ext cx="2279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5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9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2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5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7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1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4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7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100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13000"/>
            <a:ext cx="7256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cp:keywords>幻灯片之家 http:/www.eeppt.com</cp:keywords>
  <dc:language>en-US</dc:language>
  <cp:lastModifiedBy/>
  <dcterms:modified xsi:type="dcterms:W3CDTF">2015-07-12T09:06:3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