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C47-88F5-40F4-9021-0044ECC5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4065-5070-4CB5-BE16-760915B8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D1B0-8980-42A6-BF97-48FE2D14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E54C-3727-4F8D-9D9F-D208F926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F078-B8DA-4F49-8265-6952D10C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6749-08BC-45D9-8C2B-651A6059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70EE-975D-47C0-B9C2-D30086E8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CCEB-B507-4A8D-8DE3-22BEE81D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EB3F-0B9F-4863-A2FE-B496F4CA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2F12-51EC-467D-BBA9-01E55736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FDDC-3D5D-45DE-87C6-556C4ED2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E43-08FE-4B75-8A3B-A7A3446E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085E-FC87-47E9-AD89-964F6CD7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91E6-2D77-446E-91EF-BDF41CEA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1E6C-B0DD-40D2-99DB-06CEF4ED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17C1-508D-415E-B5B5-5BD780F2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46E9-3973-42C1-917D-6B7E015A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89B5-275B-4A8F-8A9D-2DF5F52B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38F-B6A3-4987-BED7-E1CAD832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7B0-AD65-49B2-AF47-89DB79D5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FCF-9822-4240-8769-B971C7ED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A25A-689A-4CEA-BEEA-564967A2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12D-B753-4359-BCAD-56AFB7D5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57B-0B05-419B-BF77-8471B724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CF8C-9F20-4342-8743-D3722FA05E34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4986-B2C3-481F-A3DC-16EC0B2ED947}" type="slidenum"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Eras Bold ITC"/>
                <a:ea typeface="宋体"/>
              </a:rPr>
              <a:t>YOUR TITLE GOES HERE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6453360"/>
            <a:ext cx="46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11120" y="1557360"/>
            <a:ext cx="27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圣诞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1752480"/>
            <a:ext cx="4647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ras Demi ITC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76197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ras Demi ITC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187280" y="4653000"/>
            <a:ext cx="6499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4F79-9EC6-40D1-80B8-752FB404024D}" type="slidenum">
              <a:t>3</a:t>
            </a:fld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8120" y="1522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TRANS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600200"/>
            <a:ext cx="4876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Eras Demi ITC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7696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Eras Demi ITC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07:56:19Z</dcterms:created>
  <dc:creator/>
  <dc:description/>
  <cp:keywords>幻灯片之家 http:/www.eeppt.com</cp:keywords>
  <dc:language>en-US</dc:language>
  <cp:lastModifiedBy/>
  <dcterms:modified xsi:type="dcterms:W3CDTF">2015-07-09T08:14:5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