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0C10-3B03-4150-9DC7-AD6A2AA8A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D560-37C8-4415-A4E0-0B4319854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D317-7155-4730-8FA0-1ADC85245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BC51-6438-4E88-B14C-FB7BCB5F6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DA98-1BB4-4F99-86BF-E532B8E07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6E74-7230-4F6B-9E1D-09B46CD77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750F-9B8C-400E-8B65-4329AE6AE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D536-4794-41D2-A9C1-9B28DA234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B7B6-9CC7-4003-A25B-359121A4D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CB17-B71D-40D7-94B8-57D2C7CA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0AA3-F18C-43B1-84C5-6E9E60E5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79C3-25C2-40E7-AEC8-5B232BC9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A5822D-4AE6-4DB0-836B-7D14E6BA6E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0"/>
          <p:cNvSpPr/>
          <p:nvPr/>
        </p:nvSpPr>
        <p:spPr>
          <a:xfrm>
            <a:off x="1074600" y="598320"/>
            <a:ext cx="30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15"/>
          <p:cNvSpPr/>
          <p:nvPr/>
        </p:nvSpPr>
        <p:spPr>
          <a:xfrm>
            <a:off x="6437520" y="26478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初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6"/>
          <p:cNvSpPr/>
          <p:nvPr/>
        </p:nvSpPr>
        <p:spPr>
          <a:xfrm>
            <a:off x="6162480" y="3294000"/>
            <a:ext cx="146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峥嵘岁月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·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化风云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英雄的黎明.mp3" descr="英雄的黎明"/>
          <p:cNvPicPr/>
          <p:nvPr/>
        </p:nvPicPr>
        <p:blipFill>
          <a:blip r:embed="rId2"/>
          <a:stretch/>
        </p:blipFill>
        <p:spPr>
          <a:xfrm>
            <a:off x="8610480" y="5238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80880" y="46292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82320" y="598320"/>
            <a:ext cx="303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水墨中国风奔腾年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4982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14982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16982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7"/>
          <p:cNvSpPr/>
          <p:nvPr/>
        </p:nvSpPr>
        <p:spPr>
          <a:xfrm>
            <a:off x="6510240" y="180972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一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8"/>
          <p:cNvSpPr/>
          <p:nvPr/>
        </p:nvSpPr>
        <p:spPr>
          <a:xfrm>
            <a:off x="6136920" y="2382840"/>
            <a:ext cx="126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MT Black"/>
                <a:ea typeface="宋体"/>
              </a:rPr>
              <a:t>NO.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9"/>
          <p:cNvSpPr/>
          <p:nvPr/>
        </p:nvSpPr>
        <p:spPr>
          <a:xfrm>
            <a:off x="2869920" y="4460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书体坊米芾体"/>
                <a:ea typeface="书体坊米芾体"/>
              </a:rPr>
              <a:t>奔腾年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10"/>
          <p:cNvSpPr/>
          <p:nvPr/>
        </p:nvSpPr>
        <p:spPr>
          <a:xfrm>
            <a:off x="2629800" y="1276200"/>
            <a:ext cx="102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doni MT Black"/>
                <a:ea typeface="宋体"/>
              </a:rPr>
              <a:t>Seabis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2"/>
          <p:cNvSpPr/>
          <p:nvPr/>
        </p:nvSpPr>
        <p:spPr>
          <a:xfrm>
            <a:off x="6166440" y="2190600"/>
            <a:ext cx="12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MT Black"/>
                <a:ea typeface="宋体"/>
              </a:rPr>
              <a:t>ROKEY 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13"/>
          <p:cNvSpPr/>
          <p:nvPr/>
        </p:nvSpPr>
        <p:spPr>
          <a:xfrm>
            <a:off x="6082200" y="3029040"/>
            <a:ext cx="1415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驾驭明日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·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登临巅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至高鹜远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·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阔赢天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6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80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7"/>
          <p:cNvSpPr/>
          <p:nvPr/>
        </p:nvSpPr>
        <p:spPr>
          <a:xfrm>
            <a:off x="1328400" y="51444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一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8"/>
          <p:cNvSpPr/>
          <p:nvPr/>
        </p:nvSpPr>
        <p:spPr>
          <a:xfrm>
            <a:off x="955440" y="1087560"/>
            <a:ext cx="126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MT Black"/>
                <a:ea typeface="宋体"/>
              </a:rPr>
              <a:t>NO.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9"/>
          <p:cNvSpPr/>
          <p:nvPr/>
        </p:nvSpPr>
        <p:spPr>
          <a:xfrm>
            <a:off x="5384520" y="33051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书体坊米芾体"/>
                <a:ea typeface="书体坊米芾体"/>
              </a:rPr>
              <a:t>奔腾年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10"/>
          <p:cNvSpPr/>
          <p:nvPr/>
        </p:nvSpPr>
        <p:spPr>
          <a:xfrm>
            <a:off x="5144400" y="3983040"/>
            <a:ext cx="102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doni MT Black"/>
                <a:ea typeface="宋体"/>
              </a:rPr>
              <a:t>Seabis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12"/>
          <p:cNvSpPr/>
          <p:nvPr/>
        </p:nvSpPr>
        <p:spPr>
          <a:xfrm>
            <a:off x="984960" y="895320"/>
            <a:ext cx="12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MT Black"/>
                <a:ea typeface="宋体"/>
              </a:rPr>
              <a:t>ROKEY 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13"/>
          <p:cNvSpPr/>
          <p:nvPr/>
        </p:nvSpPr>
        <p:spPr>
          <a:xfrm>
            <a:off x="5409000" y="2468520"/>
            <a:ext cx="1643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思进则懈，不思晋则殆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量身则闻远，量才则博深 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80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1"/>
          <p:cNvSpPr/>
          <p:nvPr/>
        </p:nvSpPr>
        <p:spPr>
          <a:xfrm>
            <a:off x="3030120" y="36180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书体坊米芾体"/>
                <a:ea typeface="书体坊米芾体"/>
              </a:rPr>
              <a:t>奔腾年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2"/>
          <p:cNvSpPr/>
          <p:nvPr/>
        </p:nvSpPr>
        <p:spPr>
          <a:xfrm>
            <a:off x="2790360" y="1192320"/>
            <a:ext cx="102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doni MT Black"/>
                <a:ea typeface="宋体"/>
              </a:rPr>
              <a:t>Seabis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3"/>
          <p:cNvSpPr/>
          <p:nvPr/>
        </p:nvSpPr>
        <p:spPr>
          <a:xfrm>
            <a:off x="6406560" y="18097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二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4"/>
          <p:cNvSpPr/>
          <p:nvPr/>
        </p:nvSpPr>
        <p:spPr>
          <a:xfrm>
            <a:off x="6136920" y="2382840"/>
            <a:ext cx="126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MT Black"/>
                <a:ea typeface="宋体"/>
              </a:rPr>
              <a:t>NO.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6166440" y="2190600"/>
            <a:ext cx="12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MT Black"/>
                <a:ea typeface="宋体"/>
              </a:rPr>
              <a:t>ROKEY 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6"/>
          <p:cNvSpPr/>
          <p:nvPr/>
        </p:nvSpPr>
        <p:spPr>
          <a:xfrm>
            <a:off x="6086520" y="3029040"/>
            <a:ext cx="146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共勉共进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·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荣耀光年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以镜为鉴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·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以人为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40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60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80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8D1B-1A82-4C9D-B66B-974FC50100A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矩形 1"/>
          <p:cNvSpPr/>
          <p:nvPr/>
        </p:nvSpPr>
        <p:spPr>
          <a:xfrm>
            <a:off x="4362120" y="37987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书体坊米芾体"/>
                <a:ea typeface="书体坊米芾体"/>
              </a:rPr>
              <a:t>奔腾年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2"/>
          <p:cNvSpPr/>
          <p:nvPr/>
        </p:nvSpPr>
        <p:spPr>
          <a:xfrm>
            <a:off x="4121280" y="4629240"/>
            <a:ext cx="102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doni MT Black"/>
                <a:ea typeface="宋体"/>
              </a:rPr>
              <a:t>Seabis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3"/>
          <p:cNvSpPr/>
          <p:nvPr/>
        </p:nvSpPr>
        <p:spPr>
          <a:xfrm>
            <a:off x="843840" y="6476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二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4"/>
          <p:cNvSpPr/>
          <p:nvPr/>
        </p:nvSpPr>
        <p:spPr>
          <a:xfrm>
            <a:off x="574200" y="1220760"/>
            <a:ext cx="126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MT Black"/>
                <a:ea typeface="宋体"/>
              </a:rPr>
              <a:t>NO.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5"/>
          <p:cNvSpPr/>
          <p:nvPr/>
        </p:nvSpPr>
        <p:spPr>
          <a:xfrm>
            <a:off x="603720" y="1028880"/>
            <a:ext cx="12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MT Black"/>
                <a:ea typeface="宋体"/>
              </a:rPr>
              <a:t>ROKEY 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6"/>
          <p:cNvSpPr/>
          <p:nvPr/>
        </p:nvSpPr>
        <p:spPr>
          <a:xfrm>
            <a:off x="3700440" y="1521000"/>
            <a:ext cx="3386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以人为鉴可明得失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以镜为鉴可整衣冠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察古可以知今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察己可以知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60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80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1"/>
          <p:cNvSpPr/>
          <p:nvPr/>
        </p:nvSpPr>
        <p:spPr>
          <a:xfrm>
            <a:off x="1125000" y="2905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书体坊米芾体"/>
                <a:ea typeface="书体坊米芾体"/>
              </a:rPr>
              <a:t>奔腾年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2"/>
          <p:cNvSpPr/>
          <p:nvPr/>
        </p:nvSpPr>
        <p:spPr>
          <a:xfrm>
            <a:off x="885240" y="1120680"/>
            <a:ext cx="102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doni MT Black"/>
                <a:ea typeface="宋体"/>
              </a:rPr>
              <a:t>Seabis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3"/>
          <p:cNvSpPr/>
          <p:nvPr/>
        </p:nvSpPr>
        <p:spPr>
          <a:xfrm>
            <a:off x="6571440" y="19875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终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4"/>
          <p:cNvSpPr/>
          <p:nvPr/>
        </p:nvSpPr>
        <p:spPr>
          <a:xfrm>
            <a:off x="6211440" y="2560680"/>
            <a:ext cx="126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MT Black"/>
                <a:ea typeface="宋体"/>
              </a:rPr>
              <a:t>NO.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5"/>
          <p:cNvSpPr/>
          <p:nvPr/>
        </p:nvSpPr>
        <p:spPr>
          <a:xfrm>
            <a:off x="6240960" y="2368440"/>
            <a:ext cx="12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MT Black"/>
                <a:ea typeface="宋体"/>
              </a:rPr>
              <a:t>ROKEY 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6"/>
          <p:cNvSpPr/>
          <p:nvPr/>
        </p:nvSpPr>
        <p:spPr>
          <a:xfrm>
            <a:off x="6187680" y="3206880"/>
            <a:ext cx="1415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磨砺锋芒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·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大器初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大将之气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·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剑指天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40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60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80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8T02:42:06Z</dcterms:created>
  <dc:creator/>
  <dc:description/>
  <cp:keywords>幻灯片之家 http:/www.eeppt.com</cp:keywords>
  <dc:language>en-US</dc:language>
  <cp:lastModifiedBy/>
  <dcterms:modified xsi:type="dcterms:W3CDTF">2015-07-12T09:30:18Z</dcterms:modified>
  <cp:revision>3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