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4A3-1E98-424F-80E6-484A4252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79D-34E8-4F29-A7B2-A29D68F5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30F-F379-44E6-B8DA-0AB2C9F0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42CB-0493-47B8-A748-9B5905F8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E96-8028-4692-8F1A-9BFBB2BA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3023-3FDD-423D-955D-ADC4AF30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C73-AC91-4494-B6A2-27272CC2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2C4-4D98-402B-8483-5F906C5B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CF22-AB32-425D-A6CA-412D6A60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C3B-11B6-42E4-9ED7-AF765D87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293-19BC-4E57-8B36-83BED90A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E569-A1AA-4268-B37B-D4325C60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图片 17" descr="1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" name="图片 18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" name="图片 8" descr="15.png"/>
          <p:cNvPicPr/>
          <p:nvPr/>
        </p:nvPicPr>
        <p:blipFill>
          <a:blip r:embed="rId4"/>
          <a:srcRect l="0" t="0" r="0" b="59452"/>
          <a:stretch/>
        </p:blipFill>
        <p:spPr>
          <a:xfrm>
            <a:off x="0" y="0"/>
            <a:ext cx="9144000" cy="2781360"/>
          </a:xfrm>
          <a:prstGeom prst="rect">
            <a:avLst/>
          </a:prstGeom>
          <a:ln w="0">
            <a:noFill/>
          </a:ln>
        </p:spPr>
      </p:pic>
      <p:pic>
        <p:nvPicPr>
          <p:cNvPr id="39" name="图片 20" descr="16.png"/>
          <p:cNvPicPr/>
          <p:nvPr/>
        </p:nvPicPr>
        <p:blipFill>
          <a:blip r:embed="rId5"/>
          <a:srcRect l="6252" t="38543" r="87502" b="54170"/>
          <a:stretch/>
        </p:blipFill>
        <p:spPr>
          <a:xfrm>
            <a:off x="571680" y="2643120"/>
            <a:ext cx="571320" cy="500040"/>
          </a:xfrm>
          <a:prstGeom prst="rect">
            <a:avLst/>
          </a:prstGeom>
          <a:ln w="0">
            <a:noFill/>
          </a:ln>
        </p:spPr>
      </p:pic>
      <p:pic>
        <p:nvPicPr>
          <p:cNvPr id="40" name="图片 21" descr="5.png"/>
          <p:cNvPicPr/>
          <p:nvPr/>
        </p:nvPicPr>
        <p:blipFill>
          <a:blip r:embed="rId6"/>
          <a:srcRect l="0" t="0" r="78128" b="43752"/>
          <a:stretch/>
        </p:blipFill>
        <p:spPr>
          <a:xfrm rot="21292800">
            <a:off x="-249120" y="-158400"/>
            <a:ext cx="1996920" cy="3854520"/>
          </a:xfrm>
          <a:prstGeom prst="rect">
            <a:avLst/>
          </a:prstGeom>
          <a:ln w="0">
            <a:noFill/>
          </a:ln>
        </p:spPr>
      </p:pic>
      <p:pic>
        <p:nvPicPr>
          <p:cNvPr id="41" name="图片 22" descr="16.png"/>
          <p:cNvPicPr/>
          <p:nvPr/>
        </p:nvPicPr>
        <p:blipFill>
          <a:blip r:embed="rId7"/>
          <a:srcRect l="6252" t="38543" r="87502" b="54170"/>
          <a:stretch/>
        </p:blipFill>
        <p:spPr>
          <a:xfrm>
            <a:off x="571680" y="2214720"/>
            <a:ext cx="571320" cy="5000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23" descr="16.png"/>
          <p:cNvPicPr/>
          <p:nvPr/>
        </p:nvPicPr>
        <p:blipFill>
          <a:blip r:embed="rId8"/>
          <a:srcRect l="6252" t="38543" r="87502" b="54170"/>
          <a:stretch/>
        </p:blipFill>
        <p:spPr>
          <a:xfrm>
            <a:off x="539640" y="199080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4" descr="16.png"/>
          <p:cNvPicPr/>
          <p:nvPr/>
        </p:nvPicPr>
        <p:blipFill>
          <a:blip r:embed="rId9"/>
          <a:srcRect l="6252" t="38543" r="87502" b="54170"/>
          <a:stretch/>
        </p:blipFill>
        <p:spPr>
          <a:xfrm rot="430200">
            <a:off x="596520" y="1496880"/>
            <a:ext cx="593640" cy="5191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25" descr="16.png"/>
          <p:cNvPicPr/>
          <p:nvPr/>
        </p:nvPicPr>
        <p:blipFill>
          <a:blip r:embed="rId10"/>
          <a:srcRect l="6252" t="38543" r="87502" b="54170"/>
          <a:stretch/>
        </p:blipFill>
        <p:spPr>
          <a:xfrm rot="430200">
            <a:off x="448920" y="749160"/>
            <a:ext cx="592200" cy="5191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6" descr="16.png"/>
          <p:cNvPicPr/>
          <p:nvPr/>
        </p:nvPicPr>
        <p:blipFill>
          <a:blip r:embed="rId11"/>
          <a:srcRect l="6252" t="38543" r="87502" b="54170"/>
          <a:stretch/>
        </p:blipFill>
        <p:spPr>
          <a:xfrm>
            <a:off x="0" y="1214280"/>
            <a:ext cx="571680" cy="5004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7" descr="16.png"/>
          <p:cNvPicPr/>
          <p:nvPr/>
        </p:nvPicPr>
        <p:blipFill>
          <a:blip r:embed="rId12"/>
          <a:srcRect l="6252" t="38543" r="87502" b="54170"/>
          <a:stretch/>
        </p:blipFill>
        <p:spPr>
          <a:xfrm rot="1523400">
            <a:off x="703440" y="748800"/>
            <a:ext cx="591840" cy="5191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8" descr="5.png"/>
          <p:cNvPicPr/>
          <p:nvPr/>
        </p:nvPicPr>
        <p:blipFill>
          <a:blip r:embed="rId13"/>
          <a:srcRect l="0" t="0" r="78128" b="43752"/>
          <a:stretch/>
        </p:blipFill>
        <p:spPr>
          <a:xfrm>
            <a:off x="-177840" y="-600120"/>
            <a:ext cx="1490760" cy="2876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7B89-154C-4D5A-B9B0-507C054544C6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13.png"/><Relationship Id="rId15" Type="http://schemas.openxmlformats.org/officeDocument/2006/relationships/image" Target="../media/image3.png"/><Relationship Id="rId16" Type="http://schemas.openxmlformats.org/officeDocument/2006/relationships/image" Target="../media/image13.png"/><Relationship Id="rId17" Type="http://schemas.openxmlformats.org/officeDocument/2006/relationships/image" Target="../media/image3.png"/><Relationship Id="rId18" Type="http://schemas.openxmlformats.org/officeDocument/2006/relationships/image" Target="../media/image1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3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4.png"/><Relationship Id="rId27" Type="http://schemas.openxmlformats.org/officeDocument/2006/relationships/image" Target="../media/image17.png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fengjing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13.png"/><Relationship Id="rId15" Type="http://schemas.openxmlformats.org/officeDocument/2006/relationships/image" Target="../media/image3.png"/><Relationship Id="rId16" Type="http://schemas.openxmlformats.org/officeDocument/2006/relationships/image" Target="../media/image13.png"/><Relationship Id="rId17" Type="http://schemas.openxmlformats.org/officeDocument/2006/relationships/image" Target="../media/image3.png"/><Relationship Id="rId18" Type="http://schemas.openxmlformats.org/officeDocument/2006/relationships/image" Target="../media/image1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image" Target="../media/image17.png"/><Relationship Id="rId26" Type="http://schemas.openxmlformats.org/officeDocument/2006/relationships/hyperlink" Target="http://www.eeppt.com" TargetMode="External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1.png"/>
          <p:cNvPicPr/>
          <p:nvPr/>
        </p:nvPicPr>
        <p:blipFill>
          <a:blip r:embed="rId1"/>
          <a:stretch/>
        </p:blipFill>
        <p:spPr>
          <a:xfrm>
            <a:off x="-4680" y="420840"/>
            <a:ext cx="9171000" cy="64688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3" descr="3.png"/>
          <p:cNvPicPr/>
          <p:nvPr/>
        </p:nvPicPr>
        <p:blipFill>
          <a:blip r:embed="rId3"/>
          <a:stretch/>
        </p:blipFill>
        <p:spPr>
          <a:xfrm>
            <a:off x="-108000" y="-98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4" descr="4.png"/>
          <p:cNvPicPr/>
          <p:nvPr/>
        </p:nvPicPr>
        <p:blipFill>
          <a:blip r:embed="rId4"/>
          <a:stretch/>
        </p:blipFill>
        <p:spPr>
          <a:xfrm>
            <a:off x="-3778200" y="260280"/>
            <a:ext cx="1674720" cy="6652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5" descr="10.png"/>
          <p:cNvPicPr/>
          <p:nvPr/>
        </p:nvPicPr>
        <p:blipFill>
          <a:blip r:embed="rId5"/>
          <a:srcRect l="0" t="58164" r="0" b="0"/>
          <a:stretch/>
        </p:blipFill>
        <p:spPr>
          <a:xfrm>
            <a:off x="0" y="3989520"/>
            <a:ext cx="9144000" cy="28684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6" descr="9.png"/>
          <p:cNvPicPr/>
          <p:nvPr/>
        </p:nvPicPr>
        <p:blipFill>
          <a:blip r:embed="rId6"/>
          <a:srcRect l="72053" t="66211" r="12074" b="16095"/>
          <a:stretch/>
        </p:blipFill>
        <p:spPr>
          <a:xfrm>
            <a:off x="6588000" y="4540320"/>
            <a:ext cx="1452600" cy="12142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7" descr="4.png"/>
          <p:cNvPicPr/>
          <p:nvPr/>
        </p:nvPicPr>
        <p:blipFill>
          <a:blip r:embed="rId7"/>
          <a:srcRect l="2345" t="10418" r="56253" b="67710"/>
          <a:stretch/>
        </p:blipFill>
        <p:spPr>
          <a:xfrm>
            <a:off x="-3273480" y="836640"/>
            <a:ext cx="3783240" cy="9367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8" descr="16.png"/>
          <p:cNvPicPr/>
          <p:nvPr/>
        </p:nvPicPr>
        <p:blipFill>
          <a:blip r:embed="rId8"/>
          <a:srcRect l="6252" t="38543" r="87502" b="54170"/>
          <a:stretch/>
        </p:blipFill>
        <p:spPr>
          <a:xfrm>
            <a:off x="571680" y="2643120"/>
            <a:ext cx="571320" cy="5000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9" descr="17.png"/>
          <p:cNvPicPr/>
          <p:nvPr/>
        </p:nvPicPr>
        <p:blipFill>
          <a:blip r:embed="rId9"/>
          <a:srcRect l="0" t="87504" r="89847" b="3127"/>
          <a:stretch/>
        </p:blipFill>
        <p:spPr>
          <a:xfrm>
            <a:off x="0" y="6000840"/>
            <a:ext cx="928800" cy="6429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0" descr="6.png"/>
          <p:cNvPicPr/>
          <p:nvPr/>
        </p:nvPicPr>
        <p:blipFill>
          <a:blip r:embed="rId10"/>
          <a:srcRect l="19533" t="82295" r="61721" b="9373"/>
          <a:stretch/>
        </p:blipFill>
        <p:spPr>
          <a:xfrm>
            <a:off x="1071720" y="5757840"/>
            <a:ext cx="1714320" cy="5716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1" descr="5.png"/>
          <p:cNvPicPr/>
          <p:nvPr/>
        </p:nvPicPr>
        <p:blipFill>
          <a:blip r:embed="rId11"/>
          <a:srcRect l="0" t="59379" r="88285" b="3126"/>
          <a:stretch/>
        </p:blipFill>
        <p:spPr>
          <a:xfrm>
            <a:off x="0" y="5373720"/>
            <a:ext cx="1071720" cy="19429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2" descr="5.png"/>
          <p:cNvPicPr/>
          <p:nvPr/>
        </p:nvPicPr>
        <p:blipFill>
          <a:blip r:embed="rId12"/>
          <a:srcRect l="0" t="0" r="78128" b="43752"/>
          <a:stretch/>
        </p:blipFill>
        <p:spPr>
          <a:xfrm rot="21292800">
            <a:off x="-249120" y="-158400"/>
            <a:ext cx="1996920" cy="385452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4" descr="16.png"/>
          <p:cNvPicPr/>
          <p:nvPr/>
        </p:nvPicPr>
        <p:blipFill>
          <a:blip r:embed="rId13"/>
          <a:srcRect l="6252" t="38543" r="87502" b="54170"/>
          <a:stretch/>
        </p:blipFill>
        <p:spPr>
          <a:xfrm>
            <a:off x="571680" y="2214720"/>
            <a:ext cx="571320" cy="5000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5" descr="6.png"/>
          <p:cNvPicPr/>
          <p:nvPr/>
        </p:nvPicPr>
        <p:blipFill>
          <a:blip r:embed="rId14"/>
          <a:srcRect l="19533" t="82295" r="61721" b="9373"/>
          <a:stretch/>
        </p:blipFill>
        <p:spPr>
          <a:xfrm>
            <a:off x="1357200" y="4786200"/>
            <a:ext cx="1000080" cy="3333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6" descr="16.png"/>
          <p:cNvPicPr/>
          <p:nvPr/>
        </p:nvPicPr>
        <p:blipFill>
          <a:blip r:embed="rId15"/>
          <a:srcRect l="6252" t="38543" r="87502" b="54170"/>
          <a:stretch/>
        </p:blipFill>
        <p:spPr>
          <a:xfrm>
            <a:off x="539640" y="199080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7" descr="6.png"/>
          <p:cNvPicPr/>
          <p:nvPr/>
        </p:nvPicPr>
        <p:blipFill>
          <a:blip r:embed="rId16"/>
          <a:srcRect l="19533" t="82295" r="61721" b="9373"/>
          <a:stretch/>
        </p:blipFill>
        <p:spPr>
          <a:xfrm>
            <a:off x="3000240" y="5929200"/>
            <a:ext cx="1857600" cy="6192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8" descr="16.png"/>
          <p:cNvPicPr/>
          <p:nvPr/>
        </p:nvPicPr>
        <p:blipFill>
          <a:blip r:embed="rId17"/>
          <a:srcRect l="6252" t="38543" r="87502" b="54170"/>
          <a:stretch/>
        </p:blipFill>
        <p:spPr>
          <a:xfrm rot="430200">
            <a:off x="596520" y="1496880"/>
            <a:ext cx="593640" cy="5191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9" descr="6.png"/>
          <p:cNvPicPr/>
          <p:nvPr/>
        </p:nvPicPr>
        <p:blipFill>
          <a:blip r:embed="rId18"/>
          <a:srcRect l="19533" t="82295" r="61721" b="9373"/>
          <a:stretch/>
        </p:blipFill>
        <p:spPr>
          <a:xfrm>
            <a:off x="2214720" y="5214960"/>
            <a:ext cx="1170000" cy="3906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20" descr="16.png"/>
          <p:cNvPicPr/>
          <p:nvPr/>
        </p:nvPicPr>
        <p:blipFill>
          <a:blip r:embed="rId19"/>
          <a:srcRect l="6252" t="38543" r="87502" b="54170"/>
          <a:stretch/>
        </p:blipFill>
        <p:spPr>
          <a:xfrm rot="430200">
            <a:off x="448920" y="749160"/>
            <a:ext cx="592200" cy="51912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1" descr="16.png"/>
          <p:cNvPicPr/>
          <p:nvPr/>
        </p:nvPicPr>
        <p:blipFill>
          <a:blip r:embed="rId20"/>
          <a:srcRect l="6252" t="38543" r="87502" b="54170"/>
          <a:stretch/>
        </p:blipFill>
        <p:spPr>
          <a:xfrm>
            <a:off x="0" y="1214280"/>
            <a:ext cx="571680" cy="5004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22" descr="17.png"/>
          <p:cNvPicPr/>
          <p:nvPr/>
        </p:nvPicPr>
        <p:blipFill>
          <a:blip r:embed="rId21"/>
          <a:srcRect l="0" t="87504" r="89847" b="3127"/>
          <a:stretch/>
        </p:blipFill>
        <p:spPr>
          <a:xfrm>
            <a:off x="71280" y="4786200"/>
            <a:ext cx="571680" cy="3952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3" descr="6.png"/>
          <p:cNvPicPr/>
          <p:nvPr/>
        </p:nvPicPr>
        <p:blipFill>
          <a:blip r:embed="rId22"/>
          <a:srcRect l="19533" t="82295" r="61721" b="9373"/>
          <a:stretch/>
        </p:blipFill>
        <p:spPr>
          <a:xfrm>
            <a:off x="4857840" y="5143680"/>
            <a:ext cx="1214280" cy="40464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24" descr="16.png"/>
          <p:cNvPicPr/>
          <p:nvPr/>
        </p:nvPicPr>
        <p:blipFill>
          <a:blip r:embed="rId23"/>
          <a:srcRect l="6252" t="38543" r="87502" b="54170"/>
          <a:stretch/>
        </p:blipFill>
        <p:spPr>
          <a:xfrm rot="1523400">
            <a:off x="703440" y="748800"/>
            <a:ext cx="591840" cy="519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D:\201011月\石景山\1_0003_gull.png"/>
          <p:cNvPicPr/>
          <p:nvPr/>
        </p:nvPicPr>
        <p:blipFill>
          <a:blip r:embed="rId24"/>
          <a:srcRect l="0" t="0" r="0" b="-7667"/>
          <a:stretch/>
        </p:blipFill>
        <p:spPr>
          <a:xfrm>
            <a:off x="10644120" y="2346480"/>
            <a:ext cx="795240" cy="876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C:\Documents and Settings\Administrator\桌面\569.png"/>
          <p:cNvPicPr/>
          <p:nvPr/>
        </p:nvPicPr>
        <p:blipFill>
          <a:blip r:embed="rId25"/>
          <a:stretch/>
        </p:blipFill>
        <p:spPr>
          <a:xfrm>
            <a:off x="-2265480" y="1989000"/>
            <a:ext cx="1414440" cy="77976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31" descr="5.png"/>
          <p:cNvPicPr/>
          <p:nvPr/>
        </p:nvPicPr>
        <p:blipFill>
          <a:blip r:embed="rId26"/>
          <a:srcRect l="0" t="0" r="78128" b="43752"/>
          <a:stretch/>
        </p:blipFill>
        <p:spPr>
          <a:xfrm>
            <a:off x="-177840" y="-600120"/>
            <a:ext cx="1490760" cy="2876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1" descr=""/>
          <p:cNvPicPr/>
          <p:nvPr/>
        </p:nvPicPr>
        <p:blipFill>
          <a:blip r:embed="rId27"/>
          <a:srcRect l="27302" t="21929" r="26790" b="21848"/>
          <a:stretch/>
        </p:blipFill>
        <p:spPr>
          <a:xfrm>
            <a:off x="2124000" y="692280"/>
            <a:ext cx="1974960" cy="23050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5"/>
          <p:cNvSpPr/>
          <p:nvPr/>
        </p:nvSpPr>
        <p:spPr>
          <a:xfrm>
            <a:off x="3724200" y="1876320"/>
            <a:ext cx="44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水光潋滟晴方好，山色空蒙雨亦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5280" y="4005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43160" y="306864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诗情画意风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 repeatCount="indefinite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-4.72222E-006 -2.94798E-006 L 1.32066 -2.94798E-006 E">
                                      <p:cBhvr>
                                        <p:cTn id="30" dur="10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40741E-007 C 0.05625 0.00555 0.22066 0.02268 0.33715 0.03333 C 0.45382 0.04398 0.58889 0.07755 0.69861 0.06435 C 0.80868 0.05116 0.90781 0.00255 0.99653 -0.0456 C 1.08524 -0.09375 1.18229 -0.1875 1.23108 -0.225 E">
                                      <p:cBhvr>
                                        <p:cTn id="56" dur="8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4.72222E-006 1.48148E-006 C -0.03282 -0.03125 -0.05261 -0.07871 -0.1349 -0.04398 C -0.21737 -0.00926 -0.38143 0.18171 -0.49532 0.20787 C -0.60938 0.23403 -0.68594 0.17083 -0.81789 0.11342 C -0.95018 0.05602 -1.19046 -0.08472 -1.28855 -0.13704 E">
                                      <p:cBhvr>
                                        <p:cTn id="58" dur="8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100"/>
                            </p:stCondLst>
                            <p:childTnLst>
                              <p:par>
                                <p:cTn id="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1.6763E-006 C 0.00174 0.02428 0.02066 0.09133 0.01094 0.1452 C 0.00122 0.19908 -0.0467 0.26359 -0.05885 0.32278 C -0.07101 0.38197 -0.06128 0.46335 -0.06198 0.50035 E">
                                      <p:cBhvr>
                                        <p:cTn id="61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3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2.5E-006 -3.69942E-006 L 1.53073 -3.69942E-006 E">
                                      <p:cBhvr>
                                        <p:cTn id="66" dur="10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3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04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72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3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4000" y="104000"/>
                                    </p:animScale>
                                  </p:childTnLst>
                                </p:cTn>
                              </p:par>
                              <p:par>
                                <p:cTn id="7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99699">
                                      <p:cBhvr>
                                        <p:cTn id="7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5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5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2.77556E-017 -3.93064E-006 C 0.00868 0.02197 0.04601 0.07792 0.05226 0.13156 C 0.05851 0.18521 0.0349 0.27006 0.03802 0.32185 C 0.04115 0.37365 0.05816 0.40856 0.07135 0.44232 C 0.08455 0.47607 0.10781 0.50706 0.11736 0.52417 E">
                                      <p:cBhvr>
                                        <p:cTn id="88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9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8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0.00122 -0.00069 C 0.00695 0.0178 0.029 0.06613 0.03612 0.11075 C 0.04323 0.15538 0.03091 0.22035 0.04358 0.26705 C 0.05625 0.31376 0.09775 0.36509 0.11198 0.39075 E">
                                      <p:cBhvr>
                                        <p:cTn id="102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8700"/>
                                  </p:stCondLst>
                                  <p:childTnLst>
                                    <p:animRot by="21600000">
                                      <p:cBhvr>
                                        <p:cTn id="10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128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13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13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0.02049 0.01226 C 0.03229 0.03977 0.07049 0.10197 0.09167 0.17757 C 0.11285 0.25318 0.10608 0.3852 0.14757 0.46567 C 0.18907 0.54613 0.30052 0.61966 0.3408 0.66012 E">
                                      <p:cBhvr>
                                        <p:cTn id="117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5700"/>
                                  </p:stCondLst>
                                  <p:childTnLst>
                                    <p:animRot by="21600000">
                                      <p:cBhvr>
                                        <p:cTn id="11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10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1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02049 0.01227 C 0.0408 0.04861 0.12379 0.15625 0.14271 0.23009 C 0.16164 0.30394 0.12066 0.38773 0.13403 0.45532 C 0.1474 0.52292 0.20469 0.59792 0.22327 0.63542 E">
                                      <p:cBhvr>
                                        <p:cTn id="132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21600000">
                                      <p:cBhvr>
                                        <p:cTn id="13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7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-0.00017 8.09249E-007 C 0.00417 0.02405 0.03003 0.09087 0.02743 0.14405 C 0.02483 0.19722 -0.01094 0.25757 -0.01545 0.31954 C -0.01997 0.3815 -0.00278 0.47514 0.00052 0.51607 E">
                                      <p:cBhvr>
                                        <p:cTn id="147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8">
                                  <p:stCondLst>
                                    <p:cond delay="5300"/>
                                  </p:stCondLst>
                                  <p:childTnLst>
                                    <p:animRot by="21600000">
                                      <p:cBhvr>
                                        <p:cTn id="14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10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10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.02049 0.01226 C 0.0375 0.05202 0.07639 0.17202 0.12222 0.25064 C 0.16806 0.32925 0.23542 0.42081 0.29601 0.48393 C 0.3566 0.54705 0.44601 0.59861 0.48559 0.6289 E">
                                      <p:cBhvr>
                                        <p:cTn id="162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8">
                                  <p:stCondLst>
                                    <p:cond delay="3900"/>
                                  </p:stCondLst>
                                  <p:childTnLst>
                                    <p:animRot by="21600000">
                                      <p:cBhvr>
                                        <p:cTn id="16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8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8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77760" y="5845320"/>
            <a:ext cx="6188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4f6128"/>
                </a:solidFill>
                <a:uFillTx/>
                <a:latin typeface="Arial"/>
                <a:hlinkClick r:id="rId1"/>
              </a:rPr>
              <a:t>自然风景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fengj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4f6128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1F97-2619-4842-95C8-75A21A98A3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29"/>
          <p:cNvSpPr/>
          <p:nvPr/>
        </p:nvSpPr>
        <p:spPr>
          <a:xfrm>
            <a:off x="285840" y="2849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1" descr="1.png"/>
          <p:cNvPicPr/>
          <p:nvPr/>
        </p:nvPicPr>
        <p:blipFill>
          <a:blip r:embed="rId1"/>
          <a:stretch/>
        </p:blipFill>
        <p:spPr>
          <a:xfrm>
            <a:off x="-4680" y="420840"/>
            <a:ext cx="9171000" cy="64688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3" descr="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4.png"/>
          <p:cNvPicPr/>
          <p:nvPr/>
        </p:nvPicPr>
        <p:blipFill>
          <a:blip r:embed="rId4"/>
          <a:stretch/>
        </p:blipFill>
        <p:spPr>
          <a:xfrm>
            <a:off x="-3778200" y="260280"/>
            <a:ext cx="1674720" cy="66528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5" descr="10.png"/>
          <p:cNvPicPr/>
          <p:nvPr/>
        </p:nvPicPr>
        <p:blipFill>
          <a:blip r:embed="rId5"/>
          <a:srcRect l="0" t="58164" r="0" b="0"/>
          <a:stretch/>
        </p:blipFill>
        <p:spPr>
          <a:xfrm>
            <a:off x="0" y="3989520"/>
            <a:ext cx="9144000" cy="28684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6" descr="9.png"/>
          <p:cNvPicPr/>
          <p:nvPr/>
        </p:nvPicPr>
        <p:blipFill>
          <a:blip r:embed="rId6"/>
          <a:srcRect l="72053" t="66211" r="12074" b="16095"/>
          <a:stretch/>
        </p:blipFill>
        <p:spPr>
          <a:xfrm>
            <a:off x="6588000" y="4540320"/>
            <a:ext cx="1452600" cy="12142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7" descr="4.png"/>
          <p:cNvPicPr/>
          <p:nvPr/>
        </p:nvPicPr>
        <p:blipFill>
          <a:blip r:embed="rId7"/>
          <a:srcRect l="2345" t="10418" r="56253" b="67710"/>
          <a:stretch/>
        </p:blipFill>
        <p:spPr>
          <a:xfrm>
            <a:off x="-3273480" y="836640"/>
            <a:ext cx="3783240" cy="93672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8" descr="16.png"/>
          <p:cNvPicPr/>
          <p:nvPr/>
        </p:nvPicPr>
        <p:blipFill>
          <a:blip r:embed="rId8"/>
          <a:srcRect l="6252" t="38543" r="87502" b="54170"/>
          <a:stretch/>
        </p:blipFill>
        <p:spPr>
          <a:xfrm>
            <a:off x="571680" y="2643120"/>
            <a:ext cx="571320" cy="5000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9" descr="17.png"/>
          <p:cNvPicPr/>
          <p:nvPr/>
        </p:nvPicPr>
        <p:blipFill>
          <a:blip r:embed="rId9"/>
          <a:srcRect l="0" t="87504" r="89847" b="3127"/>
          <a:stretch/>
        </p:blipFill>
        <p:spPr>
          <a:xfrm>
            <a:off x="0" y="6000840"/>
            <a:ext cx="928800" cy="6429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0" descr="6.png"/>
          <p:cNvPicPr/>
          <p:nvPr/>
        </p:nvPicPr>
        <p:blipFill>
          <a:blip r:embed="rId10"/>
          <a:srcRect l="19533" t="82295" r="61721" b="9373"/>
          <a:stretch/>
        </p:blipFill>
        <p:spPr>
          <a:xfrm>
            <a:off x="1071720" y="5757840"/>
            <a:ext cx="1714320" cy="5716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1" descr="5.png"/>
          <p:cNvPicPr/>
          <p:nvPr/>
        </p:nvPicPr>
        <p:blipFill>
          <a:blip r:embed="rId11"/>
          <a:srcRect l="0" t="59379" r="88285" b="3126"/>
          <a:stretch/>
        </p:blipFill>
        <p:spPr>
          <a:xfrm>
            <a:off x="0" y="5373720"/>
            <a:ext cx="1071720" cy="194292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2" descr="5.png"/>
          <p:cNvPicPr/>
          <p:nvPr/>
        </p:nvPicPr>
        <p:blipFill>
          <a:blip r:embed="rId12"/>
          <a:srcRect l="0" t="0" r="78128" b="43752"/>
          <a:stretch/>
        </p:blipFill>
        <p:spPr>
          <a:xfrm rot="21292800">
            <a:off x="-249120" y="-158400"/>
            <a:ext cx="1996920" cy="38545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4" descr="16.png"/>
          <p:cNvPicPr/>
          <p:nvPr/>
        </p:nvPicPr>
        <p:blipFill>
          <a:blip r:embed="rId13"/>
          <a:srcRect l="6252" t="38543" r="87502" b="54170"/>
          <a:stretch/>
        </p:blipFill>
        <p:spPr>
          <a:xfrm>
            <a:off x="571680" y="2214720"/>
            <a:ext cx="571320" cy="5000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5" descr="6.png"/>
          <p:cNvPicPr/>
          <p:nvPr/>
        </p:nvPicPr>
        <p:blipFill>
          <a:blip r:embed="rId14"/>
          <a:srcRect l="19533" t="82295" r="61721" b="9373"/>
          <a:stretch/>
        </p:blipFill>
        <p:spPr>
          <a:xfrm>
            <a:off x="1357200" y="4786200"/>
            <a:ext cx="1000080" cy="3333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6" descr="16.png"/>
          <p:cNvPicPr/>
          <p:nvPr/>
        </p:nvPicPr>
        <p:blipFill>
          <a:blip r:embed="rId15"/>
          <a:srcRect l="6252" t="38543" r="87502" b="54170"/>
          <a:stretch/>
        </p:blipFill>
        <p:spPr>
          <a:xfrm>
            <a:off x="539640" y="199080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7" descr="6.png"/>
          <p:cNvPicPr/>
          <p:nvPr/>
        </p:nvPicPr>
        <p:blipFill>
          <a:blip r:embed="rId16"/>
          <a:srcRect l="19533" t="82295" r="61721" b="9373"/>
          <a:stretch/>
        </p:blipFill>
        <p:spPr>
          <a:xfrm>
            <a:off x="3000240" y="5929200"/>
            <a:ext cx="1857600" cy="6192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8" descr="16.png"/>
          <p:cNvPicPr/>
          <p:nvPr/>
        </p:nvPicPr>
        <p:blipFill>
          <a:blip r:embed="rId17"/>
          <a:srcRect l="6252" t="38543" r="87502" b="54170"/>
          <a:stretch/>
        </p:blipFill>
        <p:spPr>
          <a:xfrm rot="430200">
            <a:off x="596520" y="1496880"/>
            <a:ext cx="593640" cy="51912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9" descr="6.png"/>
          <p:cNvPicPr/>
          <p:nvPr/>
        </p:nvPicPr>
        <p:blipFill>
          <a:blip r:embed="rId18"/>
          <a:srcRect l="19533" t="82295" r="61721" b="9373"/>
          <a:stretch/>
        </p:blipFill>
        <p:spPr>
          <a:xfrm>
            <a:off x="2214720" y="5214960"/>
            <a:ext cx="1170000" cy="3906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0" descr="16.png"/>
          <p:cNvPicPr/>
          <p:nvPr/>
        </p:nvPicPr>
        <p:blipFill>
          <a:blip r:embed="rId19"/>
          <a:srcRect l="6252" t="38543" r="87502" b="54170"/>
          <a:stretch/>
        </p:blipFill>
        <p:spPr>
          <a:xfrm rot="430200">
            <a:off x="448920" y="749160"/>
            <a:ext cx="592200" cy="51912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21" descr="16.png"/>
          <p:cNvPicPr/>
          <p:nvPr/>
        </p:nvPicPr>
        <p:blipFill>
          <a:blip r:embed="rId20"/>
          <a:srcRect l="6252" t="38543" r="87502" b="54170"/>
          <a:stretch/>
        </p:blipFill>
        <p:spPr>
          <a:xfrm>
            <a:off x="0" y="1214280"/>
            <a:ext cx="571680" cy="5004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22" descr="17.png"/>
          <p:cNvPicPr/>
          <p:nvPr/>
        </p:nvPicPr>
        <p:blipFill>
          <a:blip r:embed="rId21"/>
          <a:srcRect l="0" t="87504" r="89847" b="3127"/>
          <a:stretch/>
        </p:blipFill>
        <p:spPr>
          <a:xfrm>
            <a:off x="71280" y="4786200"/>
            <a:ext cx="571680" cy="39528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23" descr="6.png"/>
          <p:cNvPicPr/>
          <p:nvPr/>
        </p:nvPicPr>
        <p:blipFill>
          <a:blip r:embed="rId22"/>
          <a:srcRect l="19533" t="82295" r="61721" b="9373"/>
          <a:stretch/>
        </p:blipFill>
        <p:spPr>
          <a:xfrm>
            <a:off x="4857840" y="5143680"/>
            <a:ext cx="1214280" cy="40464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24" descr="16.png"/>
          <p:cNvPicPr/>
          <p:nvPr/>
        </p:nvPicPr>
        <p:blipFill>
          <a:blip r:embed="rId23"/>
          <a:srcRect l="6252" t="38543" r="87502" b="54170"/>
          <a:stretch/>
        </p:blipFill>
        <p:spPr>
          <a:xfrm rot="1523400">
            <a:off x="703440" y="748800"/>
            <a:ext cx="591840" cy="51912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1" descr="5.png"/>
          <p:cNvPicPr/>
          <p:nvPr/>
        </p:nvPicPr>
        <p:blipFill>
          <a:blip r:embed="rId24"/>
          <a:srcRect l="0" t="0" r="78128" b="43752"/>
          <a:stretch/>
        </p:blipFill>
        <p:spPr>
          <a:xfrm>
            <a:off x="-177840" y="-600120"/>
            <a:ext cx="1490760" cy="2876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1" descr=""/>
          <p:cNvPicPr/>
          <p:nvPr/>
        </p:nvPicPr>
        <p:blipFill>
          <a:blip r:embed="rId25"/>
          <a:srcRect l="25046" t="19758" r="24876" b="27680"/>
          <a:stretch/>
        </p:blipFill>
        <p:spPr>
          <a:xfrm>
            <a:off x="1908000" y="76500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25"/>
          <p:cNvSpPr/>
          <p:nvPr/>
        </p:nvSpPr>
        <p:spPr>
          <a:xfrm>
            <a:off x="3724200" y="187632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经典舒同体简"/>
                <a:ea typeface="经典舒同体简"/>
              </a:rPr>
              <a:t>水光潋滟晴方好，山色空蒙雨亦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3"/>
          <p:cNvSpPr/>
          <p:nvPr/>
        </p:nvSpPr>
        <p:spPr>
          <a:xfrm>
            <a:off x="2843280" y="4606920"/>
            <a:ext cx="349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汉仪水滴体简"/>
                <a:ea typeface="汉仪水滴体简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630864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4f6128"/>
                </a:solidFill>
                <a:uFillTx/>
                <a:latin typeface="Verdana"/>
                <a:hlinkClick r:id="rId26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1.6763E-006 C 0.00174 0.02428 0.02066 0.09133 0.01094 0.1452 C 0.00122 0.19908 -0.0467 0.26359 -0.05885 0.32278 C -0.07101 0.38197 -0.06128 0.46335 -0.06198 0.50035 E">
                                      <p:cBhvr>
                                        <p:cTn id="187" dur="5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63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2.5E-006 -3.69942E-006 L 1.53073 -3.69942E-006 E">
                                      <p:cBhvr>
                                        <p:cTn id="192" dur="10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5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5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2.77556E-017 -3.93064E-006 C 0.00868 0.02197 0.04601 0.07792 0.05226 0.13156 C 0.05851 0.18521 0.0349 0.27006 0.03802 0.32185 C 0.04115 0.37365 0.05816 0.40856 0.07135 0.44232 C 0.08455 0.47607 0.10781 0.50706 0.11736 0.52417 E">
                                      <p:cBhvr>
                                        <p:cTn id="206" dur="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20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16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8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0.00122 -0.00069 C 0.00695 0.0178 0.02813 0.06566 0.03612 0.11075 C 0.0441 0.15584 0.03664 0.22197 0.04879 0.26936 C 0.06094 0.31676 0.09601 0.36902 0.10851 0.39538 E">
                                      <p:cBhvr>
                                        <p:cTn id="220" dur="5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>
                                  <p:stCondLst>
                                    <p:cond delay="8700"/>
                                  </p:stCondLst>
                                  <p:childTnLst>
                                    <p:animRot by="21600000">
                                      <p:cBhvr>
                                        <p:cTn id="222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128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0">
                                  <p:stCondLst>
                                    <p:cond delay="13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13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0.02049 0.01226 C 0.03229 0.03977 0.07049 0.10197 0.09167 0.17757 C 0.11285 0.25318 0.10903 0.38497 0.14757 0.46567 C 0.18611 0.54636 0.28664 0.62151 0.32327 0.66243 E">
                                      <p:cBhvr>
                                        <p:cTn id="235" dur="5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8">
                                  <p:stCondLst>
                                    <p:cond delay="5700"/>
                                  </p:stCondLst>
                                  <p:childTnLst>
                                    <p:animRot by="21600000">
                                      <p:cBhvr>
                                        <p:cTn id="23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10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1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02049 0.01227 C 0.0408 0.04861 0.12379 0.15625 0.14271 0.23009 C 0.16164 0.30394 0.12066 0.38773 0.13403 0.45532 C 0.1474 0.52292 0.20469 0.59792 0.22327 0.63542 E">
                                      <p:cBhvr>
                                        <p:cTn id="250" dur="5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21600000">
                                      <p:cBhvr>
                                        <p:cTn id="25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7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0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-0.00017 8.09249E-007 C 0.00417 0.02405 0.03003 0.09087 0.02743 0.14405 C 0.02483 0.19722 -0.01094 0.25757 -0.01545 0.31954 C -0.01997 0.3815 -0.00278 0.47514 0.00052 0.51607 E">
                                      <p:cBhvr>
                                        <p:cTn id="265" dur="5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8">
                                  <p:stCondLst>
                                    <p:cond delay="5300"/>
                                  </p:stCondLst>
                                  <p:childTnLst>
                                    <p:animRot by="21600000">
                                      <p:cBhvr>
                                        <p:cTn id="267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10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10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.02049 0.01226 C 0.0375 0.05202 0.07639 0.17202 0.12222 0.25064 C 0.16806 0.32925 0.23542 0.42081 0.29601 0.48393 C 0.3566 0.54705 0.44601 0.59861 0.48559 0.6289 E">
                                      <p:cBhvr>
                                        <p:cTn id="280" dur="5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8">
                                  <p:stCondLst>
                                    <p:cond delay="3900"/>
                                  </p:stCondLst>
                                  <p:childTnLst>
                                    <p:animRot by="21600000">
                                      <p:cBhvr>
                                        <p:cTn id="282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8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8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8T22:51:41Z</dcterms:created>
  <dc:creator/>
  <dc:description/>
  <cp:keywords>幻灯片之家 http:/www.eeppt.com</cp:keywords>
  <dc:language>en-US</dc:language>
  <cp:lastModifiedBy/>
  <dcterms:modified xsi:type="dcterms:W3CDTF">2015-07-06T02:15:31Z</dcterms:modified>
  <cp:revision>5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