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时尚中黑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C:\Documents and Settings\鱼不愚\桌面\未标题-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时尚中黑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"/>
          <p:cNvSpPr/>
          <p:nvPr/>
        </p:nvSpPr>
        <p:spPr>
          <a:xfrm>
            <a:off x="177840" y="673200"/>
            <a:ext cx="8852040" cy="5486400"/>
          </a:xfrm>
          <a:prstGeom prst="roundRect">
            <a:avLst>
              <a:gd name="adj" fmla="val 5093"/>
            </a:avLst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5840" y="1600200"/>
            <a:ext cx="54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务数据分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44"/>
          <p:cNvSpPr/>
          <p:nvPr/>
        </p:nvSpPr>
        <p:spPr>
          <a:xfrm>
            <a:off x="1871640" y="160020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8"/>
          <p:cNvGrpSpPr/>
          <p:nvPr/>
        </p:nvGrpSpPr>
        <p:grpSpPr>
          <a:xfrm>
            <a:off x="1274760" y="1600200"/>
            <a:ext cx="655560" cy="547560"/>
            <a:chOff x="1274760" y="1600200"/>
            <a:chExt cx="655560" cy="547560"/>
          </a:xfrm>
        </p:grpSpPr>
        <p:sp>
          <p:nvSpPr>
            <p:cNvPr id="125" name="Rectangle 7"/>
            <p:cNvSpPr/>
            <p:nvPr/>
          </p:nvSpPr>
          <p:spPr>
            <a:xfrm>
              <a:off x="1274760" y="160020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1274760" y="1603080"/>
              <a:ext cx="63360" cy="541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1280880" y="161280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 flipH="1">
              <a:off x="1866960" y="1606320"/>
              <a:ext cx="63360" cy="54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AutoShape 144"/>
          <p:cNvSpPr/>
          <p:nvPr/>
        </p:nvSpPr>
        <p:spPr>
          <a:xfrm>
            <a:off x="1871640" y="242712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39"/>
          <p:cNvGrpSpPr/>
          <p:nvPr/>
        </p:nvGrpSpPr>
        <p:grpSpPr>
          <a:xfrm>
            <a:off x="1274760" y="2427120"/>
            <a:ext cx="655560" cy="547920"/>
            <a:chOff x="1274760" y="2427120"/>
            <a:chExt cx="655560" cy="547920"/>
          </a:xfrm>
        </p:grpSpPr>
        <p:sp>
          <p:nvSpPr>
            <p:cNvPr id="131" name="Rectangle 7"/>
            <p:cNvSpPr/>
            <p:nvPr/>
          </p:nvSpPr>
          <p:spPr>
            <a:xfrm>
              <a:off x="1274760" y="2427120"/>
              <a:ext cx="654120" cy="54792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1274760" y="2430000"/>
              <a:ext cx="63360" cy="541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1280880" y="243000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2"/>
            <p:cNvSpPr/>
            <p:nvPr/>
          </p:nvSpPr>
          <p:spPr>
            <a:xfrm flipH="1">
              <a:off x="1866960" y="2433240"/>
              <a:ext cx="63360" cy="54180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144"/>
          <p:cNvSpPr/>
          <p:nvPr/>
        </p:nvSpPr>
        <p:spPr>
          <a:xfrm>
            <a:off x="1871640" y="325440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40"/>
          <p:cNvGrpSpPr/>
          <p:nvPr/>
        </p:nvGrpSpPr>
        <p:grpSpPr>
          <a:xfrm>
            <a:off x="1263600" y="3255840"/>
            <a:ext cx="654120" cy="549360"/>
            <a:chOff x="1263600" y="3255840"/>
            <a:chExt cx="654120" cy="549360"/>
          </a:xfrm>
        </p:grpSpPr>
        <p:sp>
          <p:nvSpPr>
            <p:cNvPr id="137" name="Rectangle 7"/>
            <p:cNvSpPr/>
            <p:nvPr/>
          </p:nvSpPr>
          <p:spPr>
            <a:xfrm>
              <a:off x="1263600" y="3255840"/>
              <a:ext cx="652680" cy="5493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63600" y="3258720"/>
              <a:ext cx="63360" cy="543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1269720" y="3258720"/>
              <a:ext cx="646200" cy="1317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 flipH="1">
              <a:off x="1854360" y="3261960"/>
              <a:ext cx="63360" cy="5432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AutoShape 144"/>
          <p:cNvSpPr/>
          <p:nvPr/>
        </p:nvSpPr>
        <p:spPr>
          <a:xfrm>
            <a:off x="1871640" y="40910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41"/>
          <p:cNvGrpSpPr/>
          <p:nvPr/>
        </p:nvGrpSpPr>
        <p:grpSpPr>
          <a:xfrm>
            <a:off x="1247760" y="4083120"/>
            <a:ext cx="655560" cy="547560"/>
            <a:chOff x="1247760" y="4083120"/>
            <a:chExt cx="655560" cy="547560"/>
          </a:xfrm>
        </p:grpSpPr>
        <p:sp>
          <p:nvSpPr>
            <p:cNvPr id="143" name="Rectangle 7"/>
            <p:cNvSpPr/>
            <p:nvPr/>
          </p:nvSpPr>
          <p:spPr>
            <a:xfrm>
              <a:off x="1247760" y="408312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1247760" y="4086000"/>
              <a:ext cx="63360" cy="541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1253880" y="408600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 flipH="1">
              <a:off x="1839960" y="4089240"/>
              <a:ext cx="63360" cy="54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AutoShape 144"/>
          <p:cNvSpPr/>
          <p:nvPr/>
        </p:nvSpPr>
        <p:spPr>
          <a:xfrm>
            <a:off x="1871640" y="49118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2"/>
          <p:cNvGrpSpPr/>
          <p:nvPr/>
        </p:nvGrpSpPr>
        <p:grpSpPr>
          <a:xfrm>
            <a:off x="1265400" y="4910040"/>
            <a:ext cx="653760" cy="547920"/>
            <a:chOff x="1265400" y="4910040"/>
            <a:chExt cx="653760" cy="547920"/>
          </a:xfrm>
        </p:grpSpPr>
        <p:sp>
          <p:nvSpPr>
            <p:cNvPr id="149" name="Rectangle 7"/>
            <p:cNvSpPr/>
            <p:nvPr/>
          </p:nvSpPr>
          <p:spPr>
            <a:xfrm>
              <a:off x="1265400" y="4910040"/>
              <a:ext cx="652320" cy="54792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1265400" y="4912920"/>
              <a:ext cx="63360" cy="541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1271520" y="4912920"/>
              <a:ext cx="645840" cy="131760"/>
            </a:xfrm>
            <a:custGeom>
              <a:avLst/>
              <a:gdLst>
                <a:gd name="textAreaLeft" fmla="*/ 0 w 645840"/>
                <a:gd name="textAreaRight" fmla="*/ 646200 w 6458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 flipH="1">
              <a:off x="1855800" y="4916160"/>
              <a:ext cx="63360" cy="54180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15840" y="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时尚中黑简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时尚中黑简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"/>
          <p:cNvSpPr/>
          <p:nvPr/>
        </p:nvSpPr>
        <p:spPr>
          <a:xfrm>
            <a:off x="3182760" y="2344680"/>
            <a:ext cx="3152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76092"/>
                </a:solidFill>
                <a:latin typeface="华文隶书"/>
                <a:ea typeface="华文隶书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0" y="6599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2:31:57Z</dcterms:created>
  <dc:creator/>
  <dc:description/>
  <cp:keywords>幻灯片之家 http:/www.eeppt.com</cp:keywords>
  <dc:language>en-US</dc:language>
  <cp:lastModifiedBy/>
  <dcterms:modified xsi:type="dcterms:W3CDTF">2015-07-09T03:07:19Z</dcterms:modified>
  <cp:revision>1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