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2CB-CF0C-429E-9206-D3F4112A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02B-607D-434F-8971-C2D1D4DD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F42-361F-405E-A943-77E43FFD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CC1-B4DA-42F5-B380-8ADBDB5D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6D0-CF40-4E1E-BF48-309926DC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2CE-4343-475F-99B5-41B414C8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2A6-1E70-4861-85D6-A2C35D9A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B90-7AD8-4B63-9B5A-2760404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21F-EDBD-4A57-8219-F7C0172F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D39-B94E-465A-8630-0332048B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3F4-E9AC-4B3C-B694-6D66DF65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ABB-A847-4DDD-876F-0D41B5E7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17B2-4C4C-4CC7-B822-D7AC7C050A6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8D53-5EF1-4BE0-97B6-11E5D0FE27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507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643120" y="985680"/>
            <a:ext cx="30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24000" y="1628640"/>
            <a:ext cx="309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27920" y="9856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商务通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424"/>
          <p:cNvGrpSpPr/>
          <p:nvPr/>
        </p:nvGrpSpPr>
        <p:grpSpPr>
          <a:xfrm>
            <a:off x="642960" y="785880"/>
            <a:ext cx="1520640" cy="2950920"/>
            <a:chOff x="642960" y="785880"/>
            <a:chExt cx="1520640" cy="2950920"/>
          </a:xfrm>
        </p:grpSpPr>
        <p:sp>
          <p:nvSpPr>
            <p:cNvPr id="48" name="圆角矩形 3"/>
            <p:cNvSpPr/>
            <p:nvPr/>
          </p:nvSpPr>
          <p:spPr>
            <a:xfrm rot="5400000">
              <a:off x="-72000" y="1500840"/>
              <a:ext cx="295092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4"/>
            <p:cNvSpPr/>
            <p:nvPr/>
          </p:nvSpPr>
          <p:spPr>
            <a:xfrm>
              <a:off x="795240" y="962640"/>
              <a:ext cx="1188720" cy="1189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9"/>
            <p:cNvSpPr/>
            <p:nvPr/>
          </p:nvSpPr>
          <p:spPr>
            <a:xfrm>
              <a:off x="768600" y="9370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6"/>
            <p:cNvSpPr/>
            <p:nvPr/>
          </p:nvSpPr>
          <p:spPr>
            <a:xfrm>
              <a:off x="1109160" y="15598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39"/>
            <p:cNvSpPr/>
            <p:nvPr/>
          </p:nvSpPr>
          <p:spPr>
            <a:xfrm>
              <a:off x="742680" y="236628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430"/>
          <p:cNvGrpSpPr/>
          <p:nvPr/>
        </p:nvGrpSpPr>
        <p:grpSpPr>
          <a:xfrm>
            <a:off x="2819520" y="785880"/>
            <a:ext cx="1520640" cy="2950920"/>
            <a:chOff x="2819520" y="785880"/>
            <a:chExt cx="1520640" cy="2950920"/>
          </a:xfrm>
        </p:grpSpPr>
        <p:sp>
          <p:nvSpPr>
            <p:cNvPr id="54" name="圆角矩形 9"/>
            <p:cNvSpPr/>
            <p:nvPr/>
          </p:nvSpPr>
          <p:spPr>
            <a:xfrm rot="5400000">
              <a:off x="2104200" y="1500840"/>
              <a:ext cx="295092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10"/>
            <p:cNvSpPr/>
            <p:nvPr/>
          </p:nvSpPr>
          <p:spPr>
            <a:xfrm>
              <a:off x="2971800" y="962640"/>
              <a:ext cx="1188720" cy="1189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9"/>
            <p:cNvSpPr/>
            <p:nvPr/>
          </p:nvSpPr>
          <p:spPr>
            <a:xfrm>
              <a:off x="2945160" y="9370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2"/>
            <p:cNvSpPr/>
            <p:nvPr/>
          </p:nvSpPr>
          <p:spPr>
            <a:xfrm>
              <a:off x="3285720" y="15598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39"/>
            <p:cNvSpPr/>
            <p:nvPr/>
          </p:nvSpPr>
          <p:spPr>
            <a:xfrm>
              <a:off x="2919240" y="236628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436"/>
          <p:cNvGrpSpPr/>
          <p:nvPr/>
        </p:nvGrpSpPr>
        <p:grpSpPr>
          <a:xfrm>
            <a:off x="2214720" y="2021040"/>
            <a:ext cx="522000" cy="285480"/>
            <a:chOff x="2214720" y="2021040"/>
            <a:chExt cx="522000" cy="285480"/>
          </a:xfrm>
        </p:grpSpPr>
        <p:sp>
          <p:nvSpPr>
            <p:cNvPr id="60" name="燕尾形 15"/>
            <p:cNvSpPr/>
            <p:nvPr/>
          </p:nvSpPr>
          <p:spPr>
            <a:xfrm>
              <a:off x="2214720" y="2021040"/>
              <a:ext cx="285120" cy="285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燕尾形 16"/>
            <p:cNvSpPr/>
            <p:nvPr/>
          </p:nvSpPr>
          <p:spPr>
            <a:xfrm>
              <a:off x="2451600" y="2021040"/>
              <a:ext cx="285120" cy="285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439"/>
          <p:cNvGrpSpPr/>
          <p:nvPr/>
        </p:nvGrpSpPr>
        <p:grpSpPr>
          <a:xfrm>
            <a:off x="5000760" y="785880"/>
            <a:ext cx="1520640" cy="2950920"/>
            <a:chOff x="5000760" y="785880"/>
            <a:chExt cx="1520640" cy="2950920"/>
          </a:xfrm>
        </p:grpSpPr>
        <p:sp>
          <p:nvSpPr>
            <p:cNvPr id="63" name="圆角矩形 18"/>
            <p:cNvSpPr/>
            <p:nvPr/>
          </p:nvSpPr>
          <p:spPr>
            <a:xfrm rot="5400000">
              <a:off x="4285440" y="1500840"/>
              <a:ext cx="295092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19"/>
            <p:cNvSpPr/>
            <p:nvPr/>
          </p:nvSpPr>
          <p:spPr>
            <a:xfrm>
              <a:off x="5153040" y="962640"/>
              <a:ext cx="1188720" cy="1189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39"/>
            <p:cNvSpPr/>
            <p:nvPr/>
          </p:nvSpPr>
          <p:spPr>
            <a:xfrm>
              <a:off x="5126400" y="9370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21"/>
            <p:cNvSpPr/>
            <p:nvPr/>
          </p:nvSpPr>
          <p:spPr>
            <a:xfrm>
              <a:off x="5466960" y="15598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9"/>
            <p:cNvSpPr/>
            <p:nvPr/>
          </p:nvSpPr>
          <p:spPr>
            <a:xfrm>
              <a:off x="5100480" y="236628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45"/>
          <p:cNvGrpSpPr/>
          <p:nvPr/>
        </p:nvGrpSpPr>
        <p:grpSpPr>
          <a:xfrm>
            <a:off x="7122600" y="785880"/>
            <a:ext cx="1521000" cy="2950920"/>
            <a:chOff x="7122600" y="785880"/>
            <a:chExt cx="1521000" cy="2950920"/>
          </a:xfrm>
        </p:grpSpPr>
        <p:sp>
          <p:nvSpPr>
            <p:cNvPr id="69" name="圆角矩形 24"/>
            <p:cNvSpPr/>
            <p:nvPr/>
          </p:nvSpPr>
          <p:spPr>
            <a:xfrm rot="5400000">
              <a:off x="6407640" y="1500840"/>
              <a:ext cx="2950920" cy="152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25"/>
            <p:cNvSpPr/>
            <p:nvPr/>
          </p:nvSpPr>
          <p:spPr>
            <a:xfrm>
              <a:off x="7275600" y="962640"/>
              <a:ext cx="1188720" cy="1189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9"/>
            <p:cNvSpPr/>
            <p:nvPr/>
          </p:nvSpPr>
          <p:spPr>
            <a:xfrm>
              <a:off x="7248600" y="937080"/>
              <a:ext cx="130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36c09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7"/>
            <p:cNvSpPr/>
            <p:nvPr/>
          </p:nvSpPr>
          <p:spPr>
            <a:xfrm>
              <a:off x="7589160" y="15598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36c09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39"/>
            <p:cNvSpPr/>
            <p:nvPr/>
          </p:nvSpPr>
          <p:spPr>
            <a:xfrm>
              <a:off x="7222680" y="2366280"/>
              <a:ext cx="13615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451"/>
          <p:cNvGrpSpPr/>
          <p:nvPr/>
        </p:nvGrpSpPr>
        <p:grpSpPr>
          <a:xfrm>
            <a:off x="6572160" y="2021040"/>
            <a:ext cx="522360" cy="285480"/>
            <a:chOff x="6572160" y="2021040"/>
            <a:chExt cx="522360" cy="285480"/>
          </a:xfrm>
        </p:grpSpPr>
        <p:sp>
          <p:nvSpPr>
            <p:cNvPr id="75" name="燕尾形 30"/>
            <p:cNvSpPr/>
            <p:nvPr/>
          </p:nvSpPr>
          <p:spPr>
            <a:xfrm>
              <a:off x="6572160" y="202104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燕尾形 31"/>
            <p:cNvSpPr/>
            <p:nvPr/>
          </p:nvSpPr>
          <p:spPr>
            <a:xfrm>
              <a:off x="6809040" y="202104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454"/>
          <p:cNvGrpSpPr/>
          <p:nvPr/>
        </p:nvGrpSpPr>
        <p:grpSpPr>
          <a:xfrm>
            <a:off x="4429080" y="2021040"/>
            <a:ext cx="522360" cy="285480"/>
            <a:chOff x="4429080" y="2021040"/>
            <a:chExt cx="522360" cy="285480"/>
          </a:xfrm>
        </p:grpSpPr>
        <p:sp>
          <p:nvSpPr>
            <p:cNvPr id="78" name="燕尾形 33"/>
            <p:cNvSpPr/>
            <p:nvPr/>
          </p:nvSpPr>
          <p:spPr>
            <a:xfrm>
              <a:off x="4429080" y="202104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燕尾形 34"/>
            <p:cNvSpPr/>
            <p:nvPr/>
          </p:nvSpPr>
          <p:spPr>
            <a:xfrm>
              <a:off x="4665960" y="202104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右箭头 35"/>
          <p:cNvSpPr/>
          <p:nvPr/>
        </p:nvSpPr>
        <p:spPr>
          <a:xfrm>
            <a:off x="892080" y="3990960"/>
            <a:ext cx="690480" cy="6714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714680" y="4262400"/>
            <a:ext cx="636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1714680" y="3929040"/>
            <a:ext cx="3143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776160" y="4124160"/>
            <a:ext cx="86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右箭头 39"/>
          <p:cNvSpPr/>
          <p:nvPr/>
        </p:nvSpPr>
        <p:spPr>
          <a:xfrm>
            <a:off x="892080" y="4757760"/>
            <a:ext cx="690480" cy="6714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1714680" y="5029200"/>
            <a:ext cx="636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1714680" y="4695840"/>
            <a:ext cx="3143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776160" y="4890960"/>
            <a:ext cx="86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3"/>
          <p:cNvGrpSpPr/>
          <p:nvPr/>
        </p:nvGrpSpPr>
        <p:grpSpPr>
          <a:xfrm>
            <a:off x="6143760" y="4010040"/>
            <a:ext cx="2286000" cy="1204920"/>
            <a:chOff x="6143760" y="4010040"/>
            <a:chExt cx="2286000" cy="1204920"/>
          </a:xfrm>
        </p:grpSpPr>
        <p:sp>
          <p:nvSpPr>
            <p:cNvPr id="90" name="Oval 30"/>
            <p:cNvSpPr/>
            <p:nvPr/>
          </p:nvSpPr>
          <p:spPr>
            <a:xfrm>
              <a:off x="6143760" y="4144320"/>
              <a:ext cx="2286000" cy="1070640"/>
            </a:xfrm>
            <a:prstGeom prst="ellipse">
              <a:avLst/>
            </a:prstGeom>
            <a:solidFill>
              <a:srgbClr val="d8d8d8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14"/>
            <p:cNvGrpSpPr/>
            <p:nvPr/>
          </p:nvGrpSpPr>
          <p:grpSpPr>
            <a:xfrm>
              <a:off x="6272640" y="4010040"/>
              <a:ext cx="2037600" cy="1005480"/>
              <a:chOff x="6272640" y="4010040"/>
              <a:chExt cx="2037600" cy="1005480"/>
            </a:xfrm>
          </p:grpSpPr>
          <p:sp>
            <p:nvSpPr>
              <p:cNvPr id="92" name="Oval 32"/>
              <p:cNvSpPr/>
              <p:nvPr/>
            </p:nvSpPr>
            <p:spPr>
              <a:xfrm>
                <a:off x="6272640" y="4010040"/>
                <a:ext cx="2037600" cy="100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33"/>
              <p:cNvSpPr/>
              <p:nvPr/>
            </p:nvSpPr>
            <p:spPr>
              <a:xfrm>
                <a:off x="6512040" y="4152960"/>
                <a:ext cx="1572840" cy="7326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组合 13"/>
          <p:cNvGrpSpPr/>
          <p:nvPr/>
        </p:nvGrpSpPr>
        <p:grpSpPr>
          <a:xfrm>
            <a:off x="3643200" y="4010040"/>
            <a:ext cx="2286000" cy="1204920"/>
            <a:chOff x="3643200" y="4010040"/>
            <a:chExt cx="2286000" cy="1204920"/>
          </a:xfrm>
        </p:grpSpPr>
        <p:sp>
          <p:nvSpPr>
            <p:cNvPr id="95" name="Oval 30"/>
            <p:cNvSpPr/>
            <p:nvPr/>
          </p:nvSpPr>
          <p:spPr>
            <a:xfrm>
              <a:off x="3643200" y="4144320"/>
              <a:ext cx="2286000" cy="1070640"/>
            </a:xfrm>
            <a:prstGeom prst="ellipse">
              <a:avLst/>
            </a:prstGeom>
            <a:solidFill>
              <a:srgbClr val="d8d8d8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组合 14"/>
            <p:cNvGrpSpPr/>
            <p:nvPr/>
          </p:nvGrpSpPr>
          <p:grpSpPr>
            <a:xfrm>
              <a:off x="3772080" y="4010040"/>
              <a:ext cx="2037600" cy="1005480"/>
              <a:chOff x="3772080" y="4010040"/>
              <a:chExt cx="2037600" cy="1005480"/>
            </a:xfrm>
          </p:grpSpPr>
          <p:sp>
            <p:nvSpPr>
              <p:cNvPr id="97" name="Oval 32"/>
              <p:cNvSpPr/>
              <p:nvPr/>
            </p:nvSpPr>
            <p:spPr>
              <a:xfrm>
                <a:off x="3772080" y="4010040"/>
                <a:ext cx="2037600" cy="100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33"/>
              <p:cNvSpPr/>
              <p:nvPr/>
            </p:nvSpPr>
            <p:spPr>
              <a:xfrm>
                <a:off x="4011480" y="4152960"/>
                <a:ext cx="1572840" cy="7326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组合 13"/>
          <p:cNvGrpSpPr/>
          <p:nvPr/>
        </p:nvGrpSpPr>
        <p:grpSpPr>
          <a:xfrm>
            <a:off x="1000080" y="4010040"/>
            <a:ext cx="2286000" cy="1204920"/>
            <a:chOff x="1000080" y="4010040"/>
            <a:chExt cx="2286000" cy="1204920"/>
          </a:xfrm>
        </p:grpSpPr>
        <p:sp>
          <p:nvSpPr>
            <p:cNvPr id="100" name="Oval 30"/>
            <p:cNvSpPr/>
            <p:nvPr/>
          </p:nvSpPr>
          <p:spPr>
            <a:xfrm>
              <a:off x="1000080" y="4144320"/>
              <a:ext cx="2286000" cy="1070640"/>
            </a:xfrm>
            <a:prstGeom prst="ellipse">
              <a:avLst/>
            </a:prstGeom>
            <a:solidFill>
              <a:srgbClr val="d8d8d8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组合 14"/>
            <p:cNvGrpSpPr/>
            <p:nvPr/>
          </p:nvGrpSpPr>
          <p:grpSpPr>
            <a:xfrm>
              <a:off x="1128960" y="4010040"/>
              <a:ext cx="2037600" cy="1005480"/>
              <a:chOff x="1128960" y="4010040"/>
              <a:chExt cx="2037600" cy="1005480"/>
            </a:xfrm>
          </p:grpSpPr>
          <p:sp>
            <p:nvSpPr>
              <p:cNvPr id="102" name="Oval 32"/>
              <p:cNvSpPr/>
              <p:nvPr/>
            </p:nvSpPr>
            <p:spPr>
              <a:xfrm>
                <a:off x="1128960" y="4010040"/>
                <a:ext cx="2037600" cy="100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33"/>
              <p:cNvSpPr/>
              <p:nvPr/>
            </p:nvSpPr>
            <p:spPr>
              <a:xfrm>
                <a:off x="1368360" y="4152960"/>
                <a:ext cx="1572840" cy="7326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椭圆 58"/>
          <p:cNvSpPr/>
          <p:nvPr/>
        </p:nvSpPr>
        <p:spPr>
          <a:xfrm>
            <a:off x="1500120" y="1438200"/>
            <a:ext cx="1357560" cy="11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3"/>
          <p:cNvSpPr/>
          <p:nvPr/>
        </p:nvSpPr>
        <p:spPr>
          <a:xfrm>
            <a:off x="1539720" y="3179880"/>
            <a:ext cx="1273320" cy="1084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60"/>
          <p:cNvSpPr/>
          <p:nvPr/>
        </p:nvSpPr>
        <p:spPr>
          <a:xfrm>
            <a:off x="4143240" y="1495440"/>
            <a:ext cx="1357560" cy="11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8"/>
          <p:cNvSpPr/>
          <p:nvPr/>
        </p:nvSpPr>
        <p:spPr>
          <a:xfrm>
            <a:off x="4183200" y="2709720"/>
            <a:ext cx="1272960" cy="108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62"/>
          <p:cNvSpPr/>
          <p:nvPr/>
        </p:nvSpPr>
        <p:spPr>
          <a:xfrm>
            <a:off x="6643800" y="1415880"/>
            <a:ext cx="1357200" cy="115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63"/>
          <p:cNvSpPr/>
          <p:nvPr/>
        </p:nvSpPr>
        <p:spPr>
          <a:xfrm>
            <a:off x="6683400" y="1987560"/>
            <a:ext cx="1273320" cy="1084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2275"/>
          <p:cNvGrpSpPr/>
          <p:nvPr/>
        </p:nvGrpSpPr>
        <p:grpSpPr>
          <a:xfrm>
            <a:off x="4230720" y="961920"/>
            <a:ext cx="1189080" cy="1181160"/>
            <a:chOff x="4230720" y="961920"/>
            <a:chExt cx="1189080" cy="1181160"/>
          </a:xfrm>
        </p:grpSpPr>
        <p:grpSp>
          <p:nvGrpSpPr>
            <p:cNvPr id="111" name="组合 35"/>
            <p:cNvGrpSpPr/>
            <p:nvPr/>
          </p:nvGrpSpPr>
          <p:grpSpPr>
            <a:xfrm>
              <a:off x="4230720" y="961920"/>
              <a:ext cx="1189080" cy="1181160"/>
              <a:chOff x="4230720" y="961920"/>
              <a:chExt cx="1189080" cy="1181160"/>
            </a:xfrm>
          </p:grpSpPr>
          <p:sp>
            <p:nvSpPr>
              <p:cNvPr id="112" name="椭圆 67"/>
              <p:cNvSpPr/>
              <p:nvPr/>
            </p:nvSpPr>
            <p:spPr>
              <a:xfrm>
                <a:off x="4230720" y="961920"/>
                <a:ext cx="1189080" cy="11811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椭圆 68"/>
              <p:cNvSpPr/>
              <p:nvPr/>
            </p:nvSpPr>
            <p:spPr>
              <a:xfrm>
                <a:off x="4346640" y="1105560"/>
                <a:ext cx="651960" cy="53352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39"/>
            <p:cNvSpPr/>
            <p:nvPr/>
          </p:nvSpPr>
          <p:spPr>
            <a:xfrm>
              <a:off x="4232880" y="1251360"/>
              <a:ext cx="11804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280"/>
          <p:cNvGrpSpPr/>
          <p:nvPr/>
        </p:nvGrpSpPr>
        <p:grpSpPr>
          <a:xfrm>
            <a:off x="1546200" y="979560"/>
            <a:ext cx="1187640" cy="1182600"/>
            <a:chOff x="1546200" y="979560"/>
            <a:chExt cx="1187640" cy="1182600"/>
          </a:xfrm>
        </p:grpSpPr>
        <p:grpSp>
          <p:nvGrpSpPr>
            <p:cNvPr id="116" name="组合 35"/>
            <p:cNvGrpSpPr/>
            <p:nvPr/>
          </p:nvGrpSpPr>
          <p:grpSpPr>
            <a:xfrm>
              <a:off x="1546200" y="979560"/>
              <a:ext cx="1187640" cy="1182600"/>
              <a:chOff x="1546200" y="979560"/>
              <a:chExt cx="1187640" cy="1182600"/>
            </a:xfrm>
          </p:grpSpPr>
          <p:sp>
            <p:nvSpPr>
              <p:cNvPr id="117" name="椭圆 72"/>
              <p:cNvSpPr/>
              <p:nvPr/>
            </p:nvSpPr>
            <p:spPr>
              <a:xfrm>
                <a:off x="1546200" y="979560"/>
                <a:ext cx="1187640" cy="11826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73"/>
              <p:cNvSpPr/>
              <p:nvPr/>
            </p:nvSpPr>
            <p:spPr>
              <a:xfrm>
                <a:off x="1661760" y="1123560"/>
                <a:ext cx="651240" cy="5338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39"/>
            <p:cNvSpPr/>
            <p:nvPr/>
          </p:nvSpPr>
          <p:spPr>
            <a:xfrm>
              <a:off x="1548360" y="1269360"/>
              <a:ext cx="1179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2285"/>
          <p:cNvGrpSpPr/>
          <p:nvPr/>
        </p:nvGrpSpPr>
        <p:grpSpPr>
          <a:xfrm>
            <a:off x="6715080" y="890640"/>
            <a:ext cx="1187640" cy="1181160"/>
            <a:chOff x="6715080" y="890640"/>
            <a:chExt cx="1187640" cy="1181160"/>
          </a:xfrm>
        </p:grpSpPr>
        <p:grpSp>
          <p:nvGrpSpPr>
            <p:cNvPr id="121" name="组合 35"/>
            <p:cNvGrpSpPr/>
            <p:nvPr/>
          </p:nvGrpSpPr>
          <p:grpSpPr>
            <a:xfrm>
              <a:off x="6715080" y="890640"/>
              <a:ext cx="1187640" cy="1181160"/>
              <a:chOff x="6715080" y="890640"/>
              <a:chExt cx="1187640" cy="1181160"/>
            </a:xfrm>
          </p:grpSpPr>
          <p:sp>
            <p:nvSpPr>
              <p:cNvPr id="122" name="椭圆 77"/>
              <p:cNvSpPr/>
              <p:nvPr/>
            </p:nvSpPr>
            <p:spPr>
              <a:xfrm>
                <a:off x="6715080" y="890640"/>
                <a:ext cx="1187640" cy="118116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78"/>
              <p:cNvSpPr/>
              <p:nvPr/>
            </p:nvSpPr>
            <p:spPr>
              <a:xfrm>
                <a:off x="6830640" y="1034280"/>
                <a:ext cx="651240" cy="53352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39"/>
            <p:cNvSpPr/>
            <p:nvPr/>
          </p:nvSpPr>
          <p:spPr>
            <a:xfrm>
              <a:off x="6717240" y="1180080"/>
              <a:ext cx="1179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等腰三角形 79"/>
          <p:cNvSpPr/>
          <p:nvPr/>
        </p:nvSpPr>
        <p:spPr>
          <a:xfrm rot="5400000">
            <a:off x="3202200" y="2962800"/>
            <a:ext cx="496800" cy="428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等腰三角形 80"/>
          <p:cNvSpPr/>
          <p:nvPr/>
        </p:nvSpPr>
        <p:spPr>
          <a:xfrm rot="5400000">
            <a:off x="5823360" y="2962800"/>
            <a:ext cx="496800" cy="428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弧形 75"/>
          <p:cNvSpPr/>
          <p:nvPr/>
        </p:nvSpPr>
        <p:spPr>
          <a:xfrm>
            <a:off x="1830240" y="2654280"/>
            <a:ext cx="5975640" cy="281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饼形 81"/>
          <p:cNvSpPr/>
          <p:nvPr/>
        </p:nvSpPr>
        <p:spPr>
          <a:xfrm rot="7916400">
            <a:off x="1992960" y="2567520"/>
            <a:ext cx="4249440" cy="40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586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饼形 82"/>
          <p:cNvSpPr/>
          <p:nvPr/>
        </p:nvSpPr>
        <p:spPr>
          <a:xfrm rot="20018400">
            <a:off x="777960" y="1185480"/>
            <a:ext cx="3979800" cy="379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084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I:\f\PPT库\剪影人物\16.png"/>
          <p:cNvPicPr/>
          <p:nvPr/>
        </p:nvPicPr>
        <p:blipFill>
          <a:blip r:embed="rId2"/>
          <a:stretch/>
        </p:blipFill>
        <p:spPr>
          <a:xfrm>
            <a:off x="2178000" y="1647720"/>
            <a:ext cx="905040" cy="277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I:\f\PPT库\剪影人物\167.png"/>
          <p:cNvPicPr/>
          <p:nvPr/>
        </p:nvPicPr>
        <p:blipFill>
          <a:blip r:embed="rId3"/>
          <a:stretch/>
        </p:blipFill>
        <p:spPr>
          <a:xfrm>
            <a:off x="3292560" y="1790640"/>
            <a:ext cx="685800" cy="18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I:\f\PPT库\剪影人物\191.png"/>
          <p:cNvPicPr/>
          <p:nvPr/>
        </p:nvPicPr>
        <p:blipFill>
          <a:blip r:embed="rId4"/>
          <a:stretch/>
        </p:blipFill>
        <p:spPr>
          <a:xfrm>
            <a:off x="5222880" y="1308240"/>
            <a:ext cx="1087560" cy="3251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6"/>
          <p:cNvSpPr/>
          <p:nvPr/>
        </p:nvSpPr>
        <p:spPr>
          <a:xfrm>
            <a:off x="992160" y="2158920"/>
            <a:ext cx="14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7"/>
          <p:cNvSpPr/>
          <p:nvPr/>
        </p:nvSpPr>
        <p:spPr>
          <a:xfrm>
            <a:off x="3002040" y="1393920"/>
            <a:ext cx="141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8"/>
          <p:cNvSpPr/>
          <p:nvPr/>
        </p:nvSpPr>
        <p:spPr>
          <a:xfrm>
            <a:off x="6251400" y="1574640"/>
            <a:ext cx="14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8"/>
          <p:cNvGrpSpPr/>
          <p:nvPr/>
        </p:nvGrpSpPr>
        <p:grpSpPr>
          <a:xfrm>
            <a:off x="992160" y="1050840"/>
            <a:ext cx="4030560" cy="4008600"/>
            <a:chOff x="992160" y="1050840"/>
            <a:chExt cx="4030560" cy="4008600"/>
          </a:xfrm>
        </p:grpSpPr>
        <p:sp>
          <p:nvSpPr>
            <p:cNvPr id="139" name="Freeform 2"/>
            <p:cNvSpPr/>
            <p:nvPr/>
          </p:nvSpPr>
          <p:spPr>
            <a:xfrm>
              <a:off x="2349720" y="2399040"/>
              <a:ext cx="131004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2349720" y="1050840"/>
              <a:ext cx="159696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992160" y="1054440"/>
              <a:ext cx="1593000" cy="131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993960" y="3462120"/>
              <a:ext cx="1306080" cy="159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2064240" y="3749400"/>
              <a:ext cx="1595160" cy="131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3421800" y="3745440"/>
              <a:ext cx="1600920" cy="131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3701520" y="1050840"/>
              <a:ext cx="130788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993960" y="2113920"/>
              <a:ext cx="1591200" cy="1601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 rot="10800000">
              <a:off x="3412440" y="2385360"/>
              <a:ext cx="159696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Freeform 8"/>
          <p:cNvSpPr/>
          <p:nvPr/>
        </p:nvSpPr>
        <p:spPr>
          <a:xfrm rot="1453800">
            <a:off x="5478480" y="3717720"/>
            <a:ext cx="1336680" cy="109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948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125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"/>
          <p:cNvSpPr/>
          <p:nvPr/>
        </p:nvSpPr>
        <p:spPr>
          <a:xfrm rot="10800000">
            <a:off x="6953400" y="3178080"/>
            <a:ext cx="1333440" cy="133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125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5875200" y="1393920"/>
            <a:ext cx="2121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5875200" y="2050920"/>
            <a:ext cx="2121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5888160" y="1000080"/>
            <a:ext cx="2120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A7A-2231-4AF2-88C1-24598DF672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3419640" y="4556160"/>
            <a:ext cx="5153040" cy="147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606600" y="4815000"/>
            <a:ext cx="4173480" cy="311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14600" y="1430280"/>
            <a:ext cx="5143680" cy="3125880"/>
          </a:xfrm>
          <a:prstGeom prst="roundRect">
            <a:avLst>
              <a:gd name="adj" fmla="val 0"/>
            </a:avLst>
          </a:prstGeom>
          <a:solidFill>
            <a:srgbClr val="fbd4b4">
              <a:alpha val="12000"/>
            </a:srgbClr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 flipH="1">
            <a:off x="853920" y="2141640"/>
            <a:ext cx="1859040" cy="1847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 flipH="1">
            <a:off x="1110600" y="1214280"/>
            <a:ext cx="1601640" cy="1855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 flipH="1">
            <a:off x="1110600" y="3070080"/>
            <a:ext cx="3214440" cy="184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 flipH="1">
            <a:off x="2712240" y="1214280"/>
            <a:ext cx="1870200" cy="2775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 flipH="1" flipV="1">
            <a:off x="1404720" y="1790640"/>
            <a:ext cx="1319040" cy="264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 flipH="1" flipV="1">
            <a:off x="2714040" y="1789920"/>
            <a:ext cx="1145880" cy="1314360"/>
          </a:xfrm>
          <a:prstGeom prst="pie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 flipH="1" flipV="1">
            <a:off x="2714040" y="3110760"/>
            <a:ext cx="1145880" cy="1320840"/>
          </a:xfrm>
          <a:prstGeom prst="pie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 flipH="1" flipV="1">
            <a:off x="2724840" y="2067840"/>
            <a:ext cx="2102040" cy="207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1401840" y="284328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3392640" y="29289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20"/>
          <p:cNvSpPr/>
          <p:nvPr/>
        </p:nvSpPr>
        <p:spPr>
          <a:xfrm rot="19732200">
            <a:off x="1423800" y="1714680"/>
            <a:ext cx="1085760" cy="1807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/>
          <p:nvPr/>
        </p:nvSpPr>
        <p:spPr>
          <a:xfrm rot="2038800">
            <a:off x="2935080" y="1723680"/>
            <a:ext cx="1085760" cy="1810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22"/>
          <p:cNvSpPr/>
          <p:nvPr/>
        </p:nvSpPr>
        <p:spPr>
          <a:xfrm rot="16200000">
            <a:off x="689040" y="2963880"/>
            <a:ext cx="1085760" cy="1807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23"/>
          <p:cNvSpPr/>
          <p:nvPr/>
        </p:nvSpPr>
        <p:spPr>
          <a:xfrm>
            <a:off x="2151000" y="4476600"/>
            <a:ext cx="1085760" cy="1810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4978440" y="19400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9"/>
          <p:cNvSpPr/>
          <p:nvPr/>
        </p:nvSpPr>
        <p:spPr>
          <a:xfrm>
            <a:off x="4978440" y="223668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4998960" y="261612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4998960" y="291456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4998960" y="33368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9"/>
          <p:cNvSpPr/>
          <p:nvPr/>
        </p:nvSpPr>
        <p:spPr>
          <a:xfrm>
            <a:off x="4998960" y="36338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267000" y="142920"/>
            <a:ext cx="1233720" cy="100008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626000" y="1357200"/>
            <a:ext cx="1589040" cy="128916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500200" y="2500200"/>
            <a:ext cx="1935360" cy="157032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908600" y="3676680"/>
            <a:ext cx="2381040" cy="193356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52"/>
          <p:cNvSpPr/>
          <p:nvPr/>
        </p:nvSpPr>
        <p:spPr>
          <a:xfrm>
            <a:off x="4260960" y="1052640"/>
            <a:ext cx="745920" cy="5382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53"/>
          <p:cNvSpPr/>
          <p:nvPr/>
        </p:nvSpPr>
        <p:spPr>
          <a:xfrm flipH="1">
            <a:off x="4143240" y="2453400"/>
            <a:ext cx="635040" cy="40356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54"/>
          <p:cNvSpPr/>
          <p:nvPr/>
        </p:nvSpPr>
        <p:spPr>
          <a:xfrm>
            <a:off x="4102200" y="3701880"/>
            <a:ext cx="1095120" cy="66204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191200" y="3816360"/>
            <a:ext cx="1809720" cy="1469880"/>
          </a:xfrm>
          <a:prstGeom prst="roundRect">
            <a:avLst>
              <a:gd name="adj" fmla="val 8685"/>
            </a:avLst>
          </a:prstGeom>
          <a:solidFill>
            <a:srgbClr val="f2f2f2">
              <a:alpha val="29000"/>
            </a:srgbClr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8" descr="num11"/>
          <p:cNvPicPr/>
          <p:nvPr/>
        </p:nvPicPr>
        <p:blipFill>
          <a:blip r:embed="rId2"/>
          <a:stretch/>
        </p:blipFill>
        <p:spPr>
          <a:xfrm>
            <a:off x="5108400" y="3117960"/>
            <a:ext cx="1486080" cy="1673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9"/>
          <p:cNvSpPr/>
          <p:nvPr/>
        </p:nvSpPr>
        <p:spPr>
          <a:xfrm rot="19731600">
            <a:off x="2687040" y="3092400"/>
            <a:ext cx="1625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9"/>
          <p:cNvSpPr/>
          <p:nvPr/>
        </p:nvSpPr>
        <p:spPr>
          <a:xfrm rot="19731600">
            <a:off x="4554360" y="1750680"/>
            <a:ext cx="1627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834080" y="36828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4834080" y="63036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9"/>
          <p:cNvSpPr/>
          <p:nvPr/>
        </p:nvSpPr>
        <p:spPr>
          <a:xfrm>
            <a:off x="1714680" y="164304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9"/>
          <p:cNvSpPr/>
          <p:nvPr/>
        </p:nvSpPr>
        <p:spPr>
          <a:xfrm>
            <a:off x="1714680" y="190512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1214280" y="4286160"/>
            <a:ext cx="256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1214280" y="4548240"/>
            <a:ext cx="256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3"/>
          <p:cNvSpPr/>
          <p:nvPr/>
        </p:nvSpPr>
        <p:spPr>
          <a:xfrm>
            <a:off x="3104640" y="1428840"/>
            <a:ext cx="22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536280" y="20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74806"/>
                </a:solidFill>
                <a:latin typeface="微软雅黑"/>
                <a:ea typeface="微软雅黑"/>
              </a:rPr>
              <a:t>谢谢观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7524720" y="4484520"/>
            <a:ext cx="790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7:38:00Z</dcterms:created>
  <dc:creator/>
  <dc:description/>
  <cp:keywords>幻灯片之家 http:/www.eeppt.com</cp:keywords>
  <dc:language>en-US</dc:language>
  <cp:lastModifiedBy/>
  <dcterms:modified xsi:type="dcterms:W3CDTF">2015-07-09T03:11:18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