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A3B-FD5D-49FE-B140-27DF2B12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423-F4F4-4A5C-B248-E34B41EA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28A-1A8D-4162-95C0-69A326C3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C97-1B6C-45E2-96E4-D09F7A16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074-6724-4AAE-82CB-6B8F3311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0A7-5B92-4BAE-A0D8-4053F456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6BF-A204-41D2-9D67-9D339643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664-8573-466F-A4D7-492BCCC6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6CC-790F-4378-BE12-9B8FA2E0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FB6-B3DB-4AFD-B4C0-656204A6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574-DA79-423E-A2A0-B95DFCC8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C74-8C47-4E84-BBB3-0AD54BE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74D5-A684-4BDA-9290-9F7558D212A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CDD8-9613-4916-A76C-04572333016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7"/>
          <p:cNvSpPr/>
          <p:nvPr/>
        </p:nvSpPr>
        <p:spPr>
          <a:xfrm>
            <a:off x="817560" y="1758960"/>
            <a:ext cx="3857760" cy="16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9"/>
          <p:cNvSpPr/>
          <p:nvPr/>
        </p:nvSpPr>
        <p:spPr>
          <a:xfrm>
            <a:off x="817560" y="1521000"/>
            <a:ext cx="385776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7"/>
          <p:cNvSpPr/>
          <p:nvPr/>
        </p:nvSpPr>
        <p:spPr>
          <a:xfrm>
            <a:off x="4746600" y="1758960"/>
            <a:ext cx="3857760" cy="16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9"/>
          <p:cNvSpPr/>
          <p:nvPr/>
        </p:nvSpPr>
        <p:spPr>
          <a:xfrm>
            <a:off x="4746600" y="1521000"/>
            <a:ext cx="385776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7"/>
          <p:cNvSpPr/>
          <p:nvPr/>
        </p:nvSpPr>
        <p:spPr>
          <a:xfrm>
            <a:off x="817560" y="3759120"/>
            <a:ext cx="3857760" cy="16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9"/>
          <p:cNvSpPr/>
          <p:nvPr/>
        </p:nvSpPr>
        <p:spPr>
          <a:xfrm>
            <a:off x="817560" y="3521160"/>
            <a:ext cx="385776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4746600" y="3759120"/>
            <a:ext cx="3857760" cy="16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9"/>
          <p:cNvSpPr/>
          <p:nvPr/>
        </p:nvSpPr>
        <p:spPr>
          <a:xfrm>
            <a:off x="4746600" y="3521160"/>
            <a:ext cx="3857760" cy="29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9"/>
          <p:cNvSpPr/>
          <p:nvPr/>
        </p:nvSpPr>
        <p:spPr>
          <a:xfrm>
            <a:off x="817560" y="1521000"/>
            <a:ext cx="38577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URGENT and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4746600" y="1521000"/>
            <a:ext cx="38577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RGENT but NO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817560" y="3521160"/>
            <a:ext cx="38577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T URGENT bu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4746600" y="3521160"/>
            <a:ext cx="38577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NOT URGENT and NOT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kstboks 31"/>
          <p:cNvSpPr/>
          <p:nvPr/>
        </p:nvSpPr>
        <p:spPr>
          <a:xfrm>
            <a:off x="1389240" y="1949400"/>
            <a:ext cx="285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Go ahead and place your    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kstboks 34"/>
          <p:cNvSpPr/>
          <p:nvPr/>
        </p:nvSpPr>
        <p:spPr>
          <a:xfrm>
            <a:off x="5318280" y="1949400"/>
            <a:ext cx="285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Go ahead and place your    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boks 36"/>
          <p:cNvSpPr/>
          <p:nvPr/>
        </p:nvSpPr>
        <p:spPr>
          <a:xfrm>
            <a:off x="1389240" y="3949560"/>
            <a:ext cx="285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Go ahead and place your    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kstboks 37"/>
          <p:cNvSpPr/>
          <p:nvPr/>
        </p:nvSpPr>
        <p:spPr>
          <a:xfrm>
            <a:off x="5318280" y="3949560"/>
            <a:ext cx="285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This is an 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Go ahead and place your     ow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MS PGothic"/>
              </a:rPr>
              <a:t>Example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8560" y="260280"/>
            <a:ext cx="53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文本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素材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8"/>
          <p:cNvGrpSpPr/>
          <p:nvPr/>
        </p:nvGrpSpPr>
        <p:grpSpPr>
          <a:xfrm>
            <a:off x="547560" y="1339920"/>
            <a:ext cx="1859040" cy="4257720"/>
            <a:chOff x="547560" y="1339920"/>
            <a:chExt cx="1859040" cy="4257720"/>
          </a:xfrm>
        </p:grpSpPr>
        <p:sp>
          <p:nvSpPr>
            <p:cNvPr id="62" name="Rectangle 27"/>
            <p:cNvSpPr/>
            <p:nvPr/>
          </p:nvSpPr>
          <p:spPr>
            <a:xfrm>
              <a:off x="547560" y="1886040"/>
              <a:ext cx="1859040" cy="371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9"/>
            <p:cNvSpPr/>
            <p:nvPr/>
          </p:nvSpPr>
          <p:spPr>
            <a:xfrm>
              <a:off x="547560" y="1339920"/>
              <a:ext cx="185904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9"/>
            <p:cNvSpPr/>
            <p:nvPr/>
          </p:nvSpPr>
          <p:spPr>
            <a:xfrm>
              <a:off x="547560" y="1339920"/>
              <a:ext cx="18590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URGENT and IMPORT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kstboks 31"/>
            <p:cNvSpPr/>
            <p:nvPr/>
          </p:nvSpPr>
          <p:spPr>
            <a:xfrm>
              <a:off x="822240" y="2322360"/>
              <a:ext cx="13780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Go ahead and place your     own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612880" y="1339920"/>
            <a:ext cx="1859040" cy="4257720"/>
            <a:chOff x="2612880" y="1339920"/>
            <a:chExt cx="1859040" cy="4257720"/>
          </a:xfrm>
        </p:grpSpPr>
        <p:sp>
          <p:nvSpPr>
            <p:cNvPr id="67" name="Rectangle 27"/>
            <p:cNvSpPr/>
            <p:nvPr/>
          </p:nvSpPr>
          <p:spPr>
            <a:xfrm>
              <a:off x="2612880" y="1886040"/>
              <a:ext cx="1859040" cy="371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2612880" y="1339920"/>
              <a:ext cx="185904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9"/>
            <p:cNvSpPr/>
            <p:nvPr/>
          </p:nvSpPr>
          <p:spPr>
            <a:xfrm>
              <a:off x="2612880" y="1339920"/>
              <a:ext cx="185904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URGENT but NOT IMPORT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kstboks 34"/>
            <p:cNvSpPr/>
            <p:nvPr/>
          </p:nvSpPr>
          <p:spPr>
            <a:xfrm>
              <a:off x="2887560" y="2322360"/>
              <a:ext cx="13780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Go ahead and place your     own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1"/>
          <p:cNvGrpSpPr/>
          <p:nvPr/>
        </p:nvGrpSpPr>
        <p:grpSpPr>
          <a:xfrm>
            <a:off x="4680000" y="1339920"/>
            <a:ext cx="1859040" cy="4257720"/>
            <a:chOff x="4680000" y="1339920"/>
            <a:chExt cx="1859040" cy="4257720"/>
          </a:xfrm>
        </p:grpSpPr>
        <p:sp>
          <p:nvSpPr>
            <p:cNvPr id="72" name="Rectangle 27"/>
            <p:cNvSpPr/>
            <p:nvPr/>
          </p:nvSpPr>
          <p:spPr>
            <a:xfrm>
              <a:off x="4680000" y="1886040"/>
              <a:ext cx="1859040" cy="371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9"/>
            <p:cNvSpPr/>
            <p:nvPr/>
          </p:nvSpPr>
          <p:spPr>
            <a:xfrm>
              <a:off x="4680000" y="1339920"/>
              <a:ext cx="185904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9"/>
            <p:cNvSpPr/>
            <p:nvPr/>
          </p:nvSpPr>
          <p:spPr>
            <a:xfrm>
              <a:off x="4680000" y="1339920"/>
              <a:ext cx="185904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T URGENT but IMPORT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kstboks 36"/>
            <p:cNvSpPr/>
            <p:nvPr/>
          </p:nvSpPr>
          <p:spPr>
            <a:xfrm>
              <a:off x="4954680" y="2322360"/>
              <a:ext cx="13780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Go ahead and place your     own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0"/>
          <p:cNvGrpSpPr/>
          <p:nvPr/>
        </p:nvGrpSpPr>
        <p:grpSpPr>
          <a:xfrm>
            <a:off x="6745320" y="1339920"/>
            <a:ext cx="1859040" cy="4257720"/>
            <a:chOff x="6745320" y="1339920"/>
            <a:chExt cx="1859040" cy="4257720"/>
          </a:xfrm>
        </p:grpSpPr>
        <p:sp>
          <p:nvSpPr>
            <p:cNvPr id="77" name="Rectangle 27"/>
            <p:cNvSpPr/>
            <p:nvPr/>
          </p:nvSpPr>
          <p:spPr>
            <a:xfrm>
              <a:off x="6745320" y="1886040"/>
              <a:ext cx="1859040" cy="3711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6745320" y="1339920"/>
              <a:ext cx="1859040" cy="68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9"/>
            <p:cNvSpPr/>
            <p:nvPr/>
          </p:nvSpPr>
          <p:spPr>
            <a:xfrm>
              <a:off x="6745320" y="1339920"/>
              <a:ext cx="18590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NOT URGENT and NOT IMPORT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kstboks 37"/>
            <p:cNvSpPr/>
            <p:nvPr/>
          </p:nvSpPr>
          <p:spPr>
            <a:xfrm>
              <a:off x="7020000" y="2322360"/>
              <a:ext cx="137808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Go ahead and place your     own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539640" y="595008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030-EBFA-4983-ACA9-7CF88130DF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12T09:21:03Z</dcterms:modified>
  <cp:revision>110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