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1.gif" ContentType="image/gif"/>
  <Override PartName="/ppt/media/image9.gif" ContentType="image/gif"/>
  <Override PartName="/ppt/media/image17.gif" ContentType="image/gif"/>
  <Override PartName="/ppt/media/image3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FB8-7FAD-4BD6-AA5F-BDD355F7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41C-6B9C-47B2-8FDD-7A9EDBBD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56B-50A1-43EA-96F4-432753E5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9BF-E489-415C-A8BA-2030F169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DC8-78D0-4645-A440-F0047C3F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C986-1A82-4E7E-B1A9-6D1B454F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D497-51FD-4298-BAEF-0FD5733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783-FB63-4BE3-99DB-8F56ABA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01D9-1E2F-4574-91EF-3A8F0EFE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C769-EE4C-489F-95A5-D0E5ED2A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625-C8EE-40C7-A5AD-1F6AB87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6E3-D8A4-4DD1-91C0-B92E29FA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F501-5025-4A6B-857F-F927B5DF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B0E-7E66-4547-8AEA-A5E369B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F66D-E635-4F75-BDB9-65D4C2BA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960-FCD2-463F-95CF-778DA648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1516-2386-4A03-8D40-56C74C26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0879-B914-4E3D-9D59-EEF2EB2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DAFD-8EA0-48CF-9A6D-525CF883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A23E-AFA5-4435-B226-1A1DFCBD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9C8C-0BD0-4582-90E5-8900254D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67E2-6F21-46FF-89CD-E7FCCE49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A16-4310-47D1-82AE-FAFD32F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4510-A739-4EFB-B462-D81305A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5A18-D7F5-487B-8328-46B11CB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7980-8AD9-415D-AF88-6D871CB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2C6D-0064-40D1-95E2-9E8890E4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68E4-33D0-41B1-BFBC-2411CD6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D30F-E90C-4734-9A54-866864DD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394-0E74-4954-BE3D-54F6354A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B036-50CD-499E-9A9B-7C724586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0AC2-016D-442B-AA42-0E3BC6BA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773FE-7A10-4E2B-A66F-237B3A2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058-2675-4850-AA9C-6517B17C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4CA9-4671-40A4-AC7E-8660E3F7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C67A-A6A2-42C5-A5A6-0DCAE49B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88C9-E215-4A6E-B809-6765DD9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3D78-B3AC-4DB0-9123-197276A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04B6-3FED-4EF9-B9A5-7E25CA2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EA99-801E-44B1-99D1-7883FA3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91A4-8919-4F7A-8131-6C3575E3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2CF77-B0BD-43E4-894E-08FD9FFB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EF11-831B-4875-A522-C6BB8B57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1E0-A75A-4D26-B4EA-D83E995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B17-5D4A-448D-B1C3-93A1C04B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1BF-9A93-45EA-AF96-F5615B5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1DE-B2B1-4FD4-89FE-FA4F0FD6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2DC-3D31-4F30-8DCD-F409F5F7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EB0F-1C6C-4665-B2CF-2873A8719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A0F-3328-4C74-A938-F674D710D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4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5000-3A7C-4F89-A13B-AA19224A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E52-5849-4679-AB35-BAE8B4ED5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725800" y="2349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6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97960" y="1628640"/>
            <a:ext cx="16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唯一的听众课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263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后来，拉小提琴成了我无法割舍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的爱好，我能熟练地拉许多曲子。在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各种文艺晚会上，我有机会面对成百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上千的观众演奏小提琴曲。那时，我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总是不由得想起那位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耳聋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的老人，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ahoma"/>
              </a:rPr>
              <a:t>那清晨里唯一的听众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Tahoma"/>
              </a:rPr>
              <a:t>……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翘翘板"/>
          <p:cNvPicPr/>
          <p:nvPr/>
        </p:nvPicPr>
        <p:blipFill>
          <a:blip r:embed="rId2"/>
          <a:stretch/>
        </p:blipFill>
        <p:spPr>
          <a:xfrm>
            <a:off x="7467480" y="1066680"/>
            <a:ext cx="1212840" cy="7178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972800" y="101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737360" y="2057400"/>
            <a:ext cx="54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这篇课文的中心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28600" y="3809880"/>
            <a:ext cx="864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妹妹的角色是必须有的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样理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比一比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一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一直珍藏着一位老人美好的心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这句话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美好的心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的含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0240"/>
          <p:cNvPicPr/>
          <p:nvPr/>
        </p:nvPicPr>
        <p:blipFill>
          <a:blip r:embed="rId2"/>
          <a:stretch/>
        </p:blipFill>
        <p:spPr>
          <a:xfrm>
            <a:off x="7772400" y="9907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304920" y="220968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感情的朗读下面的短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研究相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82016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探究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152280"/>
            <a:ext cx="88390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  灵   有 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小女孩因为长得又矮又瘦而被老师排除在合唱团之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躲在公园里伤心地流泪。她想：我为什么不能去唱歌呢？难道我真的唱得很难听吗？想着想着，小女孩就低声唱了起来，她唱了一支又一支，直到唱累了为止。“唱得真好！” 一个声音响了起来，“谢谢你，小姑娘，你让我渡过了一个愉快的下午。”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这时小姑娘惊呆了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话的老人说完就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第二天下午再去时，那老人还坐在原来的位置上，满脸慈祥地看着她微笑。小女孩又唱起来，老人聚精会神地听着，一副陶醉其中的表情。最后他大声喝彩，说：“谢谢你，小姑娘，你唱得太棒了！”说完又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过去了许多年后，小女孩成了大女孩，而且成了有名的歌星。但她忘不了公园里那个慈祥的老人。一个冬日的下午，她特意去公园找老人，令她失望的是那里只有一张小小的孤独的靠椅。后来才知道，老人早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是个聋子，都聋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了！”一个知情人告诉她。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姑娘惊呆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533520" y="22096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两次写到小姑娘惊呆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别说说 她“惊呆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3520" y="3809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文中的老人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一的听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的老人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068200" y="1030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彩云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Q_015"/>
          <p:cNvPicPr/>
          <p:nvPr/>
        </p:nvPicPr>
        <p:blipFill>
          <a:blip r:embed="rId2"/>
          <a:stretch/>
        </p:blipFill>
        <p:spPr>
          <a:xfrm>
            <a:off x="8229600" y="1143000"/>
            <a:ext cx="609480" cy="6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84360" y="6922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219320" y="990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创新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84360" y="2781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同学们，你在成长的过程中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也得到过许多人的帮助和关怀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一件写一写，表达你的感激之情。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CBD9-83E4-4145-A11C-5282DF1ADB6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铅笔"/>
          <p:cNvPicPr/>
          <p:nvPr/>
        </p:nvPicPr>
        <p:blipFill>
          <a:blip r:embed="rId2"/>
          <a:stretch/>
        </p:blipFill>
        <p:spPr>
          <a:xfrm flipH="1">
            <a:off x="7391520" y="1219320"/>
            <a:ext cx="838080" cy="728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飞信"/>
          <p:cNvPicPr/>
          <p:nvPr/>
        </p:nvPicPr>
        <p:blipFill>
          <a:blip r:embed="rId3"/>
          <a:stretch/>
        </p:blipFill>
        <p:spPr>
          <a:xfrm>
            <a:off x="1295280" y="4724280"/>
            <a:ext cx="365400" cy="2286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5238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371600" y="990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Tahoma"/>
                <a:ea typeface="华文彩云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观察你身边最亲近人的一天，以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爱在我身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为主题写一篇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25702" dir="1234696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49568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今天，我们能强健而正直地生活着，我们应该对那些在我们生命历程中用关爱扶持我们的人，用智慧启迪我们的人，用美德陶冶我们的人，用真情沐浴我们的人，心存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80" y="3733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多一份感激，就少一份冷漠；多一份感激，就少一份虚荣；多一份感激，就多一份奉献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存感激，是一种明朗的心境，一种人性的光辉，天空因此而变得湛蓝，空气因此而变得湿润，美好的事物因此而变得离我们很近很近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5562720" y="7621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彩云"/>
              </a:rPr>
              <a:t>心 存 感 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荷花动画2"/>
          <p:cNvPicPr/>
          <p:nvPr/>
        </p:nvPicPr>
        <p:blipFill>
          <a:blip r:embed="rId2"/>
          <a:stretch/>
        </p:blipFill>
        <p:spPr>
          <a:xfrm>
            <a:off x="4419720" y="304920"/>
            <a:ext cx="976320" cy="1218960"/>
          </a:xfrm>
          <a:prstGeom prst="rect">
            <a:avLst/>
          </a:prstGeom>
          <a:ln w="0">
            <a:noFill/>
          </a:ln>
        </p:spPr>
      </p:pic>
      <p:pic>
        <p:nvPicPr>
          <p:cNvPr id="287" name="感恩的心.mpg" descr=""/>
          <p:cNvPicPr/>
          <p:nvPr/>
        </p:nvPicPr>
        <p:blipFill>
          <a:blip r:embed="rId3"/>
          <a:stretch/>
        </p:blipFill>
        <p:spPr>
          <a:xfrm>
            <a:off x="0" y="0"/>
            <a:ext cx="3962520" cy="32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288" name="Picture 8" descr="荷花动画"/>
          <p:cNvPicPr/>
          <p:nvPr/>
        </p:nvPicPr>
        <p:blipFill>
          <a:blip r:embed="rId4"/>
          <a:stretch/>
        </p:blipFill>
        <p:spPr>
          <a:xfrm>
            <a:off x="8061480" y="5775480"/>
            <a:ext cx="1082520" cy="108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258920" y="69048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中练琴遭冷遇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4920" y="206064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中遇到夸“我”的耳聋老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到几分自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066680" y="414972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道老妇人的身份，受到震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-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838080" y="53640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常想起这位德高望重的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 rot="5400000">
            <a:off x="6172200" y="251460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课文流程</a:t>
            </a:r>
            <a:endParaRPr b="0" lang="en-US" sz="1800" spc="-1" strike="noStrike">
              <a:ln w="9360">
                <a:solidFill>
                  <a:srgbClr val="993366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685800" y="21337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读一读课文的开头和结尾，说说我在音乐方面发生了什么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373392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再读全文，结合课文内容概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发生变化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222876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685800" y="510552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浏览课文，找出描写老人神态的关键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9"/>
          <p:cNvSpPr txBox="1"/>
          <p:nvPr/>
        </p:nvSpPr>
        <p:spPr>
          <a:xfrm>
            <a:off x="762120" y="2286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88720" y="691920"/>
            <a:ext cx="867564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我感觉到背后有人，转过身时，吓了一跳：一位极瘦极瘦的老妇人静静地坐在木椅上，平静地望着我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她一直很平静地望着我。我停下来时，她总不忘说上一句：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真不错。我的心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已经感受到了。谢谢你，小伙子。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993300"/>
                </a:solidFill>
                <a:latin typeface="Tahoma"/>
              </a:rPr>
              <a:t>她慈祥的眼神平静地望着我，像深深的潭水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Tahoma"/>
              </a:rPr>
              <a:t>……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47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我打扰了你吗？小伙子。不过，我每天早晨都在这儿坐一会儿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猜想你一定拉的非常好，只可惜我的耳朵聋了。如果不介意我在场的话，请继续吧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也许我会用心去感受这音乐。我能做你 的听众吗？就在每天早晨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真不错，我的心已经感受到了。谢谢你，小伙子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的琴声能给我带来快乐和幸福。”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懊恼极了，泪水几乎夺眶而出，不由得叨念着：“我这辈子甭想拉好琴了！”当我感觉到身后有人，并转过身去的时候，吓了一跳，一位极瘦极痩的老妇人坐在一张木椅上，她双眼                  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羞愧起来，同时暗暗有了几分信心。以后，每天清晨，我都到小树林里去练琴，面对我唯一的听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位耳聋的老人。她总是很                   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全力以赴地演奏，也许真的会给老人带来一丝快乐和幸福。她慈祥的眼睛                  我，像深深的潭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51744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589080" y="342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438160" y="4941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静地望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8101080" y="623736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3756"/>
                </a:moveTo>
                <a:lnTo>
                  <a:pt x="19978" y="10800"/>
                </a:lnTo>
                <a:lnTo>
                  <a:pt x="5890" y="1784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640" y="64008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6190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写一段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要求：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平静的神态背后，老教授、“我”、还有作为读者的你自己都会有一种思潮在翻滚着，涌动着。请同学们联系上下文，发挥想像，任选一个角度写一段心理活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505080" cy="432000"/>
          </a:xfrm>
          <a:custGeom>
            <a:avLst/>
            <a:gdLst>
              <a:gd name="textAreaLeft" fmla="*/ 27000 w 505080"/>
              <a:gd name="textAreaRight" fmla="*/ 478080 w 50508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901" y="1350"/>
                </a:lnTo>
                <a:lnTo>
                  <a:pt x="1350" y="135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901" y="20250"/>
                </a:lnTo>
                <a:lnTo>
                  <a:pt x="23901" y="135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901" y="2025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51" h="21600">
                <a:moveTo>
                  <a:pt x="5582" y="10800"/>
                </a:moveTo>
                <a:lnTo>
                  <a:pt x="19669" y="3756"/>
                </a:lnTo>
                <a:lnTo>
                  <a:pt x="19669" y="1784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天清晨，我总是早早地来到林子里，面对着这位耳“聋”的音乐家，我唯一的听众，轻轻调好弦，然后静静地拉起一支优美的曲子。我渐渐地感到我造出了真正的音乐，那从琴弦上发出的美妙的声音充满了整个林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和老人没有交谈过什么，只是在每个清晨，一个人轻轻地拉，一个人静静地听。我看着这位老人安详地靠在木椅上，微笑着，手指悄悄地打着拍子。我全力以赴地演奏，也许真的会给老人带来一丝快乐和幸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008000" y="33336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悄悄打着的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多少次平静地望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那一声声鼓励的话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每天早晨来做惟一的听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忘不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10.mp3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5559480" y="501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71640" y="692280"/>
            <a:ext cx="73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后来，小提琴成了我无法割舍的爱好，我能熟练地拉出许多曲子。在各种文艺晚会上，我有机会面对成百上千的观众演奏小提琴曲。但我总是不由得想起那位耳“聋”的老人，每天清晨里我唯一的听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7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7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7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7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700" fill="hold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16:36Z</dcterms:created>
  <dc:creator/>
  <dc:description/>
  <cp:keywords>幻灯片之家 http:/www.eeppt.com</cp:keywords>
  <dc:language>en-US</dc:language>
  <cp:lastModifiedBy/>
  <dcterms:modified xsi:type="dcterms:W3CDTF">2015-07-12T09:38:4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