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571-6E48-4DC0-A0EC-C8F3EB73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BF3-5B0B-4F08-83D9-5A95758B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F9F-B2D7-4F1F-86FB-C99BAA93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731-7158-4FB5-8E66-DB7CB116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FA19-6B22-49BF-ACC4-3FB6F1A4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E583-CCE6-4A37-B150-48FF7CF4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A62B-19D0-4E0B-A09E-76299CDB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C44C-A376-43FF-9D94-64737AD4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7980-048D-48D1-815F-464B35C3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53352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64A2-02B2-47E2-B56D-84A06D2E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E1A2-CE9F-49EF-A3EF-7A6CF41D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B47-A99E-4337-8457-BE3FCFCD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E2CA-8FE9-4969-A44E-A9B838E1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13BC-2305-4248-AD99-9AB0EE49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D224-9FAB-456B-BD48-2A44B8CD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7361-EF11-409B-948B-90D359F7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2CEF-8B48-479A-BB47-916326B2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F57-945A-44F0-80F5-4815A1BB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BF0-84BC-455E-AF71-7329B499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29D-7A45-4B8B-A6C2-4BA28436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53352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890-E02F-4FB5-8911-1559B49C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248-18F5-4CE0-8962-96D831DF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846-9555-4BE1-889C-446848C8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9F5-F8DE-4BCC-B1AB-0320F474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2904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146C-3FFB-4EEA-9834-AAEC48C971E2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5C83-CA68-4E7D-8A65-5B3C75C86500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gongye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有关工业设计</a:t>
            </a:r>
            <a:r>
              <a:rPr b="0" i="1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i="1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i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i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1041480" y="5721480"/>
            <a:ext cx="6843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工业制造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i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Elements</a:t>
            </a:r>
            <a:endParaRPr b="0" i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www.animationfactory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5181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52280" y="5181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438280" y="5181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648320" y="5162400"/>
            <a:ext cx="2057400" cy="1543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6E2-3724-4E27-BC8B-8C2EC90DB8D6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22:19:43Z</dcterms:created>
  <dc:creator/>
  <dc:description/>
  <cp:keywords>幻灯片之家 http:/www.eeppt.com</cp:keywords>
  <dc:language>en-US</dc:language>
  <cp:lastModifiedBy/>
  <dcterms:modified xsi:type="dcterms:W3CDTF">2015-07-12T09:32:56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