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E99-AA47-466E-AEBD-B16993C8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7A4-A639-4D94-B7AE-215C61C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F30-D111-41C2-AD5A-228E3BF7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866-7587-4612-A76A-A88F2A2A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EFD-665A-40BF-B8D5-CC8CB71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ADF-9E7D-4D18-AD0E-5F354453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C56-84DA-4E1A-AF99-6D79206D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9C6-C1D5-403A-B377-C71D6052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F5F-D88B-4919-8FE4-61EDAD0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4F0-D7EE-44EA-B6D6-AF915A1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9F4-6B4B-4664-818E-28104F07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A35-7693-4424-93D8-C568C75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E151-4CCB-4252-A504-EA01FDC85B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BB1-8E32-487A-91F1-639E4AECF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14840" y="263160"/>
            <a:ext cx="777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医学答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72080" y="3306600"/>
          <a:ext cx="1600200" cy="2444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96800" y="5638680"/>
            <a:ext cx="611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6844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5821200"/>
            <a:ext cx="7401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BEF-16E3-46F4-BECB-1908411CA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25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