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B03B-A302-4DC3-8958-E2D93E52C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F7FF-1D7D-4394-9D96-6591BC41E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F708-2257-466C-B948-D41663ED7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DE09-5F69-41B0-9CD0-19DBB9B8C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EFA6-3F7D-4E3A-B085-B0D07172B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DC6A-E136-424E-B8BE-F4D5317B4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EFBB-7D9E-4AE9-AF1C-5575C8734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EA7F-CB2B-4145-A3A7-46931B64A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DDB0-8D7F-417A-AC62-3B7ADAE11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ED4E-0ABB-402B-AF75-136D7261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692F-EC30-4DA1-804B-6DE4D90B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B6A0-125E-4BFD-8A3B-66DAF794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E19FB-D8C8-42B2-9C87-EE1D499801D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DE59A-24EF-400E-A481-FE0C8D72CE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45200" y="2305080"/>
            <a:ext cx="337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中国传统文化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26D4-0FEC-4A08-997D-032A80F719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/>
  <dc:description/>
  <cp:keywords>幻灯片之家 http:/www.eeppt.com</cp:keywords>
  <dc:language>en-US</dc:language>
  <cp:lastModifiedBy/>
  <dcterms:modified xsi:type="dcterms:W3CDTF">2015-07-03T09:50:1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