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FADD-246E-4505-9A3E-074ABA752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CA3E-7F2F-4323-8396-B4B986E0A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FC5F8-7AD3-45C5-9F39-4C290DBCA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1F1B-B005-4945-AD4B-C11AE6C96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BCBAC-DAB2-4C86-B357-BDCC12D4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4AEDB-D745-4238-AF17-F52A4D0E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366E4-97CA-4DC7-9A25-C24A4655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86597-F960-42C5-B74F-BC8B1EFD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7388B-35B5-40B7-AC1D-5366700D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C9517-AB93-4697-97C5-D971155F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4BE55-CAE7-46CE-BC80-1885908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38A2-CC2D-415C-B975-8915FC428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2D89D-34C3-431B-B4BC-BF780096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48695-919F-4057-9508-BBE930B6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32647-2896-433F-84E7-9FE32536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40ACB-BDA0-4BFF-A258-1537C04E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C527E-64BC-47A9-8F50-EDEAEB65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2359-1CC3-4DB1-AB2C-317B6E366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C1E2-AF21-4A38-AFB6-A372DB867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1C1E-5926-407C-A196-268CC35CC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5760-A3F2-4F8A-8939-71EFAFC27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70F43-AF54-4DDC-9C10-D9FE4A027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7AF9-1CBE-459C-BEE0-99B494C7D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1515-E6E0-4605-A0BD-12E0E410B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9146-24F1-4C7C-81A4-4DB77EF72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China Telecom Logo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95280" y="6165720"/>
            <a:ext cx="1619280" cy="5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C3B4-2C7E-443A-965F-6DA6A20857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China Telecom Logo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238880" y="228600"/>
            <a:ext cx="1619280" cy="547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qiye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508720" y="5734080"/>
            <a:ext cx="36352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9999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1197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71160" y="270972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中国电信公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5302080"/>
            <a:ext cx="5616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11F2-48C1-4A3C-ACA4-C17FEC24DB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8:18:59Z</dcterms:created>
  <dc:creator/>
  <dc:description/>
  <cp:keywords>幻灯片之家 http:/www.eeppt.com</cp:keywords>
  <dc:language>en-US</dc:language>
  <cp:lastModifiedBy/>
  <dcterms:modified xsi:type="dcterms:W3CDTF">2015-07-06T12:40:57Z</dcterms:modified>
  <cp:revision>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